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A5C-2022-4853-A7AB-DAA6FAC9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2E6-40E7-4E5D-A3D0-AA136B5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C97-8EB0-43E1-919E-2E5717F2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FA3-0FD8-43AD-933E-C413516F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DD5-F34F-4705-B04B-AFFF361C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A1F-2EC3-4729-A41A-1128C232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ABB-E1BC-4513-B1E0-9970616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3BE-39B3-4C40-A3B2-766A618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4E4-C5AF-4065-9912-F02171B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F99-E07E-4C36-97AE-C00891C7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304-0DB1-4190-BA7B-96446FB8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EC4-7AB0-42F0-A320-824F674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3DE8-236F-4002-AC7D-37670E9D6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in a bingo card with these expressions in any  order. There will be one ex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397160"/>
          <a:ext cx="6858000" cy="4624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25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÷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+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-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+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÷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+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+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÷4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n=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t+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+28=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ice a number n and four is 2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11200" y="1857240"/>
            <a:ext cx="571680" cy="482760"/>
          </a:xfrm>
          <a:custGeom>
            <a:avLst/>
            <a:gdLst/>
            <a:ahLst/>
            <a:rect l="l" t="t" r="r" b="b"/>
            <a:pathLst>
              <a:path w="1589" h="1341">
                <a:moveTo>
                  <a:pt x="5110" y="5556"/>
                </a:moveTo>
                <a:cubicBezTo>
                  <a:pt x="5194" y="5710"/>
                  <a:pt x="5297" y="5851"/>
                  <a:pt x="5383" y="6003"/>
                </a:cubicBezTo>
                <a:cubicBezTo>
                  <a:pt x="5440" y="6119"/>
                  <a:pt x="5448" y="6135"/>
                  <a:pt x="5482" y="6201"/>
                </a:cubicBezTo>
              </a:path>
              <a:path w="1589" h="1341">
                <a:moveTo>
                  <a:pt x="5507" y="5482"/>
                </a:moveTo>
                <a:cubicBezTo>
                  <a:pt x="5389" y="5521"/>
                  <a:pt x="5269" y="5881"/>
                  <a:pt x="5184" y="6028"/>
                </a:cubicBezTo>
                <a:cubicBezTo>
                  <a:pt x="5106" y="6164"/>
                  <a:pt x="5039" y="6234"/>
                  <a:pt x="5011" y="6375"/>
                </a:cubicBezTo>
              </a:path>
              <a:path w="1589" h="1341">
                <a:moveTo>
                  <a:pt x="4068" y="5432"/>
                </a:moveTo>
                <a:cubicBezTo>
                  <a:pt x="4031" y="5335"/>
                  <a:pt x="4046" y="5324"/>
                  <a:pt x="4118" y="5259"/>
                </a:cubicBezTo>
                <a:cubicBezTo>
                  <a:pt x="4238" y="5151"/>
                  <a:pt x="4324" y="5145"/>
                  <a:pt x="4465" y="5209"/>
                </a:cubicBezTo>
                <a:cubicBezTo>
                  <a:pt x="4569" y="5256"/>
                  <a:pt x="4546" y="5367"/>
                  <a:pt x="4514" y="5457"/>
                </a:cubicBezTo>
                <a:cubicBezTo>
                  <a:pt x="4461" y="5605"/>
                  <a:pt x="4350" y="5696"/>
                  <a:pt x="4242" y="5804"/>
                </a:cubicBezTo>
                <a:cubicBezTo>
                  <a:pt x="4137" y="5909"/>
                  <a:pt x="4027" y="6018"/>
                  <a:pt x="3969" y="6152"/>
                </a:cubicBezTo>
                <a:cubicBezTo>
                  <a:pt x="3914" y="6279"/>
                  <a:pt x="3919" y="6364"/>
                  <a:pt x="3919" y="6499"/>
                </a:cubicBezTo>
                <a:cubicBezTo>
                  <a:pt x="3962" y="6370"/>
                  <a:pt x="3977" y="6309"/>
                  <a:pt x="4093" y="6251"/>
                </a:cubicBezTo>
                <a:cubicBezTo>
                  <a:pt x="4197" y="6199"/>
                  <a:pt x="4231" y="6351"/>
                  <a:pt x="4316" y="6400"/>
                </a:cubicBezTo>
                <a:cubicBezTo>
                  <a:pt x="4440" y="6472"/>
                  <a:pt x="4524" y="6400"/>
                  <a:pt x="4614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920" y="2071800"/>
            <a:ext cx="241200" cy="22356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6644" y="5755"/>
                </a:moveTo>
                <a:cubicBezTo>
                  <a:pt x="16644" y="5964"/>
                  <a:pt x="16632" y="6167"/>
                  <a:pt x="16619" y="6375"/>
                </a:cubicBezTo>
              </a:path>
              <a:path w="671" h="621">
                <a:moveTo>
                  <a:pt x="16272" y="6028"/>
                </a:moveTo>
                <a:cubicBezTo>
                  <a:pt x="16476" y="5987"/>
                  <a:pt x="16686" y="5953"/>
                  <a:pt x="16892" y="5928"/>
                </a:cubicBezTo>
                <a:cubicBezTo>
                  <a:pt x="16909" y="5928"/>
                  <a:pt x="16925" y="5928"/>
                  <a:pt x="16942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46920" y="1938240"/>
            <a:ext cx="179280" cy="30348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19298" y="5581"/>
                </a:moveTo>
                <a:cubicBezTo>
                  <a:pt x="19336" y="5646"/>
                  <a:pt x="19355" y="5940"/>
                  <a:pt x="19422" y="5953"/>
                </a:cubicBezTo>
                <a:cubicBezTo>
                  <a:pt x="19512" y="5970"/>
                  <a:pt x="19679" y="5900"/>
                  <a:pt x="19769" y="5879"/>
                </a:cubicBezTo>
              </a:path>
              <a:path w="497" h="844">
                <a:moveTo>
                  <a:pt x="19695" y="5383"/>
                </a:moveTo>
                <a:cubicBezTo>
                  <a:pt x="19723" y="5648"/>
                  <a:pt x="19759" y="5913"/>
                  <a:pt x="19794" y="6176"/>
                </a:cubicBezTo>
                <a:cubicBezTo>
                  <a:pt x="19794" y="6193"/>
                  <a:pt x="19794" y="6209"/>
                  <a:pt x="19794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24880" y="2054160"/>
            <a:ext cx="169920" cy="1800"/>
          </a:xfrm>
          <a:custGeom>
            <a:avLst/>
            <a:gdLst/>
            <a:ahLst/>
            <a:rect l="l" t="t" r="r" b="b"/>
            <a:pathLst>
              <a:path w="472" h="1">
                <a:moveTo>
                  <a:pt x="21456" y="5705"/>
                </a:moveTo>
                <a:cubicBezTo>
                  <a:pt x="21613" y="5705"/>
                  <a:pt x="21770" y="5705"/>
                  <a:pt x="21927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178000"/>
            <a:ext cx="12528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21555" y="6102"/>
                </a:moveTo>
                <a:cubicBezTo>
                  <a:pt x="21673" y="6094"/>
                  <a:pt x="21786" y="6067"/>
                  <a:pt x="21903" y="60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62200" y="2009880"/>
            <a:ext cx="243000" cy="276120"/>
          </a:xfrm>
          <a:custGeom>
            <a:avLst/>
            <a:gdLst/>
            <a:ahLst/>
            <a:rect l="l" t="t" r="r" b="b"/>
            <a:pathLst>
              <a:path w="671" h="770">
                <a:moveTo>
                  <a:pt x="9897" y="5829"/>
                </a:moveTo>
                <a:cubicBezTo>
                  <a:pt x="9945" y="5997"/>
                  <a:pt x="9961" y="6173"/>
                  <a:pt x="9971" y="6350"/>
                </a:cubicBezTo>
                <a:cubicBezTo>
                  <a:pt x="9936" y="6102"/>
                  <a:pt x="9892" y="5903"/>
                  <a:pt x="10046" y="5680"/>
                </a:cubicBezTo>
                <a:cubicBezTo>
                  <a:pt x="10206" y="5448"/>
                  <a:pt x="10401" y="5653"/>
                  <a:pt x="10492" y="5829"/>
                </a:cubicBezTo>
                <a:cubicBezTo>
                  <a:pt x="10579" y="5997"/>
                  <a:pt x="10576" y="6083"/>
                  <a:pt x="10542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36920" y="3902040"/>
            <a:ext cx="901440" cy="376200"/>
          </a:xfrm>
          <a:custGeom>
            <a:avLst/>
            <a:gdLst/>
            <a:ahLst/>
            <a:rect l="l" t="t" r="r" b="b"/>
            <a:pathLst>
              <a:path w="2506" h="1042">
                <a:moveTo>
                  <a:pt x="7491" y="10840"/>
                </a:moveTo>
                <a:cubicBezTo>
                  <a:pt x="7474" y="10865"/>
                  <a:pt x="7458" y="10889"/>
                  <a:pt x="7441" y="10914"/>
                </a:cubicBezTo>
                <a:cubicBezTo>
                  <a:pt x="7363" y="11032"/>
                  <a:pt x="7554" y="10769"/>
                  <a:pt x="7739" y="11013"/>
                </a:cubicBezTo>
                <a:cubicBezTo>
                  <a:pt x="8003" y="11362"/>
                  <a:pt x="7498" y="11701"/>
                  <a:pt x="7218" y="11782"/>
                </a:cubicBezTo>
                <a:cubicBezTo>
                  <a:pt x="7168" y="11782"/>
                  <a:pt x="7119" y="11782"/>
                  <a:pt x="7069" y="11782"/>
                </a:cubicBezTo>
                <a:cubicBezTo>
                  <a:pt x="7087" y="11479"/>
                  <a:pt x="7347" y="11347"/>
                  <a:pt x="7665" y="11435"/>
                </a:cubicBezTo>
                <a:cubicBezTo>
                  <a:pt x="7869" y="11492"/>
                  <a:pt x="7904" y="11617"/>
                  <a:pt x="7962" y="11782"/>
                </a:cubicBezTo>
              </a:path>
              <a:path w="2506" h="1042">
                <a:moveTo>
                  <a:pt x="8210" y="11088"/>
                </a:moveTo>
                <a:cubicBezTo>
                  <a:pt x="8361" y="11224"/>
                  <a:pt x="8432" y="11385"/>
                  <a:pt x="8533" y="11559"/>
                </a:cubicBezTo>
                <a:cubicBezTo>
                  <a:pt x="8541" y="11567"/>
                  <a:pt x="8550" y="11576"/>
                  <a:pt x="8558" y="11584"/>
                </a:cubicBezTo>
              </a:path>
              <a:path w="2506" h="1042">
                <a:moveTo>
                  <a:pt x="8533" y="11013"/>
                </a:moveTo>
                <a:cubicBezTo>
                  <a:pt x="8438" y="11237"/>
                  <a:pt x="8312" y="11440"/>
                  <a:pt x="8210" y="11658"/>
                </a:cubicBezTo>
              </a:path>
              <a:path w="2506" h="1042">
                <a:moveTo>
                  <a:pt x="9004" y="11187"/>
                </a:moveTo>
                <a:cubicBezTo>
                  <a:pt x="8983" y="11330"/>
                  <a:pt x="8979" y="11463"/>
                  <a:pt x="8979" y="11609"/>
                </a:cubicBezTo>
                <a:cubicBezTo>
                  <a:pt x="8958" y="11454"/>
                  <a:pt x="8906" y="11185"/>
                  <a:pt x="9054" y="11063"/>
                </a:cubicBezTo>
                <a:cubicBezTo>
                  <a:pt x="9192" y="10949"/>
                  <a:pt x="9452" y="11080"/>
                  <a:pt x="9525" y="11212"/>
                </a:cubicBezTo>
                <a:cubicBezTo>
                  <a:pt x="9586" y="11322"/>
                  <a:pt x="9556" y="11486"/>
                  <a:pt x="9500" y="11584"/>
                </a:cubicBezTo>
              </a:path>
              <a:path w="2506" h="1042">
                <a:moveTo>
                  <a:pt x="7913" y="11162"/>
                </a:moveTo>
                <a:cubicBezTo>
                  <a:pt x="7876" y="11314"/>
                  <a:pt x="7791" y="11605"/>
                  <a:pt x="7888" y="11757"/>
                </a:cubicBezTo>
                <a:cubicBezTo>
                  <a:pt x="7986" y="11910"/>
                  <a:pt x="8287" y="11911"/>
                  <a:pt x="8434" y="11857"/>
                </a:cubicBezTo>
                <a:cubicBezTo>
                  <a:pt x="8655" y="11776"/>
                  <a:pt x="8710" y="11545"/>
                  <a:pt x="8731" y="11336"/>
                </a:cubicBezTo>
                <a:cubicBezTo>
                  <a:pt x="8747" y="11172"/>
                  <a:pt x="8693" y="11038"/>
                  <a:pt x="8558" y="10939"/>
                </a:cubicBezTo>
                <a:cubicBezTo>
                  <a:pt x="8407" y="10828"/>
                  <a:pt x="8264" y="10914"/>
                  <a:pt x="8136" y="11013"/>
                </a:cubicBezTo>
                <a:cubicBezTo>
                  <a:pt x="8119" y="11030"/>
                  <a:pt x="8103" y="11046"/>
                  <a:pt x="8086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010040"/>
            <a:ext cx="17964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0443" y="11187"/>
                </a:moveTo>
                <a:cubicBezTo>
                  <a:pt x="10408" y="11196"/>
                  <a:pt x="10383" y="11383"/>
                  <a:pt x="10344" y="11534"/>
                </a:cubicBezTo>
              </a:path>
              <a:path w="497" h="398">
                <a:moveTo>
                  <a:pt x="10195" y="11385"/>
                </a:moveTo>
                <a:cubicBezTo>
                  <a:pt x="10358" y="11326"/>
                  <a:pt x="10526" y="11312"/>
                  <a:pt x="10691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0040" y="3894120"/>
            <a:ext cx="554040" cy="293760"/>
          </a:xfrm>
          <a:custGeom>
            <a:avLst/>
            <a:gdLst/>
            <a:ahLst/>
            <a:rect l="l" t="t" r="r" b="b"/>
            <a:pathLst>
              <a:path w="1539" h="819">
                <a:moveTo>
                  <a:pt x="11237" y="10939"/>
                </a:moveTo>
                <a:cubicBezTo>
                  <a:pt x="11201" y="11031"/>
                  <a:pt x="11167" y="11118"/>
                  <a:pt x="11137" y="11212"/>
                </a:cubicBezTo>
                <a:cubicBezTo>
                  <a:pt x="11264" y="11225"/>
                  <a:pt x="11314" y="11231"/>
                  <a:pt x="11435" y="11187"/>
                </a:cubicBezTo>
              </a:path>
              <a:path w="1539" h="819">
                <a:moveTo>
                  <a:pt x="11509" y="10815"/>
                </a:moveTo>
                <a:cubicBezTo>
                  <a:pt x="11457" y="11040"/>
                  <a:pt x="11428" y="11278"/>
                  <a:pt x="11410" y="11509"/>
                </a:cubicBezTo>
                <a:cubicBezTo>
                  <a:pt x="11410" y="11542"/>
                  <a:pt x="11410" y="11576"/>
                  <a:pt x="11410" y="11609"/>
                </a:cubicBezTo>
              </a:path>
              <a:path w="1539" h="819">
                <a:moveTo>
                  <a:pt x="11708" y="11162"/>
                </a:moveTo>
                <a:cubicBezTo>
                  <a:pt x="11813" y="11129"/>
                  <a:pt x="11895" y="11112"/>
                  <a:pt x="12005" y="11112"/>
                </a:cubicBezTo>
              </a:path>
              <a:path w="1539" h="819">
                <a:moveTo>
                  <a:pt x="11733" y="11361"/>
                </a:moveTo>
                <a:cubicBezTo>
                  <a:pt x="11857" y="11336"/>
                  <a:pt x="11898" y="11328"/>
                  <a:pt x="11981" y="11311"/>
                </a:cubicBezTo>
              </a:path>
              <a:path w="1539" h="819">
                <a:moveTo>
                  <a:pt x="12353" y="10964"/>
                </a:moveTo>
                <a:cubicBezTo>
                  <a:pt x="12439" y="10865"/>
                  <a:pt x="12496" y="10864"/>
                  <a:pt x="12626" y="10864"/>
                </a:cubicBezTo>
                <a:cubicBezTo>
                  <a:pt x="12639" y="11117"/>
                  <a:pt x="12524" y="11267"/>
                  <a:pt x="12353" y="11460"/>
                </a:cubicBezTo>
                <a:cubicBezTo>
                  <a:pt x="12254" y="11559"/>
                  <a:pt x="12238" y="11576"/>
                  <a:pt x="12179" y="11633"/>
                </a:cubicBezTo>
                <a:cubicBezTo>
                  <a:pt x="12299" y="11597"/>
                  <a:pt x="12383" y="11515"/>
                  <a:pt x="12526" y="11534"/>
                </a:cubicBezTo>
                <a:cubicBezTo>
                  <a:pt x="12601" y="11559"/>
                  <a:pt x="12625" y="11567"/>
                  <a:pt x="12675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55960" y="4241880"/>
            <a:ext cx="1795320" cy="812880"/>
          </a:xfrm>
          <a:custGeom>
            <a:avLst/>
            <a:gdLst/>
            <a:ahLst/>
            <a:rect l="l" t="t" r="r" b="b"/>
            <a:pathLst>
              <a:path w="4987" h="2258">
                <a:moveTo>
                  <a:pt x="8781" y="12477"/>
                </a:moveTo>
                <a:cubicBezTo>
                  <a:pt x="8923" y="12375"/>
                  <a:pt x="9105" y="12405"/>
                  <a:pt x="9153" y="12626"/>
                </a:cubicBezTo>
                <a:cubicBezTo>
                  <a:pt x="9209" y="12881"/>
                  <a:pt x="8913" y="13200"/>
                  <a:pt x="8657" y="13097"/>
                </a:cubicBezTo>
                <a:cubicBezTo>
                  <a:pt x="8640" y="13072"/>
                  <a:pt x="8624" y="13047"/>
                  <a:pt x="8607" y="13022"/>
                </a:cubicBezTo>
                <a:cubicBezTo>
                  <a:pt x="8746" y="12850"/>
                  <a:pt x="8869" y="12783"/>
                  <a:pt x="9079" y="12923"/>
                </a:cubicBezTo>
                <a:cubicBezTo>
                  <a:pt x="9104" y="12948"/>
                  <a:pt x="9128" y="12973"/>
                  <a:pt x="9153" y="12998"/>
                </a:cubicBezTo>
              </a:path>
              <a:path w="4987" h="2258">
                <a:moveTo>
                  <a:pt x="9376" y="12849"/>
                </a:moveTo>
                <a:cubicBezTo>
                  <a:pt x="9384" y="12882"/>
                  <a:pt x="9393" y="12915"/>
                  <a:pt x="9401" y="12948"/>
                </a:cubicBezTo>
                <a:cubicBezTo>
                  <a:pt x="9392" y="12861"/>
                  <a:pt x="9341" y="12725"/>
                  <a:pt x="9475" y="12700"/>
                </a:cubicBezTo>
                <a:cubicBezTo>
                  <a:pt x="9633" y="12671"/>
                  <a:pt x="9784" y="12790"/>
                  <a:pt x="9773" y="12948"/>
                </a:cubicBezTo>
                <a:cubicBezTo>
                  <a:pt x="9765" y="12973"/>
                  <a:pt x="9756" y="12997"/>
                  <a:pt x="9748" y="13022"/>
                </a:cubicBezTo>
              </a:path>
              <a:path w="4987" h="2258">
                <a:moveTo>
                  <a:pt x="10220" y="12502"/>
                </a:moveTo>
                <a:cubicBezTo>
                  <a:pt x="10248" y="12628"/>
                  <a:pt x="10280" y="12750"/>
                  <a:pt x="10319" y="12874"/>
                </a:cubicBezTo>
              </a:path>
              <a:path w="4987" h="2258">
                <a:moveTo>
                  <a:pt x="10021" y="12675"/>
                </a:moveTo>
                <a:cubicBezTo>
                  <a:pt x="10182" y="12675"/>
                  <a:pt x="10332" y="12667"/>
                  <a:pt x="10492" y="12650"/>
                </a:cubicBezTo>
              </a:path>
              <a:path w="4987" h="2258">
                <a:moveTo>
                  <a:pt x="10740" y="12502"/>
                </a:moveTo>
                <a:cubicBezTo>
                  <a:pt x="10750" y="12632"/>
                  <a:pt x="10776" y="12790"/>
                  <a:pt x="10964" y="12725"/>
                </a:cubicBezTo>
                <a:cubicBezTo>
                  <a:pt x="11054" y="12657"/>
                  <a:pt x="11080" y="12642"/>
                  <a:pt x="11112" y="12576"/>
                </a:cubicBezTo>
              </a:path>
              <a:path w="4987" h="2258">
                <a:moveTo>
                  <a:pt x="10988" y="12402"/>
                </a:moveTo>
                <a:cubicBezTo>
                  <a:pt x="11020" y="12571"/>
                  <a:pt x="11037" y="12730"/>
                  <a:pt x="11063" y="12898"/>
                </a:cubicBezTo>
              </a:path>
              <a:path w="4987" h="2258">
                <a:moveTo>
                  <a:pt x="11410" y="12576"/>
                </a:moveTo>
                <a:cubicBezTo>
                  <a:pt x="11518" y="12576"/>
                  <a:pt x="11625" y="12576"/>
                  <a:pt x="11733" y="12576"/>
                </a:cubicBezTo>
              </a:path>
              <a:path w="4987" h="2258">
                <a:moveTo>
                  <a:pt x="11460" y="12799"/>
                </a:moveTo>
                <a:cubicBezTo>
                  <a:pt x="11563" y="12799"/>
                  <a:pt x="11599" y="12797"/>
                  <a:pt x="11658" y="12750"/>
                </a:cubicBezTo>
              </a:path>
              <a:path w="4987" h="2258">
                <a:moveTo>
                  <a:pt x="11981" y="12402"/>
                </a:moveTo>
                <a:cubicBezTo>
                  <a:pt x="12073" y="12310"/>
                  <a:pt x="12158" y="12185"/>
                  <a:pt x="12303" y="12278"/>
                </a:cubicBezTo>
                <a:cubicBezTo>
                  <a:pt x="12491" y="12399"/>
                  <a:pt x="12302" y="12613"/>
                  <a:pt x="12204" y="12725"/>
                </a:cubicBezTo>
                <a:cubicBezTo>
                  <a:pt x="12109" y="12835"/>
                  <a:pt x="11998" y="12915"/>
                  <a:pt x="11881" y="12998"/>
                </a:cubicBezTo>
                <a:cubicBezTo>
                  <a:pt x="12013" y="12932"/>
                  <a:pt x="12041" y="12846"/>
                  <a:pt x="12154" y="12923"/>
                </a:cubicBezTo>
                <a:cubicBezTo>
                  <a:pt x="12287" y="13014"/>
                  <a:pt x="12327" y="13063"/>
                  <a:pt x="12502" y="13022"/>
                </a:cubicBezTo>
                <a:cubicBezTo>
                  <a:pt x="12518" y="13014"/>
                  <a:pt x="12535" y="13006"/>
                  <a:pt x="12551" y="12998"/>
                </a:cubicBezTo>
              </a:path>
              <a:path w="4987" h="2258">
                <a:moveTo>
                  <a:pt x="8260" y="13742"/>
                </a:moveTo>
                <a:cubicBezTo>
                  <a:pt x="8429" y="13723"/>
                  <a:pt x="8581" y="13702"/>
                  <a:pt x="8756" y="13742"/>
                </a:cubicBezTo>
                <a:cubicBezTo>
                  <a:pt x="8980" y="13793"/>
                  <a:pt x="9195" y="13830"/>
                  <a:pt x="9426" y="13841"/>
                </a:cubicBezTo>
                <a:cubicBezTo>
                  <a:pt x="9686" y="13854"/>
                  <a:pt x="9936" y="13849"/>
                  <a:pt x="10195" y="13891"/>
                </a:cubicBezTo>
                <a:cubicBezTo>
                  <a:pt x="10528" y="13945"/>
                  <a:pt x="10823" y="14031"/>
                  <a:pt x="11162" y="14039"/>
                </a:cubicBezTo>
                <a:cubicBezTo>
                  <a:pt x="11464" y="14046"/>
                  <a:pt x="11772" y="13974"/>
                  <a:pt x="12055" y="13866"/>
                </a:cubicBezTo>
                <a:cubicBezTo>
                  <a:pt x="12306" y="13770"/>
                  <a:pt x="12557" y="13674"/>
                  <a:pt x="12774" y="13519"/>
                </a:cubicBezTo>
                <a:cubicBezTo>
                  <a:pt x="12944" y="13398"/>
                  <a:pt x="13033" y="13307"/>
                  <a:pt x="13122" y="13122"/>
                </a:cubicBezTo>
                <a:cubicBezTo>
                  <a:pt x="13196" y="12968"/>
                  <a:pt x="13214" y="12822"/>
                  <a:pt x="13196" y="12650"/>
                </a:cubicBezTo>
                <a:cubicBezTo>
                  <a:pt x="13176" y="12458"/>
                  <a:pt x="13145" y="12286"/>
                  <a:pt x="13072" y="12105"/>
                </a:cubicBezTo>
                <a:cubicBezTo>
                  <a:pt x="13020" y="11975"/>
                  <a:pt x="12999" y="11925"/>
                  <a:pt x="12874" y="11857"/>
                </a:cubicBezTo>
                <a:cubicBezTo>
                  <a:pt x="12774" y="11803"/>
                  <a:pt x="12659" y="11792"/>
                  <a:pt x="12551" y="11782"/>
                </a:cubicBezTo>
                <a:cubicBezTo>
                  <a:pt x="12363" y="11765"/>
                  <a:pt x="12166" y="11827"/>
                  <a:pt x="11981" y="11857"/>
                </a:cubicBezTo>
                <a:cubicBezTo>
                  <a:pt x="11798" y="11887"/>
                  <a:pt x="11663" y="11887"/>
                  <a:pt x="11485" y="11881"/>
                </a:cubicBezTo>
                <a:cubicBezTo>
                  <a:pt x="11306" y="11875"/>
                  <a:pt x="11118" y="11874"/>
                  <a:pt x="10939" y="11857"/>
                </a:cubicBezTo>
                <a:cubicBezTo>
                  <a:pt x="10749" y="11839"/>
                  <a:pt x="10558" y="11849"/>
                  <a:pt x="10368" y="11832"/>
                </a:cubicBezTo>
                <a:cubicBezTo>
                  <a:pt x="10112" y="11810"/>
                  <a:pt x="9857" y="11827"/>
                  <a:pt x="9599" y="11857"/>
                </a:cubicBezTo>
                <a:cubicBezTo>
                  <a:pt x="9319" y="11889"/>
                  <a:pt x="8956" y="11912"/>
                  <a:pt x="8706" y="12055"/>
                </a:cubicBezTo>
                <a:cubicBezTo>
                  <a:pt x="8586" y="12124"/>
                  <a:pt x="8466" y="12246"/>
                  <a:pt x="8384" y="12353"/>
                </a:cubicBezTo>
                <a:cubicBezTo>
                  <a:pt x="8290" y="12476"/>
                  <a:pt x="8275" y="12559"/>
                  <a:pt x="8235" y="12700"/>
                </a:cubicBezTo>
                <a:cubicBezTo>
                  <a:pt x="8214" y="12776"/>
                  <a:pt x="8204" y="12867"/>
                  <a:pt x="8210" y="12948"/>
                </a:cubicBezTo>
                <a:cubicBezTo>
                  <a:pt x="8217" y="13041"/>
                  <a:pt x="8229" y="13106"/>
                  <a:pt x="8260" y="13196"/>
                </a:cubicBezTo>
                <a:cubicBezTo>
                  <a:pt x="8299" y="13307"/>
                  <a:pt x="8335" y="13377"/>
                  <a:pt x="8409" y="13469"/>
                </a:cubicBezTo>
                <a:cubicBezTo>
                  <a:pt x="8458" y="13530"/>
                  <a:pt x="8517" y="13568"/>
                  <a:pt x="8582" y="13618"/>
                </a:cubicBezTo>
                <a:cubicBezTo>
                  <a:pt x="8647" y="13668"/>
                  <a:pt x="8719" y="13697"/>
                  <a:pt x="8781" y="13742"/>
                </a:cubicBezTo>
                <a:cubicBezTo>
                  <a:pt x="8797" y="13758"/>
                  <a:pt x="8814" y="13775"/>
                  <a:pt x="883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m of a number n and four is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89120" y="1643040"/>
            <a:ext cx="3751200" cy="911160"/>
          </a:xfrm>
          <a:custGeom>
            <a:avLst/>
            <a:gdLst/>
            <a:ahLst/>
            <a:rect l="l" t="t" r="r" b="b"/>
            <a:pathLst>
              <a:path w="10419" h="2531">
                <a:moveTo>
                  <a:pt x="15379" y="5953"/>
                </a:moveTo>
                <a:cubicBezTo>
                  <a:pt x="15401" y="6103"/>
                  <a:pt x="15403" y="6137"/>
                  <a:pt x="15429" y="6226"/>
                </a:cubicBezTo>
                <a:cubicBezTo>
                  <a:pt x="15411" y="6156"/>
                  <a:pt x="15384" y="5889"/>
                  <a:pt x="15503" y="5755"/>
                </a:cubicBezTo>
                <a:cubicBezTo>
                  <a:pt x="15727" y="5502"/>
                  <a:pt x="15955" y="5765"/>
                  <a:pt x="16049" y="5978"/>
                </a:cubicBezTo>
                <a:cubicBezTo>
                  <a:pt x="16104" y="6102"/>
                  <a:pt x="16098" y="6197"/>
                  <a:pt x="16098" y="6325"/>
                </a:cubicBezTo>
              </a:path>
              <a:path w="10419" h="2531">
                <a:moveTo>
                  <a:pt x="8012" y="5953"/>
                </a:moveTo>
                <a:cubicBezTo>
                  <a:pt x="8034" y="6151"/>
                  <a:pt x="8072" y="6352"/>
                  <a:pt x="8111" y="6548"/>
                </a:cubicBezTo>
              </a:path>
              <a:path w="10419" h="2531">
                <a:moveTo>
                  <a:pt x="7764" y="6300"/>
                </a:moveTo>
                <a:cubicBezTo>
                  <a:pt x="7980" y="6282"/>
                  <a:pt x="8192" y="6276"/>
                  <a:pt x="8409" y="6276"/>
                </a:cubicBezTo>
              </a:path>
              <a:path w="10419" h="2531">
                <a:moveTo>
                  <a:pt x="7193" y="6499"/>
                </a:moveTo>
                <a:cubicBezTo>
                  <a:pt x="7233" y="6761"/>
                  <a:pt x="7361" y="6883"/>
                  <a:pt x="7615" y="6995"/>
                </a:cubicBezTo>
                <a:cubicBezTo>
                  <a:pt x="7928" y="7132"/>
                  <a:pt x="8323" y="7154"/>
                  <a:pt x="8607" y="6945"/>
                </a:cubicBezTo>
                <a:cubicBezTo>
                  <a:pt x="8870" y="6752"/>
                  <a:pt x="9048" y="6429"/>
                  <a:pt x="8930" y="6102"/>
                </a:cubicBezTo>
                <a:cubicBezTo>
                  <a:pt x="8806" y="5758"/>
                  <a:pt x="8427" y="5709"/>
                  <a:pt x="8111" y="5730"/>
                </a:cubicBezTo>
                <a:cubicBezTo>
                  <a:pt x="7627" y="5761"/>
                  <a:pt x="7338" y="6005"/>
                  <a:pt x="7218" y="6474"/>
                </a:cubicBezTo>
                <a:cubicBezTo>
                  <a:pt x="7197" y="6700"/>
                  <a:pt x="7171" y="6748"/>
                  <a:pt x="7243" y="6871"/>
                </a:cubicBezTo>
              </a:path>
              <a:path w="10419" h="2531">
                <a:moveTo>
                  <a:pt x="8880" y="6251"/>
                </a:moveTo>
                <a:cubicBezTo>
                  <a:pt x="9016" y="6111"/>
                  <a:pt x="9155" y="5962"/>
                  <a:pt x="9327" y="5829"/>
                </a:cubicBezTo>
                <a:cubicBezTo>
                  <a:pt x="9903" y="5384"/>
                  <a:pt x="10520" y="5189"/>
                  <a:pt x="11212" y="4986"/>
                </a:cubicBezTo>
                <a:cubicBezTo>
                  <a:pt x="12135" y="4714"/>
                  <a:pt x="13054" y="4576"/>
                  <a:pt x="14015" y="4564"/>
                </a:cubicBezTo>
                <a:cubicBezTo>
                  <a:pt x="14481" y="4558"/>
                  <a:pt x="14970" y="4597"/>
                  <a:pt x="15429" y="4688"/>
                </a:cubicBezTo>
                <a:cubicBezTo>
                  <a:pt x="15735" y="4749"/>
                  <a:pt x="16002" y="4861"/>
                  <a:pt x="16272" y="5011"/>
                </a:cubicBezTo>
                <a:cubicBezTo>
                  <a:pt x="16570" y="5177"/>
                  <a:pt x="16869" y="5310"/>
                  <a:pt x="17090" y="5581"/>
                </a:cubicBezTo>
                <a:cubicBezTo>
                  <a:pt x="17249" y="5776"/>
                  <a:pt x="17332" y="5978"/>
                  <a:pt x="17438" y="6201"/>
                </a:cubicBezTo>
                <a:cubicBezTo>
                  <a:pt x="17458" y="6262"/>
                  <a:pt x="17455" y="6277"/>
                  <a:pt x="17487" y="6300"/>
                </a:cubicBezTo>
              </a:path>
              <a:path w="10419" h="2531">
                <a:moveTo>
                  <a:pt x="17611" y="5755"/>
                </a:moveTo>
                <a:cubicBezTo>
                  <a:pt x="17597" y="5952"/>
                  <a:pt x="17542" y="6131"/>
                  <a:pt x="17512" y="6325"/>
                </a:cubicBezTo>
                <a:cubicBezTo>
                  <a:pt x="17512" y="6342"/>
                  <a:pt x="17512" y="6358"/>
                  <a:pt x="17512" y="6375"/>
                </a:cubicBezTo>
                <a:cubicBezTo>
                  <a:pt x="17382" y="6297"/>
                  <a:pt x="17252" y="6201"/>
                  <a:pt x="17090" y="6201"/>
                </a:cubicBezTo>
                <a:cubicBezTo>
                  <a:pt x="17065" y="6209"/>
                  <a:pt x="17041" y="6218"/>
                  <a:pt x="17016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79920" y="2884320"/>
            <a:ext cx="187200" cy="187560"/>
          </a:xfrm>
          <a:custGeom>
            <a:avLst/>
            <a:gdLst/>
            <a:ahLst/>
            <a:rect l="l" t="t" r="r" b="b"/>
            <a:pathLst>
              <a:path w="521" h="522">
                <a:moveTo>
                  <a:pt x="10220" y="8111"/>
                </a:moveTo>
                <a:cubicBezTo>
                  <a:pt x="10298" y="8333"/>
                  <a:pt x="10403" y="8258"/>
                  <a:pt x="10616" y="8210"/>
                </a:cubicBezTo>
              </a:path>
              <a:path w="521" h="522">
                <a:moveTo>
                  <a:pt x="10716" y="8012"/>
                </a:moveTo>
                <a:cubicBezTo>
                  <a:pt x="10721" y="8188"/>
                  <a:pt x="10731" y="8358"/>
                  <a:pt x="10740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2857680"/>
            <a:ext cx="187200" cy="125280"/>
          </a:xfrm>
          <a:custGeom>
            <a:avLst/>
            <a:gdLst/>
            <a:ahLst/>
            <a:rect l="l" t="t" r="r" b="b"/>
            <a:pathLst>
              <a:path w="521" h="348">
                <a:moveTo>
                  <a:pt x="12502" y="7962"/>
                </a:moveTo>
                <a:cubicBezTo>
                  <a:pt x="12676" y="7953"/>
                  <a:pt x="12846" y="7938"/>
                  <a:pt x="13022" y="7938"/>
                </a:cubicBezTo>
              </a:path>
              <a:path w="521" h="348">
                <a:moveTo>
                  <a:pt x="12601" y="8285"/>
                </a:moveTo>
                <a:cubicBezTo>
                  <a:pt x="12776" y="8260"/>
                  <a:pt x="12836" y="8251"/>
                  <a:pt x="12948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05240" y="2820960"/>
            <a:ext cx="2779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14635" y="7962"/>
                </a:moveTo>
                <a:cubicBezTo>
                  <a:pt x="14743" y="7870"/>
                  <a:pt x="14769" y="7855"/>
                  <a:pt x="14908" y="7838"/>
                </a:cubicBezTo>
                <a:cubicBezTo>
                  <a:pt x="15033" y="7934"/>
                  <a:pt x="14893" y="8098"/>
                  <a:pt x="14808" y="8186"/>
                </a:cubicBezTo>
                <a:cubicBezTo>
                  <a:pt x="14703" y="8294"/>
                  <a:pt x="14574" y="8384"/>
                  <a:pt x="14461" y="8483"/>
                </a:cubicBezTo>
                <a:cubicBezTo>
                  <a:pt x="14547" y="8418"/>
                  <a:pt x="14686" y="8222"/>
                  <a:pt x="14808" y="8260"/>
                </a:cubicBezTo>
                <a:cubicBezTo>
                  <a:pt x="15018" y="8325"/>
                  <a:pt x="14984" y="8395"/>
                  <a:pt x="15230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52880" y="4367160"/>
            <a:ext cx="303120" cy="241200"/>
          </a:xfrm>
          <a:custGeom>
            <a:avLst/>
            <a:gdLst/>
            <a:ahLst/>
            <a:rect l="l" t="t" r="r" b="b"/>
            <a:pathLst>
              <a:path w="844" h="671">
                <a:moveTo>
                  <a:pt x="8756" y="12254"/>
                </a:moveTo>
                <a:cubicBezTo>
                  <a:pt x="8830" y="12448"/>
                  <a:pt x="8871" y="12595"/>
                  <a:pt x="8830" y="12799"/>
                </a:cubicBezTo>
                <a:cubicBezTo>
                  <a:pt x="8797" y="12572"/>
                  <a:pt x="8695" y="12143"/>
                  <a:pt x="9054" y="12129"/>
                </a:cubicBezTo>
                <a:cubicBezTo>
                  <a:pt x="9378" y="12116"/>
                  <a:pt x="9550" y="12370"/>
                  <a:pt x="9599" y="12650"/>
                </a:cubicBezTo>
                <a:cubicBezTo>
                  <a:pt x="9599" y="12675"/>
                  <a:pt x="9599" y="12700"/>
                  <a:pt x="9599" y="127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14840" y="4241880"/>
            <a:ext cx="509400" cy="285840"/>
          </a:xfrm>
          <a:custGeom>
            <a:avLst/>
            <a:gdLst/>
            <a:ahLst/>
            <a:rect l="l" t="t" r="r" b="b"/>
            <a:pathLst>
              <a:path w="1415" h="795">
                <a:moveTo>
                  <a:pt x="10616" y="11881"/>
                </a:moveTo>
                <a:cubicBezTo>
                  <a:pt x="10616" y="12100"/>
                  <a:pt x="10659" y="12287"/>
                  <a:pt x="10691" y="12502"/>
                </a:cubicBezTo>
                <a:cubicBezTo>
                  <a:pt x="10691" y="12518"/>
                  <a:pt x="10691" y="12535"/>
                  <a:pt x="10691" y="12551"/>
                </a:cubicBezTo>
              </a:path>
              <a:path w="1415" h="795">
                <a:moveTo>
                  <a:pt x="10319" y="12278"/>
                </a:moveTo>
                <a:cubicBezTo>
                  <a:pt x="10516" y="12227"/>
                  <a:pt x="10713" y="12193"/>
                  <a:pt x="10914" y="12154"/>
                </a:cubicBezTo>
              </a:path>
              <a:path w="1415" h="795">
                <a:moveTo>
                  <a:pt x="11286" y="12154"/>
                </a:moveTo>
                <a:cubicBezTo>
                  <a:pt x="11286" y="12195"/>
                  <a:pt x="11286" y="12237"/>
                  <a:pt x="11286" y="12278"/>
                </a:cubicBezTo>
                <a:cubicBezTo>
                  <a:pt x="11414" y="12209"/>
                  <a:pt x="11553" y="12229"/>
                  <a:pt x="11708" y="12229"/>
                </a:cubicBezTo>
              </a:path>
              <a:path w="1415" h="795">
                <a:moveTo>
                  <a:pt x="11708" y="11782"/>
                </a:moveTo>
                <a:cubicBezTo>
                  <a:pt x="11671" y="12064"/>
                  <a:pt x="11670" y="12295"/>
                  <a:pt x="11733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73720" y="4232160"/>
            <a:ext cx="679320" cy="339840"/>
          </a:xfrm>
          <a:custGeom>
            <a:avLst/>
            <a:gdLst/>
            <a:ahLst/>
            <a:rect l="l" t="t" r="r" b="b"/>
            <a:pathLst>
              <a:path w="1886" h="944">
                <a:moveTo>
                  <a:pt x="12452" y="12154"/>
                </a:moveTo>
                <a:cubicBezTo>
                  <a:pt x="12607" y="12116"/>
                  <a:pt x="12739" y="12088"/>
                  <a:pt x="12898" y="12080"/>
                </a:cubicBezTo>
              </a:path>
              <a:path w="1886" h="944">
                <a:moveTo>
                  <a:pt x="12427" y="12328"/>
                </a:moveTo>
                <a:cubicBezTo>
                  <a:pt x="12587" y="12328"/>
                  <a:pt x="12647" y="12325"/>
                  <a:pt x="12750" y="12278"/>
                </a:cubicBezTo>
              </a:path>
              <a:path w="1886" h="944">
                <a:moveTo>
                  <a:pt x="13494" y="11981"/>
                </a:moveTo>
                <a:cubicBezTo>
                  <a:pt x="13525" y="11889"/>
                  <a:pt x="13537" y="11770"/>
                  <a:pt x="13667" y="11757"/>
                </a:cubicBezTo>
                <a:cubicBezTo>
                  <a:pt x="13708" y="11765"/>
                  <a:pt x="13750" y="11774"/>
                  <a:pt x="13791" y="11782"/>
                </a:cubicBezTo>
                <a:cubicBezTo>
                  <a:pt x="13861" y="12100"/>
                  <a:pt x="13736" y="12253"/>
                  <a:pt x="13519" y="12502"/>
                </a:cubicBezTo>
                <a:cubicBezTo>
                  <a:pt x="13406" y="12614"/>
                  <a:pt x="13380" y="12617"/>
                  <a:pt x="13345" y="12700"/>
                </a:cubicBezTo>
                <a:cubicBezTo>
                  <a:pt x="13374" y="12571"/>
                  <a:pt x="13485" y="12398"/>
                  <a:pt x="13643" y="12402"/>
                </a:cubicBezTo>
                <a:cubicBezTo>
                  <a:pt x="13889" y="12409"/>
                  <a:pt x="14029" y="12488"/>
                  <a:pt x="14312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n less 4 is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67040" y="2214720"/>
            <a:ext cx="3301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7962" y="6424"/>
                </a:moveTo>
                <a:cubicBezTo>
                  <a:pt x="8013" y="6581"/>
                  <a:pt x="8062" y="6738"/>
                  <a:pt x="8111" y="6896"/>
                </a:cubicBezTo>
                <a:cubicBezTo>
                  <a:pt x="8031" y="6684"/>
                  <a:pt x="7938" y="6429"/>
                  <a:pt x="8111" y="6226"/>
                </a:cubicBezTo>
                <a:cubicBezTo>
                  <a:pt x="8345" y="5952"/>
                  <a:pt x="8653" y="6384"/>
                  <a:pt x="8756" y="6548"/>
                </a:cubicBezTo>
                <a:cubicBezTo>
                  <a:pt x="8834" y="6704"/>
                  <a:pt x="8851" y="6725"/>
                  <a:pt x="8880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7280" y="2286000"/>
            <a:ext cx="204840" cy="27000"/>
          </a:xfrm>
          <a:custGeom>
            <a:avLst/>
            <a:gdLst/>
            <a:ahLst/>
            <a:rect l="l" t="t" r="r" b="b"/>
            <a:pathLst>
              <a:path w="572" h="75">
                <a:moveTo>
                  <a:pt x="13047" y="6424"/>
                </a:moveTo>
                <a:cubicBezTo>
                  <a:pt x="13222" y="6410"/>
                  <a:pt x="13394" y="6370"/>
                  <a:pt x="13568" y="6350"/>
                </a:cubicBezTo>
                <a:cubicBezTo>
                  <a:pt x="13585" y="6350"/>
                  <a:pt x="13601" y="6350"/>
                  <a:pt x="13618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27800" y="2062080"/>
            <a:ext cx="187200" cy="339840"/>
          </a:xfrm>
          <a:custGeom>
            <a:avLst/>
            <a:gdLst/>
            <a:ahLst/>
            <a:rect l="l" t="t" r="r" b="b"/>
            <a:pathLst>
              <a:path w="522" h="943">
                <a:moveTo>
                  <a:pt x="15354" y="5904"/>
                </a:moveTo>
                <a:cubicBezTo>
                  <a:pt x="15372" y="6031"/>
                  <a:pt x="15379" y="6147"/>
                  <a:pt x="15379" y="6276"/>
                </a:cubicBezTo>
                <a:cubicBezTo>
                  <a:pt x="15544" y="6268"/>
                  <a:pt x="15654" y="6250"/>
                  <a:pt x="15801" y="6176"/>
                </a:cubicBezTo>
              </a:path>
              <a:path w="522" h="943">
                <a:moveTo>
                  <a:pt x="15701" y="5730"/>
                </a:moveTo>
                <a:cubicBezTo>
                  <a:pt x="15722" y="5999"/>
                  <a:pt x="15752" y="6259"/>
                  <a:pt x="15801" y="6524"/>
                </a:cubicBezTo>
                <a:cubicBezTo>
                  <a:pt x="15825" y="6655"/>
                  <a:pt x="15789" y="6658"/>
                  <a:pt x="15875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72120" y="2276640"/>
            <a:ext cx="162000" cy="90360"/>
          </a:xfrm>
          <a:custGeom>
            <a:avLst/>
            <a:gdLst/>
            <a:ahLst/>
            <a:rect l="l" t="t" r="r" b="b"/>
            <a:pathLst>
              <a:path w="448" h="249">
                <a:moveTo>
                  <a:pt x="16867" y="6400"/>
                </a:moveTo>
                <a:cubicBezTo>
                  <a:pt x="17016" y="6367"/>
                  <a:pt x="17162" y="6345"/>
                  <a:pt x="17314" y="6325"/>
                </a:cubicBezTo>
              </a:path>
              <a:path w="448" h="249">
                <a:moveTo>
                  <a:pt x="17016" y="6573"/>
                </a:moveTo>
                <a:cubicBezTo>
                  <a:pt x="17150" y="6546"/>
                  <a:pt x="17201" y="6535"/>
                  <a:pt x="17289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2054160"/>
            <a:ext cx="384120" cy="312840"/>
          </a:xfrm>
          <a:custGeom>
            <a:avLst/>
            <a:gdLst/>
            <a:ahLst/>
            <a:rect l="l" t="t" r="r" b="b"/>
            <a:pathLst>
              <a:path w="1067" h="869">
                <a:moveTo>
                  <a:pt x="18703" y="5953"/>
                </a:moveTo>
                <a:cubicBezTo>
                  <a:pt x="18850" y="5806"/>
                  <a:pt x="18915" y="5716"/>
                  <a:pt x="19124" y="5730"/>
                </a:cubicBezTo>
                <a:cubicBezTo>
                  <a:pt x="19178" y="6037"/>
                  <a:pt x="19041" y="6228"/>
                  <a:pt x="18876" y="6499"/>
                </a:cubicBezTo>
                <a:cubicBezTo>
                  <a:pt x="18860" y="6524"/>
                  <a:pt x="18843" y="6548"/>
                  <a:pt x="18827" y="6573"/>
                </a:cubicBezTo>
                <a:cubicBezTo>
                  <a:pt x="18904" y="6445"/>
                  <a:pt x="18960" y="6361"/>
                  <a:pt x="19124" y="6375"/>
                </a:cubicBezTo>
                <a:cubicBezTo>
                  <a:pt x="19354" y="6394"/>
                  <a:pt x="19538" y="6372"/>
                  <a:pt x="19769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41840" y="3848040"/>
            <a:ext cx="884160" cy="376200"/>
          </a:xfrm>
          <a:custGeom>
            <a:avLst/>
            <a:gdLst/>
            <a:ahLst/>
            <a:rect l="l" t="t" r="r" b="b"/>
            <a:pathLst>
              <a:path w="2457" h="1043">
                <a:moveTo>
                  <a:pt x="10418" y="11112"/>
                </a:moveTo>
                <a:cubicBezTo>
                  <a:pt x="10443" y="11319"/>
                  <a:pt x="10465" y="11526"/>
                  <a:pt x="10492" y="11733"/>
                </a:cubicBezTo>
                <a:cubicBezTo>
                  <a:pt x="10394" y="11571"/>
                  <a:pt x="10302" y="11281"/>
                  <a:pt x="10468" y="11112"/>
                </a:cubicBezTo>
                <a:cubicBezTo>
                  <a:pt x="10755" y="10819"/>
                  <a:pt x="11022" y="11095"/>
                  <a:pt x="11137" y="11361"/>
                </a:cubicBezTo>
                <a:cubicBezTo>
                  <a:pt x="11182" y="11516"/>
                  <a:pt x="11198" y="11555"/>
                  <a:pt x="11187" y="11658"/>
                </a:cubicBezTo>
              </a:path>
              <a:path w="2457" h="1043">
                <a:moveTo>
                  <a:pt x="11609" y="11286"/>
                </a:moveTo>
                <a:cubicBezTo>
                  <a:pt x="11722" y="11286"/>
                  <a:pt x="11822" y="11283"/>
                  <a:pt x="11931" y="11261"/>
                </a:cubicBezTo>
              </a:path>
              <a:path w="2457" h="1043">
                <a:moveTo>
                  <a:pt x="12378" y="10964"/>
                </a:moveTo>
                <a:cubicBezTo>
                  <a:pt x="12378" y="11044"/>
                  <a:pt x="12342" y="11198"/>
                  <a:pt x="12402" y="11261"/>
                </a:cubicBezTo>
                <a:cubicBezTo>
                  <a:pt x="12522" y="11387"/>
                  <a:pt x="12763" y="11150"/>
                  <a:pt x="12849" y="11088"/>
                </a:cubicBezTo>
              </a:path>
              <a:path w="2457" h="1043">
                <a:moveTo>
                  <a:pt x="12675" y="10691"/>
                </a:moveTo>
                <a:cubicBezTo>
                  <a:pt x="12718" y="10964"/>
                  <a:pt x="12756" y="11237"/>
                  <a:pt x="12799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3963960"/>
            <a:ext cx="142920" cy="117360"/>
          </a:xfrm>
          <a:custGeom>
            <a:avLst/>
            <a:gdLst/>
            <a:ahLst/>
            <a:rect l="l" t="t" r="r" b="b"/>
            <a:pathLst>
              <a:path w="398" h="324">
                <a:moveTo>
                  <a:pt x="13320" y="11063"/>
                </a:moveTo>
                <a:cubicBezTo>
                  <a:pt x="13460" y="11063"/>
                  <a:pt x="13580" y="11028"/>
                  <a:pt x="13717" y="11013"/>
                </a:cubicBezTo>
              </a:path>
              <a:path w="398" h="324">
                <a:moveTo>
                  <a:pt x="13395" y="11336"/>
                </a:moveTo>
                <a:cubicBezTo>
                  <a:pt x="13480" y="11336"/>
                  <a:pt x="13531" y="11325"/>
                  <a:pt x="13593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60960" y="3830760"/>
            <a:ext cx="241200" cy="304560"/>
          </a:xfrm>
          <a:custGeom>
            <a:avLst/>
            <a:gdLst/>
            <a:ahLst/>
            <a:rect l="l" t="t" r="r" b="b"/>
            <a:pathLst>
              <a:path w="671" h="845">
                <a:moveTo>
                  <a:pt x="14337" y="10790"/>
                </a:moveTo>
                <a:cubicBezTo>
                  <a:pt x="14368" y="10680"/>
                  <a:pt x="14535" y="10511"/>
                  <a:pt x="14635" y="10716"/>
                </a:cubicBezTo>
                <a:cubicBezTo>
                  <a:pt x="14761" y="10972"/>
                  <a:pt x="14472" y="11216"/>
                  <a:pt x="14362" y="11410"/>
                </a:cubicBezTo>
                <a:cubicBezTo>
                  <a:pt x="14354" y="11435"/>
                  <a:pt x="14345" y="11460"/>
                  <a:pt x="14337" y="11485"/>
                </a:cubicBezTo>
                <a:cubicBezTo>
                  <a:pt x="14432" y="11437"/>
                  <a:pt x="14484" y="11328"/>
                  <a:pt x="14610" y="11336"/>
                </a:cubicBezTo>
                <a:cubicBezTo>
                  <a:pt x="14778" y="11346"/>
                  <a:pt x="14830" y="11352"/>
                  <a:pt x="15007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3080" y="3643200"/>
            <a:ext cx="2278080" cy="928800"/>
          </a:xfrm>
          <a:custGeom>
            <a:avLst/>
            <a:gdLst/>
            <a:ahLst/>
            <a:rect l="l" t="t" r="r" b="b"/>
            <a:pathLst>
              <a:path w="6326" h="2581">
                <a:moveTo>
                  <a:pt x="9823" y="12700"/>
                </a:moveTo>
                <a:cubicBezTo>
                  <a:pt x="10056" y="12693"/>
                  <a:pt x="10284" y="12668"/>
                  <a:pt x="10517" y="12650"/>
                </a:cubicBezTo>
                <a:cubicBezTo>
                  <a:pt x="11104" y="12603"/>
                  <a:pt x="11691" y="12579"/>
                  <a:pt x="12278" y="12526"/>
                </a:cubicBezTo>
                <a:cubicBezTo>
                  <a:pt x="12923" y="12467"/>
                  <a:pt x="13563" y="12412"/>
                  <a:pt x="14188" y="12229"/>
                </a:cubicBezTo>
                <a:cubicBezTo>
                  <a:pt x="14624" y="12101"/>
                  <a:pt x="14902" y="11962"/>
                  <a:pt x="15180" y="11609"/>
                </a:cubicBezTo>
                <a:cubicBezTo>
                  <a:pt x="15363" y="11376"/>
                  <a:pt x="15641" y="11023"/>
                  <a:pt x="15478" y="10716"/>
                </a:cubicBezTo>
                <a:cubicBezTo>
                  <a:pt x="15350" y="10475"/>
                  <a:pt x="14972" y="10334"/>
                  <a:pt x="14734" y="10269"/>
                </a:cubicBezTo>
                <a:cubicBezTo>
                  <a:pt x="13513" y="9936"/>
                  <a:pt x="12155" y="10153"/>
                  <a:pt x="10939" y="10393"/>
                </a:cubicBezTo>
                <a:cubicBezTo>
                  <a:pt x="10538" y="10472"/>
                  <a:pt x="10093" y="10610"/>
                  <a:pt x="9723" y="10790"/>
                </a:cubicBezTo>
                <a:cubicBezTo>
                  <a:pt x="9473" y="10912"/>
                  <a:pt x="9249" y="11122"/>
                  <a:pt x="9203" y="11410"/>
                </a:cubicBezTo>
                <a:cubicBezTo>
                  <a:pt x="9143" y="11784"/>
                  <a:pt x="9329" y="12042"/>
                  <a:pt x="9699" y="12105"/>
                </a:cubicBezTo>
                <a:cubicBezTo>
                  <a:pt x="10144" y="12181"/>
                  <a:pt x="10619" y="12096"/>
                  <a:pt x="11063" y="12055"/>
                </a:cubicBezTo>
                <a:cubicBezTo>
                  <a:pt x="11071" y="12055"/>
                  <a:pt x="11080" y="12055"/>
                  <a:pt x="11088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x less a number 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2187720"/>
            <a:ext cx="2239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7565" y="6077"/>
                </a:moveTo>
                <a:cubicBezTo>
                  <a:pt x="7483" y="6266"/>
                  <a:pt x="7443" y="6523"/>
                  <a:pt x="7516" y="6722"/>
                </a:cubicBezTo>
                <a:cubicBezTo>
                  <a:pt x="7584" y="6907"/>
                  <a:pt x="7799" y="6957"/>
                  <a:pt x="7938" y="6821"/>
                </a:cubicBezTo>
                <a:cubicBezTo>
                  <a:pt x="7975" y="6785"/>
                  <a:pt x="8173" y="6511"/>
                  <a:pt x="8086" y="6449"/>
                </a:cubicBezTo>
                <a:cubicBezTo>
                  <a:pt x="8061" y="6441"/>
                  <a:pt x="8037" y="6432"/>
                  <a:pt x="8012" y="6424"/>
                </a:cubicBezTo>
                <a:cubicBezTo>
                  <a:pt x="7854" y="6477"/>
                  <a:pt x="7795" y="6635"/>
                  <a:pt x="7838" y="6821"/>
                </a:cubicBezTo>
                <a:cubicBezTo>
                  <a:pt x="7855" y="6846"/>
                  <a:pt x="7871" y="6871"/>
                  <a:pt x="7888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0280" y="2517840"/>
            <a:ext cx="304920" cy="36360"/>
          </a:xfrm>
          <a:custGeom>
            <a:avLst/>
            <a:gdLst/>
            <a:ahLst/>
            <a:rect l="l" t="t" r="r" b="b"/>
            <a:pathLst>
              <a:path w="845" h="100">
                <a:moveTo>
                  <a:pt x="9723" y="7094"/>
                </a:moveTo>
                <a:cubicBezTo>
                  <a:pt x="9972" y="7036"/>
                  <a:pt x="10236" y="7014"/>
                  <a:pt x="10492" y="6995"/>
                </a:cubicBezTo>
                <a:cubicBezTo>
                  <a:pt x="10517" y="6995"/>
                  <a:pt x="10542" y="6995"/>
                  <a:pt x="10567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38880" y="2178000"/>
            <a:ext cx="222120" cy="295200"/>
          </a:xfrm>
          <a:custGeom>
            <a:avLst/>
            <a:gdLst/>
            <a:ahLst/>
            <a:rect l="l" t="t" r="r" b="b"/>
            <a:pathLst>
              <a:path w="621" h="820">
                <a:moveTo>
                  <a:pt x="15304" y="6052"/>
                </a:moveTo>
                <a:cubicBezTo>
                  <a:pt x="15276" y="6177"/>
                  <a:pt x="15280" y="6295"/>
                  <a:pt x="15280" y="6424"/>
                </a:cubicBezTo>
                <a:cubicBezTo>
                  <a:pt x="15280" y="6533"/>
                  <a:pt x="15304" y="6636"/>
                  <a:pt x="15304" y="6747"/>
                </a:cubicBezTo>
                <a:cubicBezTo>
                  <a:pt x="15304" y="6825"/>
                  <a:pt x="15400" y="6880"/>
                  <a:pt x="15478" y="6871"/>
                </a:cubicBezTo>
                <a:cubicBezTo>
                  <a:pt x="15517" y="6866"/>
                  <a:pt x="15755" y="6755"/>
                  <a:pt x="15726" y="6697"/>
                </a:cubicBezTo>
                <a:cubicBezTo>
                  <a:pt x="15701" y="6681"/>
                  <a:pt x="15677" y="6664"/>
                  <a:pt x="15652" y="6648"/>
                </a:cubicBezTo>
              </a:path>
              <a:path w="621" h="820">
                <a:moveTo>
                  <a:pt x="15106" y="6573"/>
                </a:moveTo>
                <a:cubicBezTo>
                  <a:pt x="15298" y="6468"/>
                  <a:pt x="15461" y="6451"/>
                  <a:pt x="15677" y="6424"/>
                </a:cubicBezTo>
                <a:cubicBezTo>
                  <a:pt x="15685" y="6424"/>
                  <a:pt x="15693" y="6424"/>
                  <a:pt x="15701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83040" y="3537000"/>
            <a:ext cx="490680" cy="428400"/>
          </a:xfrm>
          <a:custGeom>
            <a:avLst/>
            <a:gdLst/>
            <a:ahLst/>
            <a:rect l="l" t="t" r="r" b="b"/>
            <a:pathLst>
              <a:path w="1365" h="1191">
                <a:moveTo>
                  <a:pt x="11063" y="9823"/>
                </a:moveTo>
                <a:cubicBezTo>
                  <a:pt x="11063" y="10138"/>
                  <a:pt x="11035" y="10456"/>
                  <a:pt x="11112" y="10765"/>
                </a:cubicBezTo>
                <a:cubicBezTo>
                  <a:pt x="11181" y="10925"/>
                  <a:pt x="11193" y="10976"/>
                  <a:pt x="11311" y="11013"/>
                </a:cubicBezTo>
                <a:cubicBezTo>
                  <a:pt x="11516" y="10890"/>
                  <a:pt x="11773" y="10714"/>
                  <a:pt x="11658" y="10418"/>
                </a:cubicBezTo>
                <a:cubicBezTo>
                  <a:pt x="11642" y="10410"/>
                  <a:pt x="11625" y="10401"/>
                  <a:pt x="11609" y="10393"/>
                </a:cubicBezTo>
                <a:cubicBezTo>
                  <a:pt x="11441" y="10589"/>
                  <a:pt x="11446" y="10718"/>
                  <a:pt x="11509" y="10964"/>
                </a:cubicBezTo>
              </a:path>
              <a:path w="1365" h="1191">
                <a:moveTo>
                  <a:pt x="12105" y="10418"/>
                </a:moveTo>
                <a:cubicBezTo>
                  <a:pt x="12221" y="10450"/>
                  <a:pt x="12309" y="10430"/>
                  <a:pt x="12427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3490920"/>
            <a:ext cx="258840" cy="358920"/>
          </a:xfrm>
          <a:custGeom>
            <a:avLst/>
            <a:gdLst/>
            <a:ahLst/>
            <a:rect l="l" t="t" r="r" b="b"/>
            <a:pathLst>
              <a:path w="721" h="993">
                <a:moveTo>
                  <a:pt x="13022" y="9699"/>
                </a:moveTo>
                <a:cubicBezTo>
                  <a:pt x="13121" y="9975"/>
                  <a:pt x="13105" y="10227"/>
                  <a:pt x="13146" y="10517"/>
                </a:cubicBezTo>
                <a:cubicBezTo>
                  <a:pt x="13184" y="10788"/>
                  <a:pt x="13395" y="10675"/>
                  <a:pt x="13543" y="10542"/>
                </a:cubicBezTo>
                <a:cubicBezTo>
                  <a:pt x="13568" y="10509"/>
                  <a:pt x="13593" y="10476"/>
                  <a:pt x="13618" y="10443"/>
                </a:cubicBezTo>
              </a:path>
              <a:path w="721" h="993">
                <a:moveTo>
                  <a:pt x="12898" y="10244"/>
                </a:moveTo>
                <a:cubicBezTo>
                  <a:pt x="13073" y="10233"/>
                  <a:pt x="13247" y="10213"/>
                  <a:pt x="13419" y="10195"/>
                </a:cubicBezTo>
                <a:cubicBezTo>
                  <a:pt x="13436" y="10195"/>
                  <a:pt x="13452" y="10195"/>
                  <a:pt x="13469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duct of seven and a number r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8320" y="42768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161" y="11881"/>
                </a:moveTo>
                <a:lnTo>
                  <a:pt x="8161" y="1188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84320" y="1285920"/>
            <a:ext cx="3643560" cy="1197000"/>
          </a:xfrm>
          <a:custGeom>
            <a:avLst/>
            <a:gdLst/>
            <a:ahLst/>
            <a:rect l="l" t="t" r="r" b="b"/>
            <a:pathLst>
              <a:path w="10121" h="3325">
                <a:moveTo>
                  <a:pt x="8657" y="5730"/>
                </a:moveTo>
                <a:cubicBezTo>
                  <a:pt x="8838" y="5931"/>
                  <a:pt x="9011" y="6132"/>
                  <a:pt x="9203" y="6325"/>
                </a:cubicBezTo>
                <a:cubicBezTo>
                  <a:pt x="9228" y="6350"/>
                  <a:pt x="9252" y="6375"/>
                  <a:pt x="9277" y="6400"/>
                </a:cubicBezTo>
              </a:path>
              <a:path w="10121" h="3325">
                <a:moveTo>
                  <a:pt x="9054" y="5581"/>
                </a:moveTo>
                <a:cubicBezTo>
                  <a:pt x="8958" y="5867"/>
                  <a:pt x="8848" y="6154"/>
                  <a:pt x="8781" y="6449"/>
                </a:cubicBezTo>
                <a:cubicBezTo>
                  <a:pt x="8781" y="6457"/>
                  <a:pt x="8781" y="6466"/>
                  <a:pt x="8781" y="6474"/>
                </a:cubicBezTo>
              </a:path>
              <a:path w="10121" h="3325">
                <a:moveTo>
                  <a:pt x="14908" y="5482"/>
                </a:moveTo>
                <a:cubicBezTo>
                  <a:pt x="15102" y="5460"/>
                  <a:pt x="15313" y="5424"/>
                  <a:pt x="15503" y="5383"/>
                </a:cubicBezTo>
                <a:cubicBezTo>
                  <a:pt x="15627" y="5347"/>
                  <a:pt x="15632" y="5331"/>
                  <a:pt x="15701" y="5333"/>
                </a:cubicBezTo>
                <a:cubicBezTo>
                  <a:pt x="15679" y="5539"/>
                  <a:pt x="15663" y="5749"/>
                  <a:pt x="15627" y="5953"/>
                </a:cubicBezTo>
                <a:cubicBezTo>
                  <a:pt x="15619" y="5986"/>
                  <a:pt x="15610" y="6019"/>
                  <a:pt x="15602" y="6052"/>
                </a:cubicBezTo>
              </a:path>
              <a:path w="10121" h="3325">
                <a:moveTo>
                  <a:pt x="8037" y="6722"/>
                </a:moveTo>
                <a:cubicBezTo>
                  <a:pt x="8352" y="6811"/>
                  <a:pt x="8691" y="6955"/>
                  <a:pt x="9029" y="6846"/>
                </a:cubicBezTo>
                <a:cubicBezTo>
                  <a:pt x="9410" y="6723"/>
                  <a:pt x="9702" y="6239"/>
                  <a:pt x="9798" y="5879"/>
                </a:cubicBezTo>
                <a:cubicBezTo>
                  <a:pt x="9924" y="5406"/>
                  <a:pt x="9620" y="5114"/>
                  <a:pt x="9178" y="5060"/>
                </a:cubicBezTo>
                <a:cubicBezTo>
                  <a:pt x="8593" y="4989"/>
                  <a:pt x="7939" y="5172"/>
                  <a:pt x="8012" y="5879"/>
                </a:cubicBezTo>
                <a:cubicBezTo>
                  <a:pt x="8072" y="6460"/>
                  <a:pt x="8332" y="6634"/>
                  <a:pt x="8756" y="6896"/>
                </a:cubicBezTo>
              </a:path>
              <a:path w="10121" h="3325">
                <a:moveTo>
                  <a:pt x="9575" y="5779"/>
                </a:moveTo>
                <a:cubicBezTo>
                  <a:pt x="9676" y="5598"/>
                  <a:pt x="9778" y="5438"/>
                  <a:pt x="9922" y="5283"/>
                </a:cubicBezTo>
                <a:cubicBezTo>
                  <a:pt x="10338" y="4836"/>
                  <a:pt x="10799" y="4412"/>
                  <a:pt x="11336" y="4118"/>
                </a:cubicBezTo>
                <a:cubicBezTo>
                  <a:pt x="12254" y="3615"/>
                  <a:pt x="13107" y="3522"/>
                  <a:pt x="14114" y="3696"/>
                </a:cubicBezTo>
                <a:cubicBezTo>
                  <a:pt x="14829" y="3820"/>
                  <a:pt x="15562" y="4003"/>
                  <a:pt x="16247" y="4242"/>
                </a:cubicBezTo>
                <a:cubicBezTo>
                  <a:pt x="16780" y="4428"/>
                  <a:pt x="17312" y="4761"/>
                  <a:pt x="17735" y="5135"/>
                </a:cubicBezTo>
                <a:cubicBezTo>
                  <a:pt x="17858" y="5244"/>
                  <a:pt x="17850" y="5266"/>
                  <a:pt x="17909" y="5383"/>
                </a:cubicBezTo>
                <a:cubicBezTo>
                  <a:pt x="17953" y="5514"/>
                  <a:pt x="17966" y="5546"/>
                  <a:pt x="17983" y="5631"/>
                </a:cubicBezTo>
                <a:cubicBezTo>
                  <a:pt x="17983" y="5383"/>
                  <a:pt x="17983" y="5135"/>
                  <a:pt x="17983" y="4887"/>
                </a:cubicBezTo>
                <a:cubicBezTo>
                  <a:pt x="18050" y="5142"/>
                  <a:pt x="18092" y="5395"/>
                  <a:pt x="18132" y="5655"/>
                </a:cubicBezTo>
                <a:cubicBezTo>
                  <a:pt x="17935" y="5597"/>
                  <a:pt x="17767" y="5557"/>
                  <a:pt x="17562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2803680"/>
            <a:ext cx="214200" cy="206280"/>
          </a:xfrm>
          <a:custGeom>
            <a:avLst/>
            <a:gdLst/>
            <a:ahLst/>
            <a:rect l="l" t="t" r="r" b="b"/>
            <a:pathLst>
              <a:path w="596" h="571">
                <a:moveTo>
                  <a:pt x="12502" y="8012"/>
                </a:moveTo>
                <a:cubicBezTo>
                  <a:pt x="12552" y="8164"/>
                  <a:pt x="12570" y="8217"/>
                  <a:pt x="12626" y="8310"/>
                </a:cubicBezTo>
                <a:cubicBezTo>
                  <a:pt x="12505" y="8189"/>
                  <a:pt x="12525" y="8055"/>
                  <a:pt x="12650" y="7938"/>
                </a:cubicBezTo>
                <a:cubicBezTo>
                  <a:pt x="12778" y="7819"/>
                  <a:pt x="12937" y="7806"/>
                  <a:pt x="13097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8880" y="4367160"/>
            <a:ext cx="1009440" cy="1249560"/>
          </a:xfrm>
          <a:custGeom>
            <a:avLst/>
            <a:gdLst/>
            <a:ahLst/>
            <a:rect l="l" t="t" r="r" b="b"/>
            <a:pathLst>
              <a:path w="2804" h="3474">
                <a:moveTo>
                  <a:pt x="11857" y="12328"/>
                </a:moveTo>
                <a:cubicBezTo>
                  <a:pt x="12052" y="12275"/>
                  <a:pt x="12291" y="12219"/>
                  <a:pt x="12502" y="12179"/>
                </a:cubicBezTo>
                <a:cubicBezTo>
                  <a:pt x="12708" y="12141"/>
                  <a:pt x="12731" y="12124"/>
                  <a:pt x="12849" y="12129"/>
                </a:cubicBezTo>
                <a:cubicBezTo>
                  <a:pt x="12817" y="12522"/>
                  <a:pt x="12698" y="12885"/>
                  <a:pt x="12626" y="13271"/>
                </a:cubicBezTo>
                <a:cubicBezTo>
                  <a:pt x="12588" y="13473"/>
                  <a:pt x="12545" y="13528"/>
                  <a:pt x="12675" y="13469"/>
                </a:cubicBezTo>
              </a:path>
              <a:path w="2804" h="3474">
                <a:moveTo>
                  <a:pt x="13146" y="12700"/>
                </a:moveTo>
                <a:cubicBezTo>
                  <a:pt x="13310" y="12794"/>
                  <a:pt x="13416" y="12929"/>
                  <a:pt x="13543" y="13072"/>
                </a:cubicBezTo>
                <a:cubicBezTo>
                  <a:pt x="13560" y="13089"/>
                  <a:pt x="13576" y="13105"/>
                  <a:pt x="13593" y="13122"/>
                </a:cubicBezTo>
              </a:path>
              <a:path w="2804" h="3474">
                <a:moveTo>
                  <a:pt x="13494" y="12551"/>
                </a:moveTo>
                <a:cubicBezTo>
                  <a:pt x="13408" y="12753"/>
                  <a:pt x="13320" y="12949"/>
                  <a:pt x="13221" y="13146"/>
                </a:cubicBezTo>
                <a:cubicBezTo>
                  <a:pt x="13213" y="13163"/>
                  <a:pt x="13204" y="13179"/>
                  <a:pt x="13196" y="13196"/>
                </a:cubicBezTo>
              </a:path>
              <a:path w="2804" h="3474">
                <a:moveTo>
                  <a:pt x="13940" y="12675"/>
                </a:moveTo>
                <a:cubicBezTo>
                  <a:pt x="13963" y="12802"/>
                  <a:pt x="14065" y="12940"/>
                  <a:pt x="14064" y="13072"/>
                </a:cubicBezTo>
                <a:cubicBezTo>
                  <a:pt x="14056" y="13055"/>
                  <a:pt x="14047" y="13039"/>
                  <a:pt x="14039" y="13022"/>
                </a:cubicBezTo>
                <a:cubicBezTo>
                  <a:pt x="14051" y="12745"/>
                  <a:pt x="14105" y="12581"/>
                  <a:pt x="14412" y="12502"/>
                </a:cubicBezTo>
                <a:cubicBezTo>
                  <a:pt x="14559" y="12464"/>
                  <a:pt x="14575" y="12506"/>
                  <a:pt x="14635" y="12601"/>
                </a:cubicBezTo>
              </a:path>
              <a:path w="2804" h="3474">
                <a:moveTo>
                  <a:pt x="13097" y="14536"/>
                </a:moveTo>
                <a:cubicBezTo>
                  <a:pt x="13273" y="14502"/>
                  <a:pt x="13447" y="14459"/>
                  <a:pt x="13618" y="14412"/>
                </a:cubicBezTo>
                <a:cubicBezTo>
                  <a:pt x="13618" y="14635"/>
                  <a:pt x="13563" y="14857"/>
                  <a:pt x="13543" y="15081"/>
                </a:cubicBezTo>
                <a:cubicBezTo>
                  <a:pt x="13527" y="15259"/>
                  <a:pt x="13513" y="15427"/>
                  <a:pt x="13494" y="15602"/>
                </a:cubicBezTo>
              </a:path>
              <a:path w="2804" h="3474">
                <a:moveTo>
                  <a:pt x="13915" y="15007"/>
                </a:moveTo>
                <a:cubicBezTo>
                  <a:pt x="14018" y="15132"/>
                  <a:pt x="14091" y="15274"/>
                  <a:pt x="14188" y="15404"/>
                </a:cubicBezTo>
                <a:cubicBezTo>
                  <a:pt x="14122" y="15285"/>
                  <a:pt x="14050" y="15084"/>
                  <a:pt x="14163" y="14957"/>
                </a:cubicBezTo>
                <a:cubicBezTo>
                  <a:pt x="14298" y="14805"/>
                  <a:pt x="14473" y="14784"/>
                  <a:pt x="14660" y="14784"/>
                </a:cubicBezTo>
              </a:path>
              <a:path w="2804" h="3474">
                <a:moveTo>
                  <a:pt x="13146" y="13593"/>
                </a:moveTo>
                <a:cubicBezTo>
                  <a:pt x="13281" y="13718"/>
                  <a:pt x="13346" y="13791"/>
                  <a:pt x="13568" y="13692"/>
                </a:cubicBezTo>
                <a:cubicBezTo>
                  <a:pt x="13818" y="13580"/>
                  <a:pt x="13945" y="13257"/>
                  <a:pt x="13915" y="12998"/>
                </a:cubicBezTo>
                <a:cubicBezTo>
                  <a:pt x="13898" y="12849"/>
                  <a:pt x="13767" y="12639"/>
                  <a:pt x="13643" y="12551"/>
                </a:cubicBezTo>
                <a:cubicBezTo>
                  <a:pt x="13524" y="12466"/>
                  <a:pt x="13329" y="12487"/>
                  <a:pt x="13196" y="12526"/>
                </a:cubicBezTo>
                <a:cubicBezTo>
                  <a:pt x="13030" y="12575"/>
                  <a:pt x="13089" y="12878"/>
                  <a:pt x="13097" y="12998"/>
                </a:cubicBezTo>
                <a:cubicBezTo>
                  <a:pt x="13117" y="13301"/>
                  <a:pt x="13171" y="13549"/>
                  <a:pt x="13519" y="13494"/>
                </a:cubicBezTo>
                <a:cubicBezTo>
                  <a:pt x="13635" y="13455"/>
                  <a:pt x="13655" y="13453"/>
                  <a:pt x="13717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ifference of 3 and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25920" y="1955880"/>
            <a:ext cx="2670120" cy="652320"/>
          </a:xfrm>
          <a:custGeom>
            <a:avLst/>
            <a:gdLst/>
            <a:ahLst/>
            <a:rect l="l" t="t" r="r" b="b"/>
            <a:pathLst>
              <a:path w="7417" h="1812">
                <a:moveTo>
                  <a:pt x="10393" y="6499"/>
                </a:moveTo>
                <a:cubicBezTo>
                  <a:pt x="10251" y="6499"/>
                  <a:pt x="10624" y="6534"/>
                  <a:pt x="10765" y="6548"/>
                </a:cubicBezTo>
                <a:cubicBezTo>
                  <a:pt x="10966" y="6568"/>
                  <a:pt x="11159" y="6573"/>
                  <a:pt x="11361" y="6573"/>
                </a:cubicBezTo>
              </a:path>
              <a:path w="7417" h="1812">
                <a:moveTo>
                  <a:pt x="15677" y="6548"/>
                </a:moveTo>
                <a:cubicBezTo>
                  <a:pt x="15810" y="6384"/>
                  <a:pt x="15936" y="6395"/>
                  <a:pt x="16123" y="6474"/>
                </a:cubicBezTo>
                <a:cubicBezTo>
                  <a:pt x="16085" y="6745"/>
                  <a:pt x="15966" y="6708"/>
                  <a:pt x="16098" y="6846"/>
                </a:cubicBezTo>
                <a:cubicBezTo>
                  <a:pt x="16115" y="6871"/>
                  <a:pt x="16131" y="6896"/>
                  <a:pt x="16148" y="6921"/>
                </a:cubicBezTo>
                <a:cubicBezTo>
                  <a:pt x="16001" y="7141"/>
                  <a:pt x="15921" y="7166"/>
                  <a:pt x="15701" y="7020"/>
                </a:cubicBezTo>
              </a:path>
              <a:path w="7417" h="1812">
                <a:moveTo>
                  <a:pt x="10517" y="7243"/>
                </a:moveTo>
                <a:cubicBezTo>
                  <a:pt x="10749" y="7166"/>
                  <a:pt x="10994" y="7199"/>
                  <a:pt x="11237" y="7169"/>
                </a:cubicBezTo>
                <a:cubicBezTo>
                  <a:pt x="11527" y="7133"/>
                  <a:pt x="11965" y="7077"/>
                  <a:pt x="12179" y="6846"/>
                </a:cubicBezTo>
                <a:cubicBezTo>
                  <a:pt x="12394" y="6613"/>
                  <a:pt x="12273" y="6335"/>
                  <a:pt x="12030" y="6201"/>
                </a:cubicBezTo>
                <a:cubicBezTo>
                  <a:pt x="11733" y="6037"/>
                  <a:pt x="11345" y="6014"/>
                  <a:pt x="11013" y="6028"/>
                </a:cubicBezTo>
                <a:cubicBezTo>
                  <a:pt x="10692" y="6042"/>
                  <a:pt x="10412" y="6094"/>
                  <a:pt x="10195" y="6350"/>
                </a:cubicBezTo>
                <a:cubicBezTo>
                  <a:pt x="10060" y="6509"/>
                  <a:pt x="10025" y="6789"/>
                  <a:pt x="10145" y="6970"/>
                </a:cubicBezTo>
                <a:cubicBezTo>
                  <a:pt x="10304" y="7209"/>
                  <a:pt x="10759" y="7074"/>
                  <a:pt x="10964" y="6995"/>
                </a:cubicBezTo>
                <a:cubicBezTo>
                  <a:pt x="11005" y="6970"/>
                  <a:pt x="11047" y="6946"/>
                  <a:pt x="11088" y="6921"/>
                </a:cubicBezTo>
              </a:path>
              <a:path w="7417" h="1812">
                <a:moveTo>
                  <a:pt x="12154" y="6424"/>
                </a:moveTo>
                <a:cubicBezTo>
                  <a:pt x="12275" y="6274"/>
                  <a:pt x="12391" y="6163"/>
                  <a:pt x="12551" y="6052"/>
                </a:cubicBezTo>
                <a:cubicBezTo>
                  <a:pt x="12768" y="5902"/>
                  <a:pt x="13023" y="5770"/>
                  <a:pt x="13271" y="5680"/>
                </a:cubicBezTo>
                <a:cubicBezTo>
                  <a:pt x="13576" y="5569"/>
                  <a:pt x="13919" y="5503"/>
                  <a:pt x="14238" y="5457"/>
                </a:cubicBezTo>
                <a:cubicBezTo>
                  <a:pt x="14502" y="5419"/>
                  <a:pt x="14744" y="5446"/>
                  <a:pt x="15007" y="5457"/>
                </a:cubicBezTo>
                <a:cubicBezTo>
                  <a:pt x="15282" y="5469"/>
                  <a:pt x="15536" y="5496"/>
                  <a:pt x="15801" y="5581"/>
                </a:cubicBezTo>
                <a:cubicBezTo>
                  <a:pt x="16063" y="5665"/>
                  <a:pt x="16315" y="5832"/>
                  <a:pt x="16545" y="5978"/>
                </a:cubicBezTo>
                <a:cubicBezTo>
                  <a:pt x="16829" y="6159"/>
                  <a:pt x="17114" y="6343"/>
                  <a:pt x="17338" y="6598"/>
                </a:cubicBezTo>
                <a:cubicBezTo>
                  <a:pt x="17389" y="6656"/>
                  <a:pt x="17435" y="6715"/>
                  <a:pt x="17487" y="6772"/>
                </a:cubicBezTo>
                <a:cubicBezTo>
                  <a:pt x="17448" y="6549"/>
                  <a:pt x="17414" y="6323"/>
                  <a:pt x="17388" y="6102"/>
                </a:cubicBezTo>
                <a:cubicBezTo>
                  <a:pt x="17428" y="6303"/>
                  <a:pt x="17455" y="6447"/>
                  <a:pt x="17438" y="6648"/>
                </a:cubicBezTo>
                <a:cubicBezTo>
                  <a:pt x="17339" y="6660"/>
                  <a:pt x="17263" y="6623"/>
                  <a:pt x="17165" y="6623"/>
                </a:cubicBezTo>
                <a:cubicBezTo>
                  <a:pt x="17130" y="6623"/>
                  <a:pt x="17112" y="6628"/>
                  <a:pt x="17090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53200" y="2251080"/>
            <a:ext cx="187560" cy="214200"/>
          </a:xfrm>
          <a:custGeom>
            <a:avLst/>
            <a:gdLst/>
            <a:ahLst/>
            <a:rect l="l" t="t" r="r" b="b"/>
            <a:pathLst>
              <a:path w="521" h="596">
                <a:moveTo>
                  <a:pt x="19869" y="6375"/>
                </a:moveTo>
                <a:cubicBezTo>
                  <a:pt x="20050" y="6523"/>
                  <a:pt x="20206" y="6676"/>
                  <a:pt x="20365" y="6846"/>
                </a:cubicBezTo>
              </a:path>
              <a:path w="521" h="596">
                <a:moveTo>
                  <a:pt x="20389" y="6251"/>
                </a:moveTo>
                <a:cubicBezTo>
                  <a:pt x="20270" y="6489"/>
                  <a:pt x="20233" y="6562"/>
                  <a:pt x="20166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4800" y="3419640"/>
            <a:ext cx="911160" cy="385560"/>
          </a:xfrm>
          <a:custGeom>
            <a:avLst/>
            <a:gdLst/>
            <a:ahLst/>
            <a:rect l="l" t="t" r="r" b="b"/>
            <a:pathLst>
              <a:path w="2531" h="1068">
                <a:moveTo>
                  <a:pt x="12278" y="9674"/>
                </a:moveTo>
                <a:cubicBezTo>
                  <a:pt x="12394" y="9606"/>
                  <a:pt x="12935" y="9324"/>
                  <a:pt x="12750" y="9748"/>
                </a:cubicBezTo>
                <a:cubicBezTo>
                  <a:pt x="12700" y="9814"/>
                  <a:pt x="12651" y="9881"/>
                  <a:pt x="12601" y="9947"/>
                </a:cubicBezTo>
                <a:cubicBezTo>
                  <a:pt x="12568" y="9972"/>
                  <a:pt x="12535" y="9996"/>
                  <a:pt x="12502" y="10021"/>
                </a:cubicBezTo>
                <a:cubicBezTo>
                  <a:pt x="12610" y="9900"/>
                  <a:pt x="12882" y="9852"/>
                  <a:pt x="12898" y="10120"/>
                </a:cubicBezTo>
                <a:cubicBezTo>
                  <a:pt x="12915" y="10395"/>
                  <a:pt x="12406" y="10458"/>
                  <a:pt x="12229" y="10368"/>
                </a:cubicBezTo>
                <a:cubicBezTo>
                  <a:pt x="12161" y="10234"/>
                  <a:pt x="12174" y="10175"/>
                  <a:pt x="12353" y="10120"/>
                </a:cubicBezTo>
              </a:path>
              <a:path w="2531" h="1068">
                <a:moveTo>
                  <a:pt x="13320" y="9872"/>
                </a:moveTo>
                <a:cubicBezTo>
                  <a:pt x="13451" y="10003"/>
                  <a:pt x="13604" y="10129"/>
                  <a:pt x="13717" y="10269"/>
                </a:cubicBezTo>
              </a:path>
              <a:path w="2531" h="1068">
                <a:moveTo>
                  <a:pt x="13643" y="9699"/>
                </a:moveTo>
                <a:cubicBezTo>
                  <a:pt x="13590" y="9943"/>
                  <a:pt x="13513" y="10178"/>
                  <a:pt x="13444" y="10418"/>
                </a:cubicBezTo>
              </a:path>
              <a:path w="2531" h="1068">
                <a:moveTo>
                  <a:pt x="14263" y="9723"/>
                </a:moveTo>
                <a:cubicBezTo>
                  <a:pt x="14424" y="9869"/>
                  <a:pt x="14559" y="10017"/>
                  <a:pt x="14684" y="10195"/>
                </a:cubicBezTo>
              </a:path>
              <a:path w="2531" h="1068">
                <a:moveTo>
                  <a:pt x="14709" y="9525"/>
                </a:moveTo>
                <a:cubicBezTo>
                  <a:pt x="14624" y="9769"/>
                  <a:pt x="14529" y="10004"/>
                  <a:pt x="14436" y="10244"/>
                </a:cubicBezTo>
              </a:path>
              <a:path w="2531" h="1068">
                <a:moveTo>
                  <a:pt x="13494" y="10344"/>
                </a:moveTo>
                <a:cubicBezTo>
                  <a:pt x="13523" y="10476"/>
                  <a:pt x="13539" y="10562"/>
                  <a:pt x="13717" y="10542"/>
                </a:cubicBezTo>
                <a:cubicBezTo>
                  <a:pt x="13946" y="10516"/>
                  <a:pt x="14163" y="10406"/>
                  <a:pt x="14213" y="10170"/>
                </a:cubicBezTo>
                <a:cubicBezTo>
                  <a:pt x="14251" y="9993"/>
                  <a:pt x="14123" y="9819"/>
                  <a:pt x="13990" y="9723"/>
                </a:cubicBezTo>
                <a:cubicBezTo>
                  <a:pt x="13787" y="9576"/>
                  <a:pt x="13613" y="9569"/>
                  <a:pt x="13395" y="9674"/>
                </a:cubicBezTo>
                <a:cubicBezTo>
                  <a:pt x="13193" y="9771"/>
                  <a:pt x="13156" y="9989"/>
                  <a:pt x="13196" y="10195"/>
                </a:cubicBezTo>
                <a:cubicBezTo>
                  <a:pt x="13226" y="10351"/>
                  <a:pt x="13345" y="10586"/>
                  <a:pt x="13543" y="10567"/>
                </a:cubicBezTo>
                <a:cubicBezTo>
                  <a:pt x="13660" y="10556"/>
                  <a:pt x="13769" y="10449"/>
                  <a:pt x="13866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60920" y="3983040"/>
            <a:ext cx="438120" cy="339840"/>
          </a:xfrm>
          <a:custGeom>
            <a:avLst/>
            <a:gdLst/>
            <a:ahLst/>
            <a:rect l="l" t="t" r="r" b="b"/>
            <a:pathLst>
              <a:path w="1216" h="943">
                <a:moveTo>
                  <a:pt x="13618" y="11088"/>
                </a:moveTo>
                <a:lnTo>
                  <a:pt x="13618" y="11088"/>
                </a:lnTo>
              </a:path>
              <a:path w="1216" h="943">
                <a:moveTo>
                  <a:pt x="13072" y="11162"/>
                </a:moveTo>
                <a:cubicBezTo>
                  <a:pt x="13240" y="11069"/>
                  <a:pt x="13258" y="11068"/>
                  <a:pt x="13444" y="11112"/>
                </a:cubicBezTo>
                <a:cubicBezTo>
                  <a:pt x="13468" y="11325"/>
                  <a:pt x="13442" y="11378"/>
                  <a:pt x="13271" y="11509"/>
                </a:cubicBezTo>
                <a:cubicBezTo>
                  <a:pt x="13306" y="11429"/>
                  <a:pt x="13501" y="11334"/>
                  <a:pt x="13568" y="11485"/>
                </a:cubicBezTo>
                <a:cubicBezTo>
                  <a:pt x="13679" y="11732"/>
                  <a:pt x="13327" y="11960"/>
                  <a:pt x="13146" y="12005"/>
                </a:cubicBezTo>
                <a:cubicBezTo>
                  <a:pt x="13010" y="12005"/>
                  <a:pt x="12967" y="12016"/>
                  <a:pt x="12948" y="11906"/>
                </a:cubicBezTo>
              </a:path>
              <a:path w="1216" h="943">
                <a:moveTo>
                  <a:pt x="13717" y="11410"/>
                </a:moveTo>
                <a:cubicBezTo>
                  <a:pt x="13830" y="11523"/>
                  <a:pt x="13929" y="11642"/>
                  <a:pt x="14039" y="11757"/>
                </a:cubicBezTo>
                <a:cubicBezTo>
                  <a:pt x="14056" y="11774"/>
                  <a:pt x="14072" y="11790"/>
                  <a:pt x="14089" y="11807"/>
                </a:cubicBezTo>
              </a:path>
              <a:path w="1216" h="943">
                <a:moveTo>
                  <a:pt x="14163" y="11336"/>
                </a:moveTo>
                <a:cubicBezTo>
                  <a:pt x="13994" y="11457"/>
                  <a:pt x="13939" y="11673"/>
                  <a:pt x="13841" y="11857"/>
                </a:cubicBezTo>
                <a:cubicBezTo>
                  <a:pt x="13824" y="11882"/>
                  <a:pt x="13808" y="11906"/>
                  <a:pt x="13791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quotient of 4 and a number 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19200" y="1276200"/>
            <a:ext cx="2938680" cy="1216080"/>
          </a:xfrm>
          <a:custGeom>
            <a:avLst/>
            <a:gdLst/>
            <a:ahLst/>
            <a:rect l="l" t="t" r="r" b="b"/>
            <a:pathLst>
              <a:path w="8162" h="3375">
                <a:moveTo>
                  <a:pt x="7193" y="6077"/>
                </a:moveTo>
                <a:cubicBezTo>
                  <a:pt x="7414" y="5982"/>
                  <a:pt x="7623" y="5945"/>
                  <a:pt x="7863" y="5928"/>
                </a:cubicBezTo>
                <a:cubicBezTo>
                  <a:pt x="7962" y="5928"/>
                  <a:pt x="7979" y="5928"/>
                  <a:pt x="8037" y="5928"/>
                </a:cubicBezTo>
              </a:path>
              <a:path w="8162" h="3375">
                <a:moveTo>
                  <a:pt x="7640" y="5482"/>
                </a:moveTo>
                <a:lnTo>
                  <a:pt x="7640" y="5482"/>
                </a:lnTo>
              </a:path>
              <a:path w="8162" h="3375">
                <a:moveTo>
                  <a:pt x="7739" y="6300"/>
                </a:moveTo>
                <a:lnTo>
                  <a:pt x="7739" y="6300"/>
                </a:lnTo>
              </a:path>
              <a:path w="8162" h="3375">
                <a:moveTo>
                  <a:pt x="12700" y="5358"/>
                </a:moveTo>
                <a:cubicBezTo>
                  <a:pt x="12693" y="5437"/>
                  <a:pt x="12620" y="5610"/>
                  <a:pt x="12725" y="5655"/>
                </a:cubicBezTo>
                <a:cubicBezTo>
                  <a:pt x="12855" y="5710"/>
                  <a:pt x="13068" y="5524"/>
                  <a:pt x="13171" y="5457"/>
                </a:cubicBezTo>
              </a:path>
              <a:path w="8162" h="3375">
                <a:moveTo>
                  <a:pt x="12998" y="5110"/>
                </a:moveTo>
                <a:cubicBezTo>
                  <a:pt x="13019" y="5372"/>
                  <a:pt x="13019" y="5644"/>
                  <a:pt x="13047" y="5904"/>
                </a:cubicBezTo>
                <a:cubicBezTo>
                  <a:pt x="13055" y="5929"/>
                  <a:pt x="13064" y="5953"/>
                  <a:pt x="13072" y="5978"/>
                </a:cubicBezTo>
              </a:path>
              <a:path w="8162" h="3375">
                <a:moveTo>
                  <a:pt x="7094" y="6921"/>
                </a:moveTo>
                <a:cubicBezTo>
                  <a:pt x="7163" y="6867"/>
                  <a:pt x="7203" y="6849"/>
                  <a:pt x="7317" y="6846"/>
                </a:cubicBezTo>
                <a:cubicBezTo>
                  <a:pt x="7632" y="6839"/>
                  <a:pt x="7871" y="6828"/>
                  <a:pt x="8161" y="6672"/>
                </a:cubicBezTo>
                <a:cubicBezTo>
                  <a:pt x="8425" y="6529"/>
                  <a:pt x="8594" y="6329"/>
                  <a:pt x="8632" y="6028"/>
                </a:cubicBezTo>
                <a:cubicBezTo>
                  <a:pt x="8666" y="5757"/>
                  <a:pt x="8610" y="5455"/>
                  <a:pt x="8334" y="5333"/>
                </a:cubicBezTo>
                <a:cubicBezTo>
                  <a:pt x="7924" y="5152"/>
                  <a:pt x="7405" y="5204"/>
                  <a:pt x="7045" y="5482"/>
                </a:cubicBezTo>
                <a:cubicBezTo>
                  <a:pt x="6718" y="5735"/>
                  <a:pt x="6609" y="6231"/>
                  <a:pt x="6821" y="6598"/>
                </a:cubicBezTo>
                <a:cubicBezTo>
                  <a:pt x="7002" y="6779"/>
                  <a:pt x="7069" y="6837"/>
                  <a:pt x="7268" y="6796"/>
                </a:cubicBezTo>
              </a:path>
              <a:path w="8162" h="3375">
                <a:moveTo>
                  <a:pt x="8558" y="5407"/>
                </a:moveTo>
                <a:cubicBezTo>
                  <a:pt x="8659" y="5229"/>
                  <a:pt x="8767" y="5091"/>
                  <a:pt x="8930" y="4936"/>
                </a:cubicBezTo>
                <a:cubicBezTo>
                  <a:pt x="9341" y="4545"/>
                  <a:pt x="9814" y="4270"/>
                  <a:pt x="10319" y="4018"/>
                </a:cubicBezTo>
                <a:cubicBezTo>
                  <a:pt x="10732" y="3812"/>
                  <a:pt x="11199" y="3638"/>
                  <a:pt x="11658" y="3572"/>
                </a:cubicBezTo>
                <a:cubicBezTo>
                  <a:pt x="12092" y="3510"/>
                  <a:pt x="12541" y="3542"/>
                  <a:pt x="12973" y="3597"/>
                </a:cubicBezTo>
                <a:cubicBezTo>
                  <a:pt x="13322" y="3642"/>
                  <a:pt x="13853" y="3688"/>
                  <a:pt x="14139" y="3919"/>
                </a:cubicBezTo>
                <a:cubicBezTo>
                  <a:pt x="14298" y="4048"/>
                  <a:pt x="14442" y="4401"/>
                  <a:pt x="14511" y="4589"/>
                </a:cubicBezTo>
                <a:cubicBezTo>
                  <a:pt x="14552" y="4701"/>
                  <a:pt x="14696" y="4990"/>
                  <a:pt x="14684" y="5110"/>
                </a:cubicBezTo>
                <a:cubicBezTo>
                  <a:pt x="14669" y="5259"/>
                  <a:pt x="14638" y="5218"/>
                  <a:pt x="14486" y="5035"/>
                </a:cubicBezTo>
                <a:cubicBezTo>
                  <a:pt x="14419" y="4922"/>
                  <a:pt x="14403" y="4890"/>
                  <a:pt x="14337" y="4837"/>
                </a:cubicBezTo>
                <a:cubicBezTo>
                  <a:pt x="14390" y="4906"/>
                  <a:pt x="14504" y="5130"/>
                  <a:pt x="14635" y="5135"/>
                </a:cubicBezTo>
                <a:cubicBezTo>
                  <a:pt x="14812" y="5141"/>
                  <a:pt x="14862" y="4732"/>
                  <a:pt x="14883" y="4614"/>
                </a:cubicBezTo>
                <a:cubicBezTo>
                  <a:pt x="14883" y="4589"/>
                  <a:pt x="14883" y="4564"/>
                  <a:pt x="14883" y="45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65960" y="2027160"/>
            <a:ext cx="241200" cy="231840"/>
          </a:xfrm>
          <a:custGeom>
            <a:avLst/>
            <a:gdLst/>
            <a:ahLst/>
            <a:rect l="l" t="t" r="r" b="b"/>
            <a:pathLst>
              <a:path w="670" h="646">
                <a:moveTo>
                  <a:pt x="17959" y="5631"/>
                </a:moveTo>
                <a:cubicBezTo>
                  <a:pt x="17990" y="5843"/>
                  <a:pt x="18029" y="6044"/>
                  <a:pt x="18083" y="6251"/>
                </a:cubicBezTo>
                <a:cubicBezTo>
                  <a:pt x="18085" y="6246"/>
                  <a:pt x="18028" y="5925"/>
                  <a:pt x="18083" y="5804"/>
                </a:cubicBezTo>
                <a:cubicBezTo>
                  <a:pt x="18171" y="5612"/>
                  <a:pt x="18411" y="5566"/>
                  <a:pt x="18529" y="5755"/>
                </a:cubicBezTo>
                <a:cubicBezTo>
                  <a:pt x="18598" y="5865"/>
                  <a:pt x="18613" y="6028"/>
                  <a:pt x="18628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4920" y="4054320"/>
            <a:ext cx="250920" cy="357480"/>
          </a:xfrm>
          <a:custGeom>
            <a:avLst/>
            <a:gdLst/>
            <a:ahLst/>
            <a:rect l="l" t="t" r="r" b="b"/>
            <a:pathLst>
              <a:path w="696" h="994">
                <a:moveTo>
                  <a:pt x="9897" y="11584"/>
                </a:moveTo>
                <a:cubicBezTo>
                  <a:pt x="9941" y="11790"/>
                  <a:pt x="9960" y="11898"/>
                  <a:pt x="9847" y="12080"/>
                </a:cubicBezTo>
                <a:cubicBezTo>
                  <a:pt x="9995" y="11893"/>
                  <a:pt x="10127" y="11931"/>
                  <a:pt x="10368" y="11931"/>
                </a:cubicBezTo>
                <a:cubicBezTo>
                  <a:pt x="10401" y="11931"/>
                  <a:pt x="10435" y="11931"/>
                  <a:pt x="10468" y="11931"/>
                </a:cubicBezTo>
              </a:path>
              <a:path w="696" h="994">
                <a:moveTo>
                  <a:pt x="10269" y="11261"/>
                </a:moveTo>
                <a:cubicBezTo>
                  <a:pt x="10394" y="11546"/>
                  <a:pt x="10455" y="11825"/>
                  <a:pt x="10517" y="12129"/>
                </a:cubicBezTo>
                <a:cubicBezTo>
                  <a:pt x="10525" y="12171"/>
                  <a:pt x="10534" y="12212"/>
                  <a:pt x="1054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6680" y="4106880"/>
            <a:ext cx="438120" cy="277920"/>
          </a:xfrm>
          <a:custGeom>
            <a:avLst/>
            <a:gdLst/>
            <a:ahLst/>
            <a:rect l="l" t="t" r="r" b="b"/>
            <a:pathLst>
              <a:path w="1216" h="770">
                <a:moveTo>
                  <a:pt x="10964" y="11857"/>
                </a:moveTo>
                <a:cubicBezTo>
                  <a:pt x="11066" y="11869"/>
                  <a:pt x="11158" y="11881"/>
                  <a:pt x="11261" y="11881"/>
                </a:cubicBezTo>
              </a:path>
              <a:path w="1216" h="770">
                <a:moveTo>
                  <a:pt x="10988" y="11410"/>
                </a:moveTo>
                <a:lnTo>
                  <a:pt x="10988" y="11410"/>
                </a:lnTo>
              </a:path>
              <a:path w="1216" h="770">
                <a:moveTo>
                  <a:pt x="11187" y="12179"/>
                </a:moveTo>
                <a:lnTo>
                  <a:pt x="11187" y="12179"/>
                </a:lnTo>
              </a:path>
              <a:path w="1216" h="770">
                <a:moveTo>
                  <a:pt x="11584" y="11782"/>
                </a:moveTo>
                <a:cubicBezTo>
                  <a:pt x="11627" y="11889"/>
                  <a:pt x="11669" y="11996"/>
                  <a:pt x="11708" y="12105"/>
                </a:cubicBezTo>
                <a:cubicBezTo>
                  <a:pt x="11557" y="12029"/>
                  <a:pt x="11594" y="11897"/>
                  <a:pt x="11658" y="11757"/>
                </a:cubicBezTo>
                <a:cubicBezTo>
                  <a:pt x="11752" y="11551"/>
                  <a:pt x="12000" y="11558"/>
                  <a:pt x="12105" y="11757"/>
                </a:cubicBezTo>
                <a:cubicBezTo>
                  <a:pt x="12162" y="11865"/>
                  <a:pt x="12170" y="12010"/>
                  <a:pt x="12179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times a number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1720" y="205416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6226" y="5829"/>
                </a:moveTo>
                <a:cubicBezTo>
                  <a:pt x="6406" y="5719"/>
                  <a:pt x="6418" y="5721"/>
                  <a:pt x="6623" y="5755"/>
                </a:cubicBezTo>
                <a:cubicBezTo>
                  <a:pt x="6623" y="5953"/>
                  <a:pt x="6487" y="6471"/>
                  <a:pt x="6449" y="6276"/>
                </a:cubicBezTo>
                <a:cubicBezTo>
                  <a:pt x="6457" y="6251"/>
                  <a:pt x="6466" y="6226"/>
                  <a:pt x="6474" y="6201"/>
                </a:cubicBezTo>
                <a:cubicBezTo>
                  <a:pt x="6712" y="6210"/>
                  <a:pt x="7007" y="6347"/>
                  <a:pt x="6747" y="6648"/>
                </a:cubicBezTo>
                <a:cubicBezTo>
                  <a:pt x="6604" y="6814"/>
                  <a:pt x="6401" y="6700"/>
                  <a:pt x="625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37000" y="2125800"/>
            <a:ext cx="177840" cy="3031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9823" y="6226"/>
                </a:moveTo>
                <a:cubicBezTo>
                  <a:pt x="9987" y="6364"/>
                  <a:pt x="10136" y="6488"/>
                  <a:pt x="10319" y="6598"/>
                </a:cubicBezTo>
              </a:path>
              <a:path w="497" h="844">
                <a:moveTo>
                  <a:pt x="10195" y="5904"/>
                </a:moveTo>
                <a:cubicBezTo>
                  <a:pt x="10150" y="6189"/>
                  <a:pt x="10060" y="6465"/>
                  <a:pt x="10021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03920" y="1946160"/>
            <a:ext cx="223920" cy="331920"/>
          </a:xfrm>
          <a:custGeom>
            <a:avLst/>
            <a:gdLst/>
            <a:ahLst/>
            <a:rect l="l" t="t" r="r" b="b"/>
            <a:pathLst>
              <a:path w="621" h="919">
                <a:moveTo>
                  <a:pt x="16123" y="5655"/>
                </a:moveTo>
                <a:cubicBezTo>
                  <a:pt x="16304" y="5861"/>
                  <a:pt x="16469" y="6063"/>
                  <a:pt x="16669" y="6251"/>
                </a:cubicBezTo>
                <a:cubicBezTo>
                  <a:pt x="16708" y="6290"/>
                  <a:pt x="16709" y="6306"/>
                  <a:pt x="16743" y="6300"/>
                </a:cubicBezTo>
              </a:path>
              <a:path w="621" h="919">
                <a:moveTo>
                  <a:pt x="16718" y="5407"/>
                </a:moveTo>
                <a:cubicBezTo>
                  <a:pt x="16574" y="5707"/>
                  <a:pt x="16410" y="6015"/>
                  <a:pt x="16297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840120"/>
            <a:ext cx="839880" cy="1224000"/>
          </a:xfrm>
          <a:custGeom>
            <a:avLst/>
            <a:gdLst/>
            <a:ahLst/>
            <a:rect l="l" t="t" r="r" b="b"/>
            <a:pathLst>
              <a:path w="2332" h="3399">
                <a:moveTo>
                  <a:pt x="10021" y="10815"/>
                </a:moveTo>
                <a:cubicBezTo>
                  <a:pt x="10189" y="10684"/>
                  <a:pt x="10189" y="10677"/>
                  <a:pt x="10393" y="10716"/>
                </a:cubicBezTo>
                <a:cubicBezTo>
                  <a:pt x="10425" y="10991"/>
                  <a:pt x="10364" y="11077"/>
                  <a:pt x="10170" y="11286"/>
                </a:cubicBezTo>
                <a:cubicBezTo>
                  <a:pt x="10340" y="11164"/>
                  <a:pt x="10575" y="11136"/>
                  <a:pt x="10542" y="11460"/>
                </a:cubicBezTo>
                <a:cubicBezTo>
                  <a:pt x="10516" y="11717"/>
                  <a:pt x="10235" y="11992"/>
                  <a:pt x="9996" y="11782"/>
                </a:cubicBezTo>
                <a:cubicBezTo>
                  <a:pt x="9980" y="11749"/>
                  <a:pt x="9963" y="11716"/>
                  <a:pt x="9947" y="11683"/>
                </a:cubicBezTo>
              </a:path>
              <a:path w="2332" h="3399">
                <a:moveTo>
                  <a:pt x="10939" y="11088"/>
                </a:moveTo>
                <a:cubicBezTo>
                  <a:pt x="11076" y="11233"/>
                  <a:pt x="11201" y="11388"/>
                  <a:pt x="11336" y="11534"/>
                </a:cubicBezTo>
              </a:path>
              <a:path w="2332" h="3399">
                <a:moveTo>
                  <a:pt x="11286" y="11038"/>
                </a:moveTo>
                <a:cubicBezTo>
                  <a:pt x="11221" y="11271"/>
                  <a:pt x="11158" y="11487"/>
                  <a:pt x="11063" y="11708"/>
                </a:cubicBezTo>
              </a:path>
              <a:path w="2332" h="3399">
                <a:moveTo>
                  <a:pt x="11708" y="10939"/>
                </a:moveTo>
                <a:cubicBezTo>
                  <a:pt x="11870" y="11126"/>
                  <a:pt x="12054" y="11305"/>
                  <a:pt x="12229" y="11485"/>
                </a:cubicBezTo>
                <a:cubicBezTo>
                  <a:pt x="12245" y="11501"/>
                  <a:pt x="12262" y="11518"/>
                  <a:pt x="12278" y="11534"/>
                </a:cubicBezTo>
              </a:path>
              <a:path w="2332" h="3399">
                <a:moveTo>
                  <a:pt x="12254" y="10840"/>
                </a:moveTo>
                <a:cubicBezTo>
                  <a:pt x="12126" y="11142"/>
                  <a:pt x="12038" y="11455"/>
                  <a:pt x="11906" y="11757"/>
                </a:cubicBezTo>
              </a:path>
              <a:path w="2332" h="3399">
                <a:moveTo>
                  <a:pt x="10889" y="12030"/>
                </a:moveTo>
                <a:cubicBezTo>
                  <a:pt x="11122" y="12062"/>
                  <a:pt x="11287" y="12057"/>
                  <a:pt x="11485" y="11906"/>
                </a:cubicBezTo>
                <a:cubicBezTo>
                  <a:pt x="11680" y="11757"/>
                  <a:pt x="11651" y="11501"/>
                  <a:pt x="11609" y="11286"/>
                </a:cubicBezTo>
                <a:cubicBezTo>
                  <a:pt x="11566" y="11066"/>
                  <a:pt x="11478" y="10916"/>
                  <a:pt x="11261" y="10864"/>
                </a:cubicBezTo>
                <a:cubicBezTo>
                  <a:pt x="11087" y="10822"/>
                  <a:pt x="10872" y="10849"/>
                  <a:pt x="10716" y="10939"/>
                </a:cubicBezTo>
                <a:cubicBezTo>
                  <a:pt x="10465" y="11084"/>
                  <a:pt x="10607" y="11612"/>
                  <a:pt x="10740" y="11807"/>
                </a:cubicBezTo>
                <a:cubicBezTo>
                  <a:pt x="10899" y="12040"/>
                  <a:pt x="11144" y="12026"/>
                  <a:pt x="11361" y="11931"/>
                </a:cubicBezTo>
              </a:path>
              <a:path w="2332" h="3399">
                <a:moveTo>
                  <a:pt x="10666" y="12526"/>
                </a:moveTo>
                <a:cubicBezTo>
                  <a:pt x="10789" y="12437"/>
                  <a:pt x="11011" y="12337"/>
                  <a:pt x="11063" y="12576"/>
                </a:cubicBezTo>
                <a:cubicBezTo>
                  <a:pt x="11091" y="12707"/>
                  <a:pt x="10986" y="12811"/>
                  <a:pt x="10914" y="12898"/>
                </a:cubicBezTo>
                <a:cubicBezTo>
                  <a:pt x="11007" y="12818"/>
                  <a:pt x="11177" y="12773"/>
                  <a:pt x="11237" y="12948"/>
                </a:cubicBezTo>
                <a:cubicBezTo>
                  <a:pt x="11326" y="13206"/>
                  <a:pt x="11009" y="13331"/>
                  <a:pt x="10815" y="13320"/>
                </a:cubicBezTo>
                <a:cubicBezTo>
                  <a:pt x="10671" y="13285"/>
                  <a:pt x="10644" y="13309"/>
                  <a:pt x="10592" y="13246"/>
                </a:cubicBezTo>
              </a:path>
              <a:path w="2332" h="3399">
                <a:moveTo>
                  <a:pt x="11485" y="12774"/>
                </a:moveTo>
                <a:cubicBezTo>
                  <a:pt x="11621" y="12861"/>
                  <a:pt x="11741" y="12965"/>
                  <a:pt x="11881" y="13047"/>
                </a:cubicBezTo>
              </a:path>
              <a:path w="2332" h="3399">
                <a:moveTo>
                  <a:pt x="11807" y="12601"/>
                </a:moveTo>
                <a:cubicBezTo>
                  <a:pt x="11712" y="12851"/>
                  <a:pt x="11604" y="13095"/>
                  <a:pt x="11509" y="13345"/>
                </a:cubicBezTo>
              </a:path>
              <a:path w="2332" h="3399">
                <a:moveTo>
                  <a:pt x="9971" y="13915"/>
                </a:moveTo>
                <a:cubicBezTo>
                  <a:pt x="10210" y="14011"/>
                  <a:pt x="10379" y="14058"/>
                  <a:pt x="10641" y="14064"/>
                </a:cubicBezTo>
                <a:cubicBezTo>
                  <a:pt x="10966" y="14071"/>
                  <a:pt x="11336" y="14105"/>
                  <a:pt x="11633" y="13940"/>
                </a:cubicBezTo>
                <a:cubicBezTo>
                  <a:pt x="11856" y="13816"/>
                  <a:pt x="12053" y="13578"/>
                  <a:pt x="12154" y="13345"/>
                </a:cubicBezTo>
                <a:cubicBezTo>
                  <a:pt x="12223" y="13186"/>
                  <a:pt x="12201" y="12984"/>
                  <a:pt x="12080" y="12849"/>
                </a:cubicBezTo>
                <a:cubicBezTo>
                  <a:pt x="11926" y="12678"/>
                  <a:pt x="11602" y="12595"/>
                  <a:pt x="11385" y="12551"/>
                </a:cubicBezTo>
                <a:cubicBezTo>
                  <a:pt x="11205" y="12515"/>
                  <a:pt x="11023" y="12526"/>
                  <a:pt x="10840" y="12526"/>
                </a:cubicBezTo>
                <a:cubicBezTo>
                  <a:pt x="10650" y="12526"/>
                  <a:pt x="10489" y="12559"/>
                  <a:pt x="10319" y="12650"/>
                </a:cubicBezTo>
                <a:cubicBezTo>
                  <a:pt x="10144" y="12744"/>
                  <a:pt x="10043" y="12904"/>
                  <a:pt x="9996" y="13097"/>
                </a:cubicBezTo>
                <a:cubicBezTo>
                  <a:pt x="9930" y="13369"/>
                  <a:pt x="10014" y="13607"/>
                  <a:pt x="10269" y="13742"/>
                </a:cubicBezTo>
                <a:cubicBezTo>
                  <a:pt x="10605" y="13920"/>
                  <a:pt x="11000" y="13834"/>
                  <a:pt x="11336" y="137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 times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963800"/>
            <a:ext cx="204840" cy="509400"/>
          </a:xfrm>
          <a:custGeom>
            <a:avLst/>
            <a:gdLst/>
            <a:ahLst/>
            <a:rect l="l" t="t" r="r" b="b"/>
            <a:pathLst>
              <a:path w="571" h="1415">
                <a:moveTo>
                  <a:pt x="6945" y="5904"/>
                </a:moveTo>
                <a:cubicBezTo>
                  <a:pt x="6937" y="6145"/>
                  <a:pt x="6787" y="6351"/>
                  <a:pt x="6772" y="6548"/>
                </a:cubicBezTo>
                <a:cubicBezTo>
                  <a:pt x="6760" y="6704"/>
                  <a:pt x="7042" y="6461"/>
                  <a:pt x="7193" y="6499"/>
                </a:cubicBezTo>
                <a:cubicBezTo>
                  <a:pt x="7258" y="6521"/>
                  <a:pt x="7273" y="6529"/>
                  <a:pt x="7317" y="6524"/>
                </a:cubicBezTo>
              </a:path>
              <a:path w="571" h="1415">
                <a:moveTo>
                  <a:pt x="7342" y="5457"/>
                </a:moveTo>
                <a:cubicBezTo>
                  <a:pt x="7342" y="5847"/>
                  <a:pt x="7328" y="6235"/>
                  <a:pt x="7293" y="6623"/>
                </a:cubicBezTo>
                <a:cubicBezTo>
                  <a:pt x="7274" y="6772"/>
                  <a:pt x="7266" y="6788"/>
                  <a:pt x="7268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7200" y="2224080"/>
            <a:ext cx="204840" cy="285840"/>
          </a:xfrm>
          <a:custGeom>
            <a:avLst/>
            <a:gdLst/>
            <a:ahLst/>
            <a:rect l="l" t="t" r="r" b="b"/>
            <a:pathLst>
              <a:path w="572" h="795">
                <a:moveTo>
                  <a:pt x="10269" y="6424"/>
                </a:moveTo>
                <a:cubicBezTo>
                  <a:pt x="10428" y="6592"/>
                  <a:pt x="10592" y="6754"/>
                  <a:pt x="10716" y="6945"/>
                </a:cubicBezTo>
              </a:path>
              <a:path w="572" h="795">
                <a:moveTo>
                  <a:pt x="10840" y="6176"/>
                </a:moveTo>
                <a:cubicBezTo>
                  <a:pt x="10685" y="6452"/>
                  <a:pt x="10534" y="6717"/>
                  <a:pt x="10344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97360" y="2313000"/>
            <a:ext cx="223920" cy="231840"/>
          </a:xfrm>
          <a:custGeom>
            <a:avLst/>
            <a:gdLst/>
            <a:ahLst/>
            <a:rect l="l" t="t" r="r" b="b"/>
            <a:pathLst>
              <a:path w="622" h="646">
                <a:moveTo>
                  <a:pt x="15825" y="6474"/>
                </a:moveTo>
                <a:cubicBezTo>
                  <a:pt x="15825" y="6675"/>
                  <a:pt x="15841" y="6870"/>
                  <a:pt x="15850" y="7069"/>
                </a:cubicBezTo>
                <a:cubicBezTo>
                  <a:pt x="15850" y="6907"/>
                  <a:pt x="15865" y="6776"/>
                  <a:pt x="15925" y="6623"/>
                </a:cubicBezTo>
                <a:cubicBezTo>
                  <a:pt x="15961" y="6531"/>
                  <a:pt x="16099" y="6371"/>
                  <a:pt x="16222" y="6424"/>
                </a:cubicBezTo>
                <a:cubicBezTo>
                  <a:pt x="16399" y="6501"/>
                  <a:pt x="16436" y="6736"/>
                  <a:pt x="16446" y="6896"/>
                </a:cubicBezTo>
                <a:cubicBezTo>
                  <a:pt x="16449" y="6937"/>
                  <a:pt x="16446" y="6979"/>
                  <a:pt x="16446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51200" y="3276720"/>
            <a:ext cx="901800" cy="635040"/>
          </a:xfrm>
          <a:custGeom>
            <a:avLst/>
            <a:gdLst/>
            <a:ahLst/>
            <a:rect l="l" t="t" r="r" b="b"/>
            <a:pathLst>
              <a:path w="2506" h="1762">
                <a:moveTo>
                  <a:pt x="10592" y="9351"/>
                </a:moveTo>
                <a:cubicBezTo>
                  <a:pt x="10556" y="9558"/>
                  <a:pt x="10525" y="9671"/>
                  <a:pt x="10418" y="9847"/>
                </a:cubicBezTo>
                <a:cubicBezTo>
                  <a:pt x="10580" y="9786"/>
                  <a:pt x="10794" y="9842"/>
                  <a:pt x="10988" y="9847"/>
                </a:cubicBezTo>
                <a:cubicBezTo>
                  <a:pt x="11013" y="9847"/>
                  <a:pt x="11038" y="9847"/>
                  <a:pt x="11063" y="9847"/>
                </a:cubicBezTo>
              </a:path>
              <a:path w="2506" h="1762">
                <a:moveTo>
                  <a:pt x="11038" y="9103"/>
                </a:moveTo>
                <a:cubicBezTo>
                  <a:pt x="11063" y="9517"/>
                  <a:pt x="11021" y="9884"/>
                  <a:pt x="10988" y="10294"/>
                </a:cubicBezTo>
                <a:cubicBezTo>
                  <a:pt x="10988" y="10335"/>
                  <a:pt x="10988" y="10377"/>
                  <a:pt x="10988" y="10418"/>
                </a:cubicBezTo>
              </a:path>
              <a:path w="2506" h="1762">
                <a:moveTo>
                  <a:pt x="11435" y="9798"/>
                </a:moveTo>
                <a:cubicBezTo>
                  <a:pt x="11531" y="9960"/>
                  <a:pt x="11640" y="10099"/>
                  <a:pt x="11757" y="10244"/>
                </a:cubicBezTo>
                <a:cubicBezTo>
                  <a:pt x="11811" y="10310"/>
                  <a:pt x="11836" y="10389"/>
                  <a:pt x="11881" y="10319"/>
                </a:cubicBezTo>
              </a:path>
              <a:path w="2506" h="1762">
                <a:moveTo>
                  <a:pt x="11881" y="9823"/>
                </a:moveTo>
                <a:cubicBezTo>
                  <a:pt x="11724" y="9990"/>
                  <a:pt x="11640" y="10183"/>
                  <a:pt x="11534" y="10393"/>
                </a:cubicBezTo>
              </a:path>
              <a:path w="2506" h="1762">
                <a:moveTo>
                  <a:pt x="12303" y="9872"/>
                </a:moveTo>
                <a:cubicBezTo>
                  <a:pt x="12303" y="10032"/>
                  <a:pt x="12353" y="10163"/>
                  <a:pt x="12378" y="10319"/>
                </a:cubicBezTo>
                <a:cubicBezTo>
                  <a:pt x="12378" y="10335"/>
                  <a:pt x="12378" y="10352"/>
                  <a:pt x="12378" y="10368"/>
                </a:cubicBezTo>
                <a:cubicBezTo>
                  <a:pt x="12349" y="10161"/>
                  <a:pt x="12307" y="9958"/>
                  <a:pt x="12477" y="9798"/>
                </a:cubicBezTo>
                <a:cubicBezTo>
                  <a:pt x="12628" y="9656"/>
                  <a:pt x="12787" y="9745"/>
                  <a:pt x="12874" y="9897"/>
                </a:cubicBezTo>
                <a:cubicBezTo>
                  <a:pt x="12945" y="10021"/>
                  <a:pt x="12944" y="10198"/>
                  <a:pt x="12898" y="10319"/>
                </a:cubicBezTo>
              </a:path>
              <a:path w="2506" h="1762">
                <a:moveTo>
                  <a:pt x="11509" y="10740"/>
                </a:moveTo>
                <a:cubicBezTo>
                  <a:pt x="11566" y="10854"/>
                  <a:pt x="11693" y="10885"/>
                  <a:pt x="11832" y="10840"/>
                </a:cubicBezTo>
                <a:cubicBezTo>
                  <a:pt x="11961" y="10798"/>
                  <a:pt x="12026" y="10741"/>
                  <a:pt x="12129" y="10666"/>
                </a:cubicBezTo>
                <a:cubicBezTo>
                  <a:pt x="12201" y="10614"/>
                  <a:pt x="12222" y="10555"/>
                  <a:pt x="12254" y="10468"/>
                </a:cubicBezTo>
                <a:cubicBezTo>
                  <a:pt x="12290" y="10370"/>
                  <a:pt x="12269" y="10335"/>
                  <a:pt x="12254" y="10244"/>
                </a:cubicBezTo>
                <a:cubicBezTo>
                  <a:pt x="12246" y="10192"/>
                  <a:pt x="12233" y="10109"/>
                  <a:pt x="12229" y="10071"/>
                </a:cubicBezTo>
                <a:cubicBezTo>
                  <a:pt x="12221" y="9995"/>
                  <a:pt x="12211" y="9944"/>
                  <a:pt x="12179" y="9872"/>
                </a:cubicBezTo>
                <a:cubicBezTo>
                  <a:pt x="12149" y="9805"/>
                  <a:pt x="12111" y="9736"/>
                  <a:pt x="12080" y="9674"/>
                </a:cubicBezTo>
                <a:cubicBezTo>
                  <a:pt x="12053" y="9619"/>
                  <a:pt x="11987" y="9533"/>
                  <a:pt x="11931" y="9500"/>
                </a:cubicBezTo>
                <a:cubicBezTo>
                  <a:pt x="11867" y="9463"/>
                  <a:pt x="11704" y="9421"/>
                  <a:pt x="11633" y="9426"/>
                </a:cubicBezTo>
                <a:cubicBezTo>
                  <a:pt x="11584" y="9430"/>
                  <a:pt x="11423" y="9453"/>
                  <a:pt x="11385" y="9475"/>
                </a:cubicBezTo>
                <a:cubicBezTo>
                  <a:pt x="11298" y="9526"/>
                  <a:pt x="11245" y="9635"/>
                  <a:pt x="11212" y="9723"/>
                </a:cubicBezTo>
                <a:cubicBezTo>
                  <a:pt x="11168" y="9840"/>
                  <a:pt x="11187" y="9972"/>
                  <a:pt x="11187" y="10096"/>
                </a:cubicBezTo>
                <a:cubicBezTo>
                  <a:pt x="11187" y="10208"/>
                  <a:pt x="11209" y="10307"/>
                  <a:pt x="11212" y="10418"/>
                </a:cubicBezTo>
                <a:cubicBezTo>
                  <a:pt x="11215" y="10509"/>
                  <a:pt x="11226" y="10582"/>
                  <a:pt x="11237" y="10666"/>
                </a:cubicBezTo>
                <a:cubicBezTo>
                  <a:pt x="11244" y="10723"/>
                  <a:pt x="11272" y="10817"/>
                  <a:pt x="11336" y="10840"/>
                </a:cubicBezTo>
                <a:cubicBezTo>
                  <a:pt x="11452" y="10881"/>
                  <a:pt x="11583" y="10804"/>
                  <a:pt x="11683" y="10765"/>
                </a:cubicBezTo>
                <a:cubicBezTo>
                  <a:pt x="11743" y="10745"/>
                  <a:pt x="11757" y="10746"/>
                  <a:pt x="11782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3680" y="4062240"/>
            <a:ext cx="527040" cy="482760"/>
          </a:xfrm>
          <a:custGeom>
            <a:avLst/>
            <a:gdLst/>
            <a:ahLst/>
            <a:rect l="l" t="t" r="r" b="b"/>
            <a:pathLst>
              <a:path w="1465" h="1341">
                <a:moveTo>
                  <a:pt x="11137" y="11485"/>
                </a:moveTo>
                <a:cubicBezTo>
                  <a:pt x="11105" y="11626"/>
                  <a:pt x="11070" y="11765"/>
                  <a:pt x="11038" y="11906"/>
                </a:cubicBezTo>
                <a:cubicBezTo>
                  <a:pt x="11180" y="11954"/>
                  <a:pt x="11353" y="11910"/>
                  <a:pt x="11509" y="11956"/>
                </a:cubicBezTo>
                <a:cubicBezTo>
                  <a:pt x="11517" y="11964"/>
                  <a:pt x="11526" y="11973"/>
                  <a:pt x="11534" y="11981"/>
                </a:cubicBezTo>
              </a:path>
              <a:path w="1465" h="1341">
                <a:moveTo>
                  <a:pt x="11584" y="11286"/>
                </a:moveTo>
                <a:cubicBezTo>
                  <a:pt x="11573" y="11609"/>
                  <a:pt x="11551" y="11932"/>
                  <a:pt x="11534" y="12254"/>
                </a:cubicBezTo>
                <a:cubicBezTo>
                  <a:pt x="11529" y="12347"/>
                  <a:pt x="11520" y="12397"/>
                  <a:pt x="11509" y="12477"/>
                </a:cubicBezTo>
              </a:path>
              <a:path w="1465" h="1341">
                <a:moveTo>
                  <a:pt x="11906" y="12080"/>
                </a:moveTo>
                <a:cubicBezTo>
                  <a:pt x="11938" y="12200"/>
                  <a:pt x="11950" y="12304"/>
                  <a:pt x="11956" y="12427"/>
                </a:cubicBezTo>
                <a:cubicBezTo>
                  <a:pt x="11956" y="12551"/>
                  <a:pt x="11953" y="12238"/>
                  <a:pt x="11981" y="12179"/>
                </a:cubicBezTo>
                <a:cubicBezTo>
                  <a:pt x="12023" y="12090"/>
                  <a:pt x="12165" y="11931"/>
                  <a:pt x="12278" y="11931"/>
                </a:cubicBezTo>
                <a:cubicBezTo>
                  <a:pt x="12480" y="11931"/>
                  <a:pt x="12473" y="12256"/>
                  <a:pt x="12477" y="12378"/>
                </a:cubicBezTo>
                <a:cubicBezTo>
                  <a:pt x="12477" y="12511"/>
                  <a:pt x="12473" y="12546"/>
                  <a:pt x="12502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more than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84240" y="2116080"/>
            <a:ext cx="196920" cy="322200"/>
          </a:xfrm>
          <a:custGeom>
            <a:avLst/>
            <a:gdLst/>
            <a:ahLst/>
            <a:rect l="l" t="t" r="r" b="b"/>
            <a:pathLst>
              <a:path w="546" h="894">
                <a:moveTo>
                  <a:pt x="5259" y="5928"/>
                </a:moveTo>
                <a:cubicBezTo>
                  <a:pt x="5401" y="5877"/>
                  <a:pt x="5581" y="5838"/>
                  <a:pt x="5606" y="6052"/>
                </a:cubicBezTo>
                <a:cubicBezTo>
                  <a:pt x="5583" y="6209"/>
                  <a:pt x="5586" y="6253"/>
                  <a:pt x="5507" y="6325"/>
                </a:cubicBezTo>
                <a:cubicBezTo>
                  <a:pt x="5426" y="6352"/>
                  <a:pt x="5717" y="6231"/>
                  <a:pt x="5779" y="6449"/>
                </a:cubicBezTo>
                <a:cubicBezTo>
                  <a:pt x="5863" y="6742"/>
                  <a:pt x="5482" y="6773"/>
                  <a:pt x="5308" y="6747"/>
                </a:cubicBezTo>
                <a:cubicBezTo>
                  <a:pt x="5283" y="6739"/>
                  <a:pt x="5259" y="6730"/>
                  <a:pt x="5234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0760" y="2320920"/>
            <a:ext cx="250560" cy="196920"/>
          </a:xfrm>
          <a:custGeom>
            <a:avLst/>
            <a:gdLst/>
            <a:ahLst/>
            <a:rect l="l" t="t" r="r" b="b"/>
            <a:pathLst>
              <a:path w="696" h="547">
                <a:moveTo>
                  <a:pt x="10864" y="6449"/>
                </a:moveTo>
                <a:cubicBezTo>
                  <a:pt x="10925" y="6641"/>
                  <a:pt x="10971" y="6797"/>
                  <a:pt x="10988" y="6995"/>
                </a:cubicBezTo>
              </a:path>
              <a:path w="696" h="547">
                <a:moveTo>
                  <a:pt x="10641" y="6722"/>
                </a:moveTo>
                <a:cubicBezTo>
                  <a:pt x="10873" y="6657"/>
                  <a:pt x="11105" y="6591"/>
                  <a:pt x="11336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3040" y="2259000"/>
            <a:ext cx="187200" cy="241200"/>
          </a:xfrm>
          <a:custGeom>
            <a:avLst/>
            <a:gdLst/>
            <a:ahLst/>
            <a:rect l="l" t="t" r="r" b="b"/>
            <a:pathLst>
              <a:path w="522" h="670">
                <a:moveTo>
                  <a:pt x="17562" y="6400"/>
                </a:moveTo>
                <a:cubicBezTo>
                  <a:pt x="17696" y="6549"/>
                  <a:pt x="17816" y="6703"/>
                  <a:pt x="17959" y="6846"/>
                </a:cubicBezTo>
              </a:path>
              <a:path w="522" h="670">
                <a:moveTo>
                  <a:pt x="18083" y="6276"/>
                </a:moveTo>
                <a:cubicBezTo>
                  <a:pt x="17955" y="6498"/>
                  <a:pt x="17829" y="6718"/>
                  <a:pt x="17711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00680" y="3625920"/>
            <a:ext cx="285480" cy="428400"/>
          </a:xfrm>
          <a:custGeom>
            <a:avLst/>
            <a:gdLst/>
            <a:ahLst/>
            <a:rect l="l" t="t" r="r" b="b"/>
            <a:pathLst>
              <a:path w="795" h="1191">
                <a:moveTo>
                  <a:pt x="11311" y="10220"/>
                </a:moveTo>
                <a:cubicBezTo>
                  <a:pt x="11436" y="10095"/>
                  <a:pt x="11801" y="9908"/>
                  <a:pt x="11906" y="10195"/>
                </a:cubicBezTo>
                <a:cubicBezTo>
                  <a:pt x="11988" y="10419"/>
                  <a:pt x="11620" y="10607"/>
                  <a:pt x="11485" y="10616"/>
                </a:cubicBezTo>
                <a:cubicBezTo>
                  <a:pt x="11684" y="10655"/>
                  <a:pt x="12013" y="10642"/>
                  <a:pt x="11857" y="10988"/>
                </a:cubicBezTo>
                <a:cubicBezTo>
                  <a:pt x="11675" y="11392"/>
                  <a:pt x="11328" y="11269"/>
                  <a:pt x="11112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10080" y="3687840"/>
            <a:ext cx="633600" cy="285840"/>
          </a:xfrm>
          <a:custGeom>
            <a:avLst/>
            <a:gdLst/>
            <a:ahLst/>
            <a:rect l="l" t="t" r="r" b="b"/>
            <a:pathLst>
              <a:path w="1763" h="795">
                <a:moveTo>
                  <a:pt x="12799" y="10244"/>
                </a:moveTo>
                <a:cubicBezTo>
                  <a:pt x="12812" y="10427"/>
                  <a:pt x="12841" y="10607"/>
                  <a:pt x="12849" y="10790"/>
                </a:cubicBezTo>
              </a:path>
              <a:path w="1763" h="795">
                <a:moveTo>
                  <a:pt x="12526" y="10542"/>
                </a:moveTo>
                <a:cubicBezTo>
                  <a:pt x="12708" y="10542"/>
                  <a:pt x="12890" y="10542"/>
                  <a:pt x="13072" y="10542"/>
                </a:cubicBezTo>
              </a:path>
              <a:path w="1763" h="795">
                <a:moveTo>
                  <a:pt x="13543" y="10443"/>
                </a:moveTo>
                <a:cubicBezTo>
                  <a:pt x="13729" y="10601"/>
                  <a:pt x="13866" y="10728"/>
                  <a:pt x="14089" y="10840"/>
                </a:cubicBezTo>
              </a:path>
              <a:path w="1763" h="795">
                <a:moveTo>
                  <a:pt x="14288" y="10244"/>
                </a:moveTo>
                <a:cubicBezTo>
                  <a:pt x="14034" y="10441"/>
                  <a:pt x="13906" y="10725"/>
                  <a:pt x="13717" y="10988"/>
                </a:cubicBezTo>
                <a:cubicBezTo>
                  <a:pt x="13700" y="11005"/>
                  <a:pt x="13684" y="11021"/>
                  <a:pt x="13667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73280" y="3044880"/>
            <a:ext cx="2357640" cy="1305000"/>
          </a:xfrm>
          <a:custGeom>
            <a:avLst/>
            <a:gdLst/>
            <a:ahLst/>
            <a:rect l="l" t="t" r="r" b="b"/>
            <a:pathLst>
              <a:path w="6549" h="3623">
                <a:moveTo>
                  <a:pt x="10939" y="12055"/>
                </a:moveTo>
                <a:cubicBezTo>
                  <a:pt x="11566" y="12100"/>
                  <a:pt x="12197" y="12065"/>
                  <a:pt x="12824" y="12005"/>
                </a:cubicBezTo>
                <a:cubicBezTo>
                  <a:pt x="13837" y="11907"/>
                  <a:pt x="15080" y="11823"/>
                  <a:pt x="15850" y="11063"/>
                </a:cubicBezTo>
                <a:cubicBezTo>
                  <a:pt x="16515" y="10407"/>
                  <a:pt x="16139" y="9698"/>
                  <a:pt x="15528" y="9203"/>
                </a:cubicBezTo>
                <a:cubicBezTo>
                  <a:pt x="14729" y="8556"/>
                  <a:pt x="13668" y="8399"/>
                  <a:pt x="12675" y="8483"/>
                </a:cubicBezTo>
                <a:cubicBezTo>
                  <a:pt x="11708" y="8565"/>
                  <a:pt x="10357" y="8870"/>
                  <a:pt x="9773" y="9748"/>
                </a:cubicBezTo>
                <a:cubicBezTo>
                  <a:pt x="9432" y="10262"/>
                  <a:pt x="9742" y="11169"/>
                  <a:pt x="10244" y="11460"/>
                </a:cubicBezTo>
                <a:cubicBezTo>
                  <a:pt x="10434" y="11518"/>
                  <a:pt x="10625" y="11575"/>
                  <a:pt x="10815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ing Express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in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less than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3800" y="1714680"/>
            <a:ext cx="2741400" cy="795240"/>
          </a:xfrm>
          <a:custGeom>
            <a:avLst/>
            <a:gdLst/>
            <a:ahLst/>
            <a:rect l="l" t="t" r="r" b="b"/>
            <a:pathLst>
              <a:path w="7616" h="2209">
                <a:moveTo>
                  <a:pt x="8806" y="5482"/>
                </a:moveTo>
                <a:cubicBezTo>
                  <a:pt x="8623" y="5502"/>
                  <a:pt x="8765" y="5514"/>
                  <a:pt x="8905" y="5507"/>
                </a:cubicBezTo>
                <a:cubicBezTo>
                  <a:pt x="9130" y="5495"/>
                  <a:pt x="9315" y="5453"/>
                  <a:pt x="9525" y="5383"/>
                </a:cubicBezTo>
                <a:cubicBezTo>
                  <a:pt x="9552" y="5783"/>
                  <a:pt x="9500" y="6205"/>
                  <a:pt x="9401" y="6598"/>
                </a:cubicBezTo>
                <a:cubicBezTo>
                  <a:pt x="9349" y="6738"/>
                  <a:pt x="9324" y="6742"/>
                  <a:pt x="9327" y="6821"/>
                </a:cubicBezTo>
              </a:path>
              <a:path w="7616" h="2209">
                <a:moveTo>
                  <a:pt x="12204" y="6747"/>
                </a:moveTo>
                <a:cubicBezTo>
                  <a:pt x="12356" y="6763"/>
                  <a:pt x="12497" y="6772"/>
                  <a:pt x="12650" y="6772"/>
                </a:cubicBezTo>
              </a:path>
              <a:path w="7616" h="2209">
                <a:moveTo>
                  <a:pt x="15528" y="6548"/>
                </a:moveTo>
                <a:cubicBezTo>
                  <a:pt x="15581" y="6689"/>
                  <a:pt x="15631" y="6841"/>
                  <a:pt x="15701" y="6970"/>
                </a:cubicBezTo>
                <a:cubicBezTo>
                  <a:pt x="15630" y="6765"/>
                  <a:pt x="15589" y="6604"/>
                  <a:pt x="15801" y="6449"/>
                </a:cubicBezTo>
                <a:cubicBezTo>
                  <a:pt x="15968" y="6327"/>
                  <a:pt x="16141" y="6348"/>
                  <a:pt x="16321" y="6400"/>
                </a:cubicBezTo>
              </a:path>
              <a:path w="7616" h="2209">
                <a:moveTo>
                  <a:pt x="10368" y="5358"/>
                </a:moveTo>
                <a:cubicBezTo>
                  <a:pt x="10527" y="5164"/>
                  <a:pt x="10654" y="5058"/>
                  <a:pt x="10889" y="4961"/>
                </a:cubicBezTo>
                <a:cubicBezTo>
                  <a:pt x="11216" y="4826"/>
                  <a:pt x="11527" y="4776"/>
                  <a:pt x="11881" y="4762"/>
                </a:cubicBezTo>
                <a:cubicBezTo>
                  <a:pt x="12267" y="4747"/>
                  <a:pt x="12642" y="4814"/>
                  <a:pt x="13022" y="4862"/>
                </a:cubicBezTo>
                <a:cubicBezTo>
                  <a:pt x="13352" y="4904"/>
                  <a:pt x="13672" y="4943"/>
                  <a:pt x="13990" y="5035"/>
                </a:cubicBezTo>
                <a:cubicBezTo>
                  <a:pt x="14328" y="5132"/>
                  <a:pt x="14714" y="5284"/>
                  <a:pt x="15007" y="5482"/>
                </a:cubicBezTo>
                <a:cubicBezTo>
                  <a:pt x="15188" y="5605"/>
                  <a:pt x="15338" y="6177"/>
                  <a:pt x="15429" y="5978"/>
                </a:cubicBezTo>
                <a:cubicBezTo>
                  <a:pt x="15460" y="5910"/>
                  <a:pt x="15386" y="5672"/>
                  <a:pt x="15379" y="5581"/>
                </a:cubicBezTo>
                <a:cubicBezTo>
                  <a:pt x="15371" y="5564"/>
                  <a:pt x="15362" y="5548"/>
                  <a:pt x="15354" y="5531"/>
                </a:cubicBezTo>
                <a:cubicBezTo>
                  <a:pt x="15413" y="5747"/>
                  <a:pt x="15446" y="5929"/>
                  <a:pt x="15453" y="6152"/>
                </a:cubicBezTo>
                <a:cubicBezTo>
                  <a:pt x="15286" y="6159"/>
                  <a:pt x="15169" y="6125"/>
                  <a:pt x="15007" y="6077"/>
                </a:cubicBezTo>
              </a:path>
              <a:path w="7616" h="2209">
                <a:moveTo>
                  <a:pt x="10195" y="4986"/>
                </a:moveTo>
                <a:cubicBezTo>
                  <a:pt x="10216" y="5185"/>
                  <a:pt x="10209" y="5359"/>
                  <a:pt x="10195" y="5556"/>
                </a:cubicBezTo>
                <a:cubicBezTo>
                  <a:pt x="10378" y="5549"/>
                  <a:pt x="10557" y="5531"/>
                  <a:pt x="10740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2960" y="3697200"/>
            <a:ext cx="963720" cy="339840"/>
          </a:xfrm>
          <a:custGeom>
            <a:avLst/>
            <a:gdLst/>
            <a:ahLst/>
            <a:rect l="l" t="t" r="r" b="b"/>
            <a:pathLst>
              <a:path w="2680" h="944">
                <a:moveTo>
                  <a:pt x="11534" y="10443"/>
                </a:moveTo>
                <a:cubicBezTo>
                  <a:pt x="11609" y="10689"/>
                  <a:pt x="11666" y="10940"/>
                  <a:pt x="11733" y="11187"/>
                </a:cubicBezTo>
                <a:cubicBezTo>
                  <a:pt x="11741" y="11195"/>
                  <a:pt x="11749" y="11204"/>
                  <a:pt x="11757" y="11212"/>
                </a:cubicBezTo>
                <a:cubicBezTo>
                  <a:pt x="11600" y="10939"/>
                  <a:pt x="11509" y="10725"/>
                  <a:pt x="11782" y="10468"/>
                </a:cubicBezTo>
                <a:cubicBezTo>
                  <a:pt x="11976" y="10285"/>
                  <a:pt x="12122" y="10376"/>
                  <a:pt x="12303" y="10492"/>
                </a:cubicBezTo>
              </a:path>
              <a:path w="2680" h="944">
                <a:moveTo>
                  <a:pt x="12725" y="10815"/>
                </a:moveTo>
                <a:cubicBezTo>
                  <a:pt x="12866" y="10826"/>
                  <a:pt x="13009" y="10835"/>
                  <a:pt x="13146" y="10864"/>
                </a:cubicBezTo>
              </a:path>
              <a:path w="2680" h="944">
                <a:moveTo>
                  <a:pt x="13543" y="10269"/>
                </a:moveTo>
                <a:cubicBezTo>
                  <a:pt x="13720" y="10291"/>
                  <a:pt x="13883" y="10316"/>
                  <a:pt x="14064" y="10319"/>
                </a:cubicBezTo>
                <a:cubicBezTo>
                  <a:pt x="14155" y="10319"/>
                  <a:pt x="14163" y="10319"/>
                  <a:pt x="14213" y="10319"/>
                </a:cubicBezTo>
                <a:cubicBezTo>
                  <a:pt x="14181" y="10568"/>
                  <a:pt x="14148" y="10841"/>
                  <a:pt x="14089" y="11088"/>
                </a:cubicBezTo>
                <a:cubicBezTo>
                  <a:pt x="14081" y="11104"/>
                  <a:pt x="14072" y="11121"/>
                  <a:pt x="14064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67080" y="3340080"/>
            <a:ext cx="2367000" cy="1143000"/>
          </a:xfrm>
          <a:custGeom>
            <a:avLst/>
            <a:gdLst/>
            <a:ahLst/>
            <a:rect l="l" t="t" r="r" b="b"/>
            <a:pathLst>
              <a:path w="6575" h="3176">
                <a:moveTo>
                  <a:pt x="11410" y="12080"/>
                </a:moveTo>
                <a:cubicBezTo>
                  <a:pt x="11662" y="12139"/>
                  <a:pt x="11920" y="12188"/>
                  <a:pt x="12179" y="12229"/>
                </a:cubicBezTo>
                <a:cubicBezTo>
                  <a:pt x="12905" y="12343"/>
                  <a:pt x="13569" y="12272"/>
                  <a:pt x="14288" y="12154"/>
                </a:cubicBezTo>
                <a:cubicBezTo>
                  <a:pt x="14647" y="12095"/>
                  <a:pt x="14975" y="12031"/>
                  <a:pt x="15280" y="11832"/>
                </a:cubicBezTo>
                <a:cubicBezTo>
                  <a:pt x="15538" y="11664"/>
                  <a:pt x="15771" y="11479"/>
                  <a:pt x="15875" y="11187"/>
                </a:cubicBezTo>
                <a:cubicBezTo>
                  <a:pt x="15974" y="10910"/>
                  <a:pt x="15913" y="10567"/>
                  <a:pt x="15825" y="10294"/>
                </a:cubicBezTo>
                <a:cubicBezTo>
                  <a:pt x="15591" y="9569"/>
                  <a:pt x="14945" y="9256"/>
                  <a:pt x="14238" y="9302"/>
                </a:cubicBezTo>
                <a:cubicBezTo>
                  <a:pt x="13773" y="9332"/>
                  <a:pt x="13312" y="9403"/>
                  <a:pt x="12849" y="9451"/>
                </a:cubicBezTo>
                <a:cubicBezTo>
                  <a:pt x="12140" y="9524"/>
                  <a:pt x="11492" y="9672"/>
                  <a:pt x="10815" y="9897"/>
                </a:cubicBezTo>
                <a:cubicBezTo>
                  <a:pt x="10352" y="10051"/>
                  <a:pt x="9776" y="10203"/>
                  <a:pt x="9500" y="10641"/>
                </a:cubicBezTo>
                <a:cubicBezTo>
                  <a:pt x="9258" y="11026"/>
                  <a:pt x="9307" y="11620"/>
                  <a:pt x="9575" y="11981"/>
                </a:cubicBezTo>
                <a:cubicBezTo>
                  <a:pt x="9880" y="12391"/>
                  <a:pt x="10421" y="12460"/>
                  <a:pt x="10889" y="12452"/>
                </a:cubicBezTo>
                <a:cubicBezTo>
                  <a:pt x="11196" y="12447"/>
                  <a:pt x="11484" y="12371"/>
                  <a:pt x="11782" y="12328"/>
                </a:cubicBezTo>
                <a:cubicBezTo>
                  <a:pt x="11815" y="12328"/>
                  <a:pt x="11848" y="12328"/>
                  <a:pt x="11881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 more than twice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4000" y="1990800"/>
            <a:ext cx="320760" cy="314280"/>
          </a:xfrm>
          <a:custGeom>
            <a:avLst/>
            <a:gdLst/>
            <a:ahLst/>
            <a:rect l="l" t="t" r="r" b="b"/>
            <a:pathLst>
              <a:path w="894" h="870">
                <a:moveTo>
                  <a:pt x="3398" y="5531"/>
                </a:moveTo>
                <a:cubicBezTo>
                  <a:pt x="3466" y="5819"/>
                  <a:pt x="3488" y="6103"/>
                  <a:pt x="3497" y="6400"/>
                </a:cubicBezTo>
              </a:path>
              <a:path w="894" h="870">
                <a:moveTo>
                  <a:pt x="3994" y="5531"/>
                </a:moveTo>
                <a:cubicBezTo>
                  <a:pt x="3959" y="5775"/>
                  <a:pt x="3878" y="6067"/>
                  <a:pt x="3994" y="6300"/>
                </a:cubicBezTo>
                <a:cubicBezTo>
                  <a:pt x="4019" y="6325"/>
                  <a:pt x="4043" y="6350"/>
                  <a:pt x="4068" y="6375"/>
                </a:cubicBezTo>
                <a:cubicBezTo>
                  <a:pt x="4262" y="6297"/>
                  <a:pt x="4345" y="6131"/>
                  <a:pt x="4291" y="5904"/>
                </a:cubicBezTo>
                <a:cubicBezTo>
                  <a:pt x="4260" y="5774"/>
                  <a:pt x="4133" y="5681"/>
                  <a:pt x="4018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59040" y="2089080"/>
            <a:ext cx="277920" cy="268200"/>
          </a:xfrm>
          <a:custGeom>
            <a:avLst/>
            <a:gdLst/>
            <a:ahLst/>
            <a:rect l="l" t="t" r="r" b="b"/>
            <a:pathLst>
              <a:path w="770" h="745">
                <a:moveTo>
                  <a:pt x="7962" y="5804"/>
                </a:moveTo>
                <a:cubicBezTo>
                  <a:pt x="7962" y="6037"/>
                  <a:pt x="7981" y="6266"/>
                  <a:pt x="7987" y="6499"/>
                </a:cubicBezTo>
                <a:cubicBezTo>
                  <a:pt x="7987" y="6515"/>
                  <a:pt x="7987" y="6532"/>
                  <a:pt x="7987" y="6548"/>
                </a:cubicBezTo>
              </a:path>
              <a:path w="770" h="745">
                <a:moveTo>
                  <a:pt x="7665" y="6176"/>
                </a:moveTo>
                <a:cubicBezTo>
                  <a:pt x="7903" y="6216"/>
                  <a:pt x="8144" y="6250"/>
                  <a:pt x="8384" y="6276"/>
                </a:cubicBezTo>
                <a:cubicBezTo>
                  <a:pt x="8401" y="6276"/>
                  <a:pt x="8417" y="6276"/>
                  <a:pt x="8434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64000" y="1963800"/>
            <a:ext cx="509760" cy="411120"/>
          </a:xfrm>
          <a:custGeom>
            <a:avLst/>
            <a:gdLst/>
            <a:ahLst/>
            <a:rect l="l" t="t" r="r" b="b"/>
            <a:pathLst>
              <a:path w="1415" h="1142">
                <a:moveTo>
                  <a:pt x="12526" y="5755"/>
                </a:moveTo>
                <a:cubicBezTo>
                  <a:pt x="12575" y="5629"/>
                  <a:pt x="12599" y="5536"/>
                  <a:pt x="12725" y="5482"/>
                </a:cubicBezTo>
                <a:cubicBezTo>
                  <a:pt x="12842" y="5432"/>
                  <a:pt x="12936" y="5451"/>
                  <a:pt x="12973" y="5581"/>
                </a:cubicBezTo>
                <a:cubicBezTo>
                  <a:pt x="13007" y="5701"/>
                  <a:pt x="12940" y="5810"/>
                  <a:pt x="12874" y="5904"/>
                </a:cubicBezTo>
                <a:cubicBezTo>
                  <a:pt x="12785" y="6031"/>
                  <a:pt x="12651" y="6091"/>
                  <a:pt x="12551" y="6201"/>
                </a:cubicBezTo>
                <a:cubicBezTo>
                  <a:pt x="12459" y="6302"/>
                  <a:pt x="12470" y="6459"/>
                  <a:pt x="12427" y="6573"/>
                </a:cubicBezTo>
                <a:cubicBezTo>
                  <a:pt x="12419" y="6581"/>
                  <a:pt x="12410" y="6590"/>
                  <a:pt x="12402" y="6598"/>
                </a:cubicBezTo>
                <a:cubicBezTo>
                  <a:pt x="12465" y="6535"/>
                  <a:pt x="12537" y="6424"/>
                  <a:pt x="12626" y="6400"/>
                </a:cubicBezTo>
                <a:cubicBezTo>
                  <a:pt x="12737" y="6369"/>
                  <a:pt x="12756" y="6504"/>
                  <a:pt x="12824" y="6548"/>
                </a:cubicBezTo>
                <a:cubicBezTo>
                  <a:pt x="12930" y="6616"/>
                  <a:pt x="12983" y="6594"/>
                  <a:pt x="13072" y="6524"/>
                </a:cubicBezTo>
              </a:path>
              <a:path w="1415" h="1142">
                <a:moveTo>
                  <a:pt x="13444" y="5953"/>
                </a:moveTo>
                <a:cubicBezTo>
                  <a:pt x="13491" y="6142"/>
                  <a:pt x="13609" y="6264"/>
                  <a:pt x="13717" y="6424"/>
                </a:cubicBezTo>
                <a:cubicBezTo>
                  <a:pt x="13742" y="6474"/>
                  <a:pt x="13750" y="6491"/>
                  <a:pt x="13767" y="6524"/>
                </a:cubicBezTo>
              </a:path>
              <a:path w="1415" h="1142">
                <a:moveTo>
                  <a:pt x="13816" y="5953"/>
                </a:moveTo>
                <a:cubicBezTo>
                  <a:pt x="13682" y="6157"/>
                  <a:pt x="13528" y="6347"/>
                  <a:pt x="13395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97760" y="1785960"/>
            <a:ext cx="320400" cy="455760"/>
          </a:xfrm>
          <a:custGeom>
            <a:avLst/>
            <a:gdLst/>
            <a:ahLst/>
            <a:rect l="l" t="t" r="r" b="b"/>
            <a:pathLst>
              <a:path w="894" h="1266">
                <a:moveTo>
                  <a:pt x="17562" y="4961"/>
                </a:moveTo>
                <a:cubicBezTo>
                  <a:pt x="17587" y="5186"/>
                  <a:pt x="17581" y="5354"/>
                  <a:pt x="17537" y="5581"/>
                </a:cubicBezTo>
                <a:cubicBezTo>
                  <a:pt x="17500" y="5771"/>
                  <a:pt x="17410" y="6028"/>
                  <a:pt x="17587" y="6176"/>
                </a:cubicBezTo>
                <a:cubicBezTo>
                  <a:pt x="17741" y="6304"/>
                  <a:pt x="17970" y="6110"/>
                  <a:pt x="18107" y="6028"/>
                </a:cubicBezTo>
              </a:path>
              <a:path w="894" h="1266">
                <a:moveTo>
                  <a:pt x="17214" y="5631"/>
                </a:moveTo>
                <a:cubicBezTo>
                  <a:pt x="17487" y="5564"/>
                  <a:pt x="17705" y="5546"/>
                  <a:pt x="17983" y="5556"/>
                </a:cubicBezTo>
                <a:cubicBezTo>
                  <a:pt x="18000" y="5556"/>
                  <a:pt x="18016" y="5556"/>
                  <a:pt x="18033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9960" y="3643200"/>
            <a:ext cx="339840" cy="349200"/>
          </a:xfrm>
          <a:custGeom>
            <a:avLst/>
            <a:gdLst/>
            <a:ahLst/>
            <a:rect l="l" t="t" r="r" b="b"/>
            <a:pathLst>
              <a:path w="944" h="969">
                <a:moveTo>
                  <a:pt x="8458" y="10120"/>
                </a:moveTo>
                <a:cubicBezTo>
                  <a:pt x="8445" y="10439"/>
                  <a:pt x="8429" y="10751"/>
                  <a:pt x="8359" y="11063"/>
                </a:cubicBezTo>
              </a:path>
              <a:path w="944" h="969">
                <a:moveTo>
                  <a:pt x="8954" y="10269"/>
                </a:moveTo>
                <a:cubicBezTo>
                  <a:pt x="8903" y="10477"/>
                  <a:pt x="8810" y="10666"/>
                  <a:pt x="8806" y="10889"/>
                </a:cubicBezTo>
                <a:cubicBezTo>
                  <a:pt x="8814" y="10939"/>
                  <a:pt x="8822" y="10988"/>
                  <a:pt x="8830" y="11038"/>
                </a:cubicBezTo>
                <a:cubicBezTo>
                  <a:pt x="9068" y="11071"/>
                  <a:pt x="9376" y="10957"/>
                  <a:pt x="9302" y="10616"/>
                </a:cubicBezTo>
                <a:cubicBezTo>
                  <a:pt x="9258" y="10412"/>
                  <a:pt x="9090" y="10356"/>
                  <a:pt x="8930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4920" y="3751200"/>
            <a:ext cx="19692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10046" y="10418"/>
                </a:moveTo>
                <a:cubicBezTo>
                  <a:pt x="10046" y="10615"/>
                  <a:pt x="10000" y="10817"/>
                  <a:pt x="10021" y="11013"/>
                </a:cubicBezTo>
                <a:cubicBezTo>
                  <a:pt x="10029" y="11030"/>
                  <a:pt x="10038" y="11046"/>
                  <a:pt x="10046" y="11063"/>
                </a:cubicBezTo>
              </a:path>
              <a:path w="547" h="646">
                <a:moveTo>
                  <a:pt x="9847" y="10790"/>
                </a:moveTo>
                <a:cubicBezTo>
                  <a:pt x="10030" y="10753"/>
                  <a:pt x="10210" y="10710"/>
                  <a:pt x="10393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19680" y="3616200"/>
            <a:ext cx="750600" cy="376200"/>
          </a:xfrm>
          <a:custGeom>
            <a:avLst/>
            <a:gdLst/>
            <a:ahLst/>
            <a:rect l="l" t="t" r="r" b="b"/>
            <a:pathLst>
              <a:path w="2085" h="1043">
                <a:moveTo>
                  <a:pt x="11088" y="10220"/>
                </a:moveTo>
                <a:cubicBezTo>
                  <a:pt x="11225" y="10334"/>
                  <a:pt x="11416" y="10362"/>
                  <a:pt x="11460" y="10567"/>
                </a:cubicBezTo>
                <a:cubicBezTo>
                  <a:pt x="11539" y="10935"/>
                  <a:pt x="11129" y="11005"/>
                  <a:pt x="10889" y="11013"/>
                </a:cubicBezTo>
                <a:cubicBezTo>
                  <a:pt x="10941" y="10794"/>
                  <a:pt x="11033" y="10724"/>
                  <a:pt x="11261" y="10840"/>
                </a:cubicBezTo>
                <a:cubicBezTo>
                  <a:pt x="11351" y="10886"/>
                  <a:pt x="11428" y="10977"/>
                  <a:pt x="11509" y="11038"/>
                </a:cubicBezTo>
              </a:path>
              <a:path w="2085" h="1043">
                <a:moveTo>
                  <a:pt x="11708" y="10616"/>
                </a:moveTo>
                <a:cubicBezTo>
                  <a:pt x="11837" y="10746"/>
                  <a:pt x="11969" y="10866"/>
                  <a:pt x="12105" y="10988"/>
                </a:cubicBezTo>
              </a:path>
              <a:path w="2085" h="1043">
                <a:moveTo>
                  <a:pt x="12129" y="10542"/>
                </a:moveTo>
                <a:cubicBezTo>
                  <a:pt x="12004" y="10724"/>
                  <a:pt x="11892" y="10943"/>
                  <a:pt x="11733" y="11088"/>
                </a:cubicBezTo>
              </a:path>
              <a:path w="2085" h="1043">
                <a:moveTo>
                  <a:pt x="12626" y="10046"/>
                </a:moveTo>
                <a:cubicBezTo>
                  <a:pt x="12583" y="10144"/>
                  <a:pt x="12547" y="10239"/>
                  <a:pt x="12526" y="10344"/>
                </a:cubicBezTo>
                <a:cubicBezTo>
                  <a:pt x="12490" y="10527"/>
                  <a:pt x="12477" y="10703"/>
                  <a:pt x="12477" y="10889"/>
                </a:cubicBezTo>
                <a:cubicBezTo>
                  <a:pt x="12477" y="10931"/>
                  <a:pt x="12477" y="10939"/>
                  <a:pt x="12477" y="10964"/>
                </a:cubicBezTo>
                <a:cubicBezTo>
                  <a:pt x="12640" y="10964"/>
                  <a:pt x="12730" y="10946"/>
                  <a:pt x="12874" y="10864"/>
                </a:cubicBezTo>
                <a:cubicBezTo>
                  <a:pt x="12939" y="10821"/>
                  <a:pt x="12959" y="10815"/>
                  <a:pt x="12973" y="10765"/>
                </a:cubicBezTo>
              </a:path>
              <a:path w="2085" h="1043">
                <a:moveTo>
                  <a:pt x="12278" y="10418"/>
                </a:moveTo>
                <a:cubicBezTo>
                  <a:pt x="12445" y="10400"/>
                  <a:pt x="12609" y="10363"/>
                  <a:pt x="12774" y="10344"/>
                </a:cubicBezTo>
                <a:cubicBezTo>
                  <a:pt x="12791" y="10344"/>
                  <a:pt x="12807" y="10344"/>
                  <a:pt x="12824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741840"/>
            <a:ext cx="1241280" cy="965160"/>
          </a:xfrm>
          <a:custGeom>
            <a:avLst/>
            <a:gdLst/>
            <a:ahLst/>
            <a:rect l="l" t="t" r="r" b="b"/>
            <a:pathLst>
              <a:path w="3449" h="2680">
                <a:moveTo>
                  <a:pt x="9103" y="12254"/>
                </a:moveTo>
                <a:cubicBezTo>
                  <a:pt x="9120" y="12507"/>
                  <a:pt x="9160" y="12777"/>
                  <a:pt x="9103" y="13022"/>
                </a:cubicBezTo>
              </a:path>
              <a:path w="3449" h="2680">
                <a:moveTo>
                  <a:pt x="9525" y="12378"/>
                </a:moveTo>
                <a:cubicBezTo>
                  <a:pt x="9432" y="12504"/>
                  <a:pt x="9350" y="12792"/>
                  <a:pt x="9401" y="12973"/>
                </a:cubicBezTo>
                <a:cubicBezTo>
                  <a:pt x="9426" y="13006"/>
                  <a:pt x="9450" y="13039"/>
                  <a:pt x="9475" y="13072"/>
                </a:cubicBezTo>
                <a:cubicBezTo>
                  <a:pt x="9675" y="12995"/>
                  <a:pt x="9912" y="12851"/>
                  <a:pt x="9823" y="12576"/>
                </a:cubicBezTo>
                <a:cubicBezTo>
                  <a:pt x="9775" y="12427"/>
                  <a:pt x="9623" y="12418"/>
                  <a:pt x="9500" y="12378"/>
                </a:cubicBezTo>
              </a:path>
              <a:path w="3449" h="2680">
                <a:moveTo>
                  <a:pt x="10418" y="12452"/>
                </a:moveTo>
                <a:cubicBezTo>
                  <a:pt x="10427" y="12622"/>
                  <a:pt x="10439" y="12786"/>
                  <a:pt x="10492" y="12948"/>
                </a:cubicBezTo>
              </a:path>
              <a:path w="3449" h="2680">
                <a:moveTo>
                  <a:pt x="10244" y="12725"/>
                </a:moveTo>
                <a:cubicBezTo>
                  <a:pt x="10474" y="12703"/>
                  <a:pt x="10685" y="12652"/>
                  <a:pt x="10914" y="12601"/>
                </a:cubicBezTo>
              </a:path>
              <a:path w="3449" h="2680">
                <a:moveTo>
                  <a:pt x="11658" y="11063"/>
                </a:moveTo>
                <a:cubicBezTo>
                  <a:pt x="11810" y="11191"/>
                  <a:pt x="11902" y="11212"/>
                  <a:pt x="12105" y="11162"/>
                </a:cubicBezTo>
                <a:cubicBezTo>
                  <a:pt x="12311" y="11111"/>
                  <a:pt x="12351" y="11056"/>
                  <a:pt x="12452" y="10889"/>
                </a:cubicBezTo>
                <a:cubicBezTo>
                  <a:pt x="12513" y="10789"/>
                  <a:pt x="12517" y="10733"/>
                  <a:pt x="12477" y="10616"/>
                </a:cubicBezTo>
                <a:cubicBezTo>
                  <a:pt x="12444" y="10519"/>
                  <a:pt x="12395" y="10479"/>
                  <a:pt x="12303" y="10443"/>
                </a:cubicBezTo>
                <a:cubicBezTo>
                  <a:pt x="12225" y="10413"/>
                  <a:pt x="12161" y="10397"/>
                  <a:pt x="12080" y="10393"/>
                </a:cubicBezTo>
                <a:cubicBezTo>
                  <a:pt x="11991" y="10389"/>
                  <a:pt x="11892" y="10399"/>
                  <a:pt x="11807" y="10418"/>
                </a:cubicBezTo>
                <a:cubicBezTo>
                  <a:pt x="11688" y="10445"/>
                  <a:pt x="11642" y="10560"/>
                  <a:pt x="11609" y="10666"/>
                </a:cubicBezTo>
                <a:cubicBezTo>
                  <a:pt x="11565" y="10807"/>
                  <a:pt x="11588" y="10871"/>
                  <a:pt x="11658" y="10988"/>
                </a:cubicBezTo>
                <a:cubicBezTo>
                  <a:pt x="11747" y="11137"/>
                  <a:pt x="11816" y="11141"/>
                  <a:pt x="11981" y="11112"/>
                </a:cubicBezTo>
                <a:cubicBezTo>
                  <a:pt x="12055" y="11094"/>
                  <a:pt x="12062" y="11086"/>
                  <a:pt x="12105" y="11088"/>
                </a:cubicBezTo>
              </a:path>
              <a:path w="3449" h="2680">
                <a:moveTo>
                  <a:pt x="11212" y="12278"/>
                </a:moveTo>
                <a:cubicBezTo>
                  <a:pt x="11352" y="12152"/>
                  <a:pt x="11401" y="12146"/>
                  <a:pt x="11584" y="12179"/>
                </a:cubicBezTo>
                <a:cubicBezTo>
                  <a:pt x="11616" y="12451"/>
                  <a:pt x="11500" y="12536"/>
                  <a:pt x="11311" y="12725"/>
                </a:cubicBezTo>
                <a:cubicBezTo>
                  <a:pt x="11212" y="12824"/>
                  <a:pt x="11113" y="12924"/>
                  <a:pt x="11013" y="13022"/>
                </a:cubicBezTo>
                <a:cubicBezTo>
                  <a:pt x="11138" y="12998"/>
                  <a:pt x="11227" y="12897"/>
                  <a:pt x="11361" y="12874"/>
                </a:cubicBezTo>
                <a:cubicBezTo>
                  <a:pt x="11547" y="12843"/>
                  <a:pt x="11566" y="12962"/>
                  <a:pt x="11708" y="12973"/>
                </a:cubicBezTo>
                <a:cubicBezTo>
                  <a:pt x="11733" y="12965"/>
                  <a:pt x="11757" y="12956"/>
                  <a:pt x="11782" y="12948"/>
                </a:cubicBezTo>
              </a:path>
              <a:path w="3449" h="2680">
                <a:moveTo>
                  <a:pt x="12055" y="12179"/>
                </a:moveTo>
                <a:cubicBezTo>
                  <a:pt x="12079" y="12347"/>
                  <a:pt x="12078" y="12477"/>
                  <a:pt x="12055" y="12650"/>
                </a:cubicBezTo>
                <a:cubicBezTo>
                  <a:pt x="12029" y="12841"/>
                  <a:pt x="11976" y="12928"/>
                  <a:pt x="12204" y="12948"/>
                </a:cubicBezTo>
                <a:cubicBezTo>
                  <a:pt x="12342" y="12960"/>
                  <a:pt x="12426" y="12918"/>
                  <a:pt x="12551" y="12874"/>
                </a:cubicBezTo>
              </a:path>
              <a:path w="3449" h="2680">
                <a:moveTo>
                  <a:pt x="11906" y="12551"/>
                </a:moveTo>
                <a:cubicBezTo>
                  <a:pt x="12122" y="12543"/>
                  <a:pt x="12334" y="12526"/>
                  <a:pt x="1255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01960" y="4125960"/>
            <a:ext cx="2224080" cy="795240"/>
          </a:xfrm>
          <a:custGeom>
            <a:avLst/>
            <a:gdLst/>
            <a:ahLst/>
            <a:rect l="l" t="t" r="r" b="b"/>
            <a:pathLst>
              <a:path w="6177" h="2208">
                <a:moveTo>
                  <a:pt x="9624" y="13643"/>
                </a:moveTo>
                <a:cubicBezTo>
                  <a:pt x="9922" y="13631"/>
                  <a:pt x="10217" y="13605"/>
                  <a:pt x="10517" y="13618"/>
                </a:cubicBezTo>
                <a:cubicBezTo>
                  <a:pt x="10985" y="13638"/>
                  <a:pt x="11437" y="13665"/>
                  <a:pt x="11906" y="13643"/>
                </a:cubicBezTo>
                <a:cubicBezTo>
                  <a:pt x="12268" y="13626"/>
                  <a:pt x="12638" y="13600"/>
                  <a:pt x="12998" y="13568"/>
                </a:cubicBezTo>
                <a:cubicBezTo>
                  <a:pt x="13222" y="13548"/>
                  <a:pt x="13463" y="13511"/>
                  <a:pt x="13667" y="13419"/>
                </a:cubicBezTo>
                <a:cubicBezTo>
                  <a:pt x="13800" y="13360"/>
                  <a:pt x="13844" y="13292"/>
                  <a:pt x="13940" y="13196"/>
                </a:cubicBezTo>
                <a:cubicBezTo>
                  <a:pt x="14071" y="13065"/>
                  <a:pt x="14134" y="12978"/>
                  <a:pt x="14188" y="12799"/>
                </a:cubicBezTo>
                <a:cubicBezTo>
                  <a:pt x="14217" y="12703"/>
                  <a:pt x="14261" y="12578"/>
                  <a:pt x="14238" y="12477"/>
                </a:cubicBezTo>
                <a:cubicBezTo>
                  <a:pt x="14213" y="12370"/>
                  <a:pt x="14127" y="12325"/>
                  <a:pt x="14039" y="12278"/>
                </a:cubicBezTo>
                <a:cubicBezTo>
                  <a:pt x="13750" y="12126"/>
                  <a:pt x="13409" y="12029"/>
                  <a:pt x="13097" y="11931"/>
                </a:cubicBezTo>
                <a:cubicBezTo>
                  <a:pt x="12847" y="11852"/>
                  <a:pt x="12608" y="11788"/>
                  <a:pt x="12353" y="11733"/>
                </a:cubicBezTo>
                <a:cubicBezTo>
                  <a:pt x="12079" y="11673"/>
                  <a:pt x="11807" y="11619"/>
                  <a:pt x="11534" y="11559"/>
                </a:cubicBezTo>
                <a:cubicBezTo>
                  <a:pt x="11248" y="11496"/>
                  <a:pt x="10985" y="11463"/>
                  <a:pt x="10691" y="11460"/>
                </a:cubicBezTo>
                <a:cubicBezTo>
                  <a:pt x="10270" y="11455"/>
                  <a:pt x="9868" y="11477"/>
                  <a:pt x="9451" y="11534"/>
                </a:cubicBezTo>
                <a:cubicBezTo>
                  <a:pt x="9073" y="11585"/>
                  <a:pt x="8565" y="11596"/>
                  <a:pt x="8285" y="11906"/>
                </a:cubicBezTo>
                <a:cubicBezTo>
                  <a:pt x="8003" y="12218"/>
                  <a:pt x="7980" y="12789"/>
                  <a:pt x="8310" y="13072"/>
                </a:cubicBezTo>
                <a:cubicBezTo>
                  <a:pt x="8623" y="13341"/>
                  <a:pt x="9134" y="13378"/>
                  <a:pt x="9525" y="13469"/>
                </a:cubicBezTo>
                <a:cubicBezTo>
                  <a:pt x="9721" y="13515"/>
                  <a:pt x="9897" y="13540"/>
                  <a:pt x="10096" y="13543"/>
                </a:cubicBezTo>
                <a:cubicBezTo>
                  <a:pt x="10170" y="13543"/>
                  <a:pt x="10195" y="13543"/>
                  <a:pt x="10244" y="135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 less than 5 times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82800" y="2071800"/>
            <a:ext cx="330120" cy="330120"/>
          </a:xfrm>
          <a:custGeom>
            <a:avLst/>
            <a:gdLst/>
            <a:ahLst/>
            <a:rect l="l" t="t" r="r" b="b"/>
            <a:pathLst>
              <a:path w="918" h="918">
                <a:moveTo>
                  <a:pt x="2729" y="5829"/>
                </a:moveTo>
                <a:cubicBezTo>
                  <a:pt x="2792" y="6105"/>
                  <a:pt x="2778" y="6387"/>
                  <a:pt x="2778" y="6672"/>
                </a:cubicBezTo>
              </a:path>
              <a:path w="918" h="918">
                <a:moveTo>
                  <a:pt x="3175" y="5755"/>
                </a:moveTo>
                <a:cubicBezTo>
                  <a:pt x="3115" y="6065"/>
                  <a:pt x="3096" y="6222"/>
                  <a:pt x="3175" y="6524"/>
                </a:cubicBezTo>
                <a:cubicBezTo>
                  <a:pt x="3430" y="6543"/>
                  <a:pt x="3737" y="6460"/>
                  <a:pt x="3621" y="6102"/>
                </a:cubicBezTo>
                <a:cubicBezTo>
                  <a:pt x="3507" y="5920"/>
                  <a:pt x="3479" y="5868"/>
                  <a:pt x="3373" y="57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3680" y="222408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4564" y="6176"/>
                </a:moveTo>
                <a:cubicBezTo>
                  <a:pt x="4556" y="6184"/>
                  <a:pt x="4547" y="6193"/>
                  <a:pt x="4539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3000" y="2357280"/>
            <a:ext cx="204840" cy="9720"/>
          </a:xfrm>
          <a:custGeom>
            <a:avLst/>
            <a:gdLst/>
            <a:ahLst/>
            <a:rect l="l" t="t" r="r" b="b"/>
            <a:pathLst>
              <a:path w="572" h="26">
                <a:moveTo>
                  <a:pt x="6424" y="6573"/>
                </a:moveTo>
                <a:cubicBezTo>
                  <a:pt x="6615" y="6566"/>
                  <a:pt x="6803" y="6554"/>
                  <a:pt x="6995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24200" y="2286000"/>
            <a:ext cx="249480" cy="285840"/>
          </a:xfrm>
          <a:custGeom>
            <a:avLst/>
            <a:gdLst/>
            <a:ahLst/>
            <a:rect l="l" t="t" r="r" b="b"/>
            <a:pathLst>
              <a:path w="695" h="795">
                <a:moveTo>
                  <a:pt x="10765" y="6350"/>
                </a:moveTo>
                <a:cubicBezTo>
                  <a:pt x="10627" y="6398"/>
                  <a:pt x="10554" y="6416"/>
                  <a:pt x="10418" y="6400"/>
                </a:cubicBezTo>
                <a:cubicBezTo>
                  <a:pt x="10401" y="6536"/>
                  <a:pt x="10359" y="6661"/>
                  <a:pt x="10344" y="6796"/>
                </a:cubicBezTo>
                <a:cubicBezTo>
                  <a:pt x="10615" y="6750"/>
                  <a:pt x="10781" y="6751"/>
                  <a:pt x="11038" y="6846"/>
                </a:cubicBezTo>
                <a:cubicBezTo>
                  <a:pt x="10984" y="7074"/>
                  <a:pt x="10826" y="7167"/>
                  <a:pt x="10567" y="7144"/>
                </a:cubicBezTo>
                <a:cubicBezTo>
                  <a:pt x="10526" y="7127"/>
                  <a:pt x="10484" y="7111"/>
                  <a:pt x="10443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22920" y="2411280"/>
            <a:ext cx="15084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13395" y="6697"/>
                </a:moveTo>
                <a:cubicBezTo>
                  <a:pt x="13522" y="6879"/>
                  <a:pt x="13651" y="7046"/>
                  <a:pt x="13791" y="7218"/>
                </a:cubicBezTo>
              </a:path>
              <a:path w="422" h="522">
                <a:moveTo>
                  <a:pt x="13816" y="6722"/>
                </a:moveTo>
                <a:cubicBezTo>
                  <a:pt x="13650" y="6961"/>
                  <a:pt x="13598" y="7034"/>
                  <a:pt x="13494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83000" y="3776760"/>
            <a:ext cx="625320" cy="492120"/>
          </a:xfrm>
          <a:custGeom>
            <a:avLst/>
            <a:gdLst/>
            <a:ahLst/>
            <a:rect l="l" t="t" r="r" b="b"/>
            <a:pathLst>
              <a:path w="1737" h="1366">
                <a:moveTo>
                  <a:pt x="10244" y="10492"/>
                </a:moveTo>
                <a:cubicBezTo>
                  <a:pt x="10095" y="10569"/>
                  <a:pt x="9703" y="10632"/>
                  <a:pt x="9674" y="10790"/>
                </a:cubicBezTo>
                <a:cubicBezTo>
                  <a:pt x="9642" y="10964"/>
                  <a:pt x="9686" y="11163"/>
                  <a:pt x="9699" y="11336"/>
                </a:cubicBezTo>
                <a:cubicBezTo>
                  <a:pt x="9860" y="11232"/>
                  <a:pt x="10029" y="10989"/>
                  <a:pt x="10269" y="11038"/>
                </a:cubicBezTo>
                <a:cubicBezTo>
                  <a:pt x="10627" y="11110"/>
                  <a:pt x="10487" y="11565"/>
                  <a:pt x="10269" y="11708"/>
                </a:cubicBezTo>
                <a:cubicBezTo>
                  <a:pt x="10031" y="11794"/>
                  <a:pt x="9975" y="11817"/>
                  <a:pt x="9823" y="11857"/>
                </a:cubicBezTo>
              </a:path>
              <a:path w="1737" h="1366">
                <a:moveTo>
                  <a:pt x="10889" y="10939"/>
                </a:moveTo>
                <a:cubicBezTo>
                  <a:pt x="11055" y="11104"/>
                  <a:pt x="11222" y="11248"/>
                  <a:pt x="11361" y="11435"/>
                </a:cubicBezTo>
                <a:cubicBezTo>
                  <a:pt x="11377" y="11460"/>
                  <a:pt x="11394" y="11484"/>
                  <a:pt x="11410" y="11509"/>
                </a:cubicBezTo>
              </a:path>
              <a:path w="1737" h="1366">
                <a:moveTo>
                  <a:pt x="11410" y="10815"/>
                </a:moveTo>
                <a:cubicBezTo>
                  <a:pt x="11286" y="11062"/>
                  <a:pt x="11219" y="11299"/>
                  <a:pt x="11137" y="11559"/>
                </a:cubicBezTo>
                <a:cubicBezTo>
                  <a:pt x="11100" y="11653"/>
                  <a:pt x="11107" y="11671"/>
                  <a:pt x="11063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67160" y="3946680"/>
            <a:ext cx="133560" cy="9360"/>
          </a:xfrm>
          <a:custGeom>
            <a:avLst/>
            <a:gdLst/>
            <a:ahLst/>
            <a:rect l="l" t="t" r="r" b="b"/>
            <a:pathLst>
              <a:path w="374" h="25">
                <a:moveTo>
                  <a:pt x="12129" y="10988"/>
                </a:moveTo>
                <a:cubicBezTo>
                  <a:pt x="12255" y="10983"/>
                  <a:pt x="12377" y="10972"/>
                  <a:pt x="12502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0000" y="3751200"/>
            <a:ext cx="79200" cy="320760"/>
          </a:xfrm>
          <a:custGeom>
            <a:avLst/>
            <a:gdLst/>
            <a:ahLst/>
            <a:rect l="l" t="t" r="r" b="b"/>
            <a:pathLst>
              <a:path w="224" h="894">
                <a:moveTo>
                  <a:pt x="12998" y="10418"/>
                </a:moveTo>
                <a:cubicBezTo>
                  <a:pt x="13104" y="10709"/>
                  <a:pt x="13201" y="10977"/>
                  <a:pt x="13221" y="11286"/>
                </a:cubicBezTo>
                <a:cubicBezTo>
                  <a:pt x="13221" y="11294"/>
                  <a:pt x="13221" y="11303"/>
                  <a:pt x="13221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6120" y="3697200"/>
            <a:ext cx="258840" cy="366840"/>
          </a:xfrm>
          <a:custGeom>
            <a:avLst/>
            <a:gdLst/>
            <a:ahLst/>
            <a:rect l="l" t="t" r="r" b="b"/>
            <a:pathLst>
              <a:path w="720" h="1018">
                <a:moveTo>
                  <a:pt x="13965" y="10269"/>
                </a:moveTo>
                <a:cubicBezTo>
                  <a:pt x="13827" y="10337"/>
                  <a:pt x="13773" y="10630"/>
                  <a:pt x="13767" y="10790"/>
                </a:cubicBezTo>
                <a:cubicBezTo>
                  <a:pt x="13757" y="11076"/>
                  <a:pt x="13825" y="11124"/>
                  <a:pt x="14015" y="11286"/>
                </a:cubicBezTo>
                <a:cubicBezTo>
                  <a:pt x="14256" y="11194"/>
                  <a:pt x="14580" y="11029"/>
                  <a:pt x="14461" y="10691"/>
                </a:cubicBezTo>
                <a:cubicBezTo>
                  <a:pt x="14397" y="10509"/>
                  <a:pt x="14191" y="10504"/>
                  <a:pt x="14039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16800" y="2295360"/>
            <a:ext cx="277560" cy="312840"/>
          </a:xfrm>
          <a:custGeom>
            <a:avLst/>
            <a:gdLst/>
            <a:ahLst/>
            <a:rect l="l" t="t" r="r" b="b"/>
            <a:pathLst>
              <a:path w="770" h="869">
                <a:moveTo>
                  <a:pt x="18380" y="6474"/>
                </a:moveTo>
                <a:cubicBezTo>
                  <a:pt x="18539" y="6699"/>
                  <a:pt x="18680" y="6897"/>
                  <a:pt x="18876" y="7094"/>
                </a:cubicBezTo>
              </a:path>
              <a:path w="770" h="869">
                <a:moveTo>
                  <a:pt x="19149" y="6375"/>
                </a:moveTo>
                <a:cubicBezTo>
                  <a:pt x="18951" y="6672"/>
                  <a:pt x="18760" y="6971"/>
                  <a:pt x="18529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78040" y="3490920"/>
            <a:ext cx="3332160" cy="1216080"/>
          </a:xfrm>
          <a:custGeom>
            <a:avLst/>
            <a:gdLst/>
            <a:ahLst/>
            <a:rect l="l" t="t" r="r" b="b"/>
            <a:pathLst>
              <a:path w="9254" h="3374">
                <a:moveTo>
                  <a:pt x="10492" y="12824"/>
                </a:moveTo>
                <a:cubicBezTo>
                  <a:pt x="10898" y="12902"/>
                  <a:pt x="11301" y="12931"/>
                  <a:pt x="11733" y="12923"/>
                </a:cubicBezTo>
                <a:cubicBezTo>
                  <a:pt x="13135" y="12898"/>
                  <a:pt x="14589" y="12681"/>
                  <a:pt x="15850" y="12030"/>
                </a:cubicBezTo>
                <a:cubicBezTo>
                  <a:pt x="16307" y="11794"/>
                  <a:pt x="16719" y="11410"/>
                  <a:pt x="16694" y="10864"/>
                </a:cubicBezTo>
                <a:cubicBezTo>
                  <a:pt x="16677" y="10498"/>
                  <a:pt x="16356" y="10150"/>
                  <a:pt x="16049" y="9996"/>
                </a:cubicBezTo>
                <a:cubicBezTo>
                  <a:pt x="15704" y="9824"/>
                  <a:pt x="15238" y="9784"/>
                  <a:pt x="14858" y="9748"/>
                </a:cubicBezTo>
                <a:cubicBezTo>
                  <a:pt x="13858" y="9654"/>
                  <a:pt x="12853" y="9707"/>
                  <a:pt x="11857" y="9823"/>
                </a:cubicBezTo>
                <a:cubicBezTo>
                  <a:pt x="10858" y="9939"/>
                  <a:pt x="9844" y="10209"/>
                  <a:pt x="8880" y="10492"/>
                </a:cubicBezTo>
                <a:cubicBezTo>
                  <a:pt x="8333" y="10653"/>
                  <a:pt x="7778" y="10931"/>
                  <a:pt x="7516" y="11460"/>
                </a:cubicBezTo>
                <a:cubicBezTo>
                  <a:pt x="7302" y="11892"/>
                  <a:pt x="7491" y="12400"/>
                  <a:pt x="7863" y="12675"/>
                </a:cubicBezTo>
                <a:cubicBezTo>
                  <a:pt x="8512" y="13155"/>
                  <a:pt x="9347" y="13077"/>
                  <a:pt x="10096" y="13022"/>
                </a:cubicBezTo>
                <a:cubicBezTo>
                  <a:pt x="10447" y="12996"/>
                  <a:pt x="10787" y="12941"/>
                  <a:pt x="11137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f of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0000" y="2330280"/>
            <a:ext cx="187200" cy="206640"/>
          </a:xfrm>
          <a:custGeom>
            <a:avLst/>
            <a:gdLst/>
            <a:ahLst/>
            <a:rect l="l" t="t" r="r" b="b"/>
            <a:pathLst>
              <a:path w="522" h="572">
                <a:moveTo>
                  <a:pt x="9748" y="6474"/>
                </a:moveTo>
                <a:cubicBezTo>
                  <a:pt x="9926" y="6652"/>
                  <a:pt x="10113" y="6823"/>
                  <a:pt x="10269" y="7020"/>
                </a:cubicBezTo>
              </a:path>
              <a:path w="522" h="572">
                <a:moveTo>
                  <a:pt x="10195" y="6573"/>
                </a:moveTo>
                <a:cubicBezTo>
                  <a:pt x="10092" y="6730"/>
                  <a:pt x="9990" y="6882"/>
                  <a:pt x="9897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05040" y="1928880"/>
            <a:ext cx="216000" cy="615960"/>
          </a:xfrm>
          <a:custGeom>
            <a:avLst/>
            <a:gdLst/>
            <a:ahLst/>
            <a:rect l="l" t="t" r="r" b="b"/>
            <a:pathLst>
              <a:path w="596" h="1712">
                <a:moveTo>
                  <a:pt x="7739" y="5358"/>
                </a:moveTo>
                <a:cubicBezTo>
                  <a:pt x="7750" y="5606"/>
                  <a:pt x="7759" y="5856"/>
                  <a:pt x="7789" y="6102"/>
                </a:cubicBezTo>
              </a:path>
              <a:path w="596" h="1712">
                <a:moveTo>
                  <a:pt x="7516" y="6325"/>
                </a:moveTo>
                <a:cubicBezTo>
                  <a:pt x="7729" y="6285"/>
                  <a:pt x="7898" y="6259"/>
                  <a:pt x="8111" y="6276"/>
                </a:cubicBezTo>
              </a:path>
              <a:path w="596" h="1712">
                <a:moveTo>
                  <a:pt x="7565" y="6623"/>
                </a:moveTo>
                <a:cubicBezTo>
                  <a:pt x="7702" y="6559"/>
                  <a:pt x="7762" y="6558"/>
                  <a:pt x="7913" y="6573"/>
                </a:cubicBezTo>
                <a:cubicBezTo>
                  <a:pt x="7928" y="6783"/>
                  <a:pt x="7781" y="6886"/>
                  <a:pt x="7615" y="7020"/>
                </a:cubicBezTo>
                <a:cubicBezTo>
                  <a:pt x="7598" y="7028"/>
                  <a:pt x="7582" y="7037"/>
                  <a:pt x="7565" y="7045"/>
                </a:cubicBezTo>
                <a:cubicBezTo>
                  <a:pt x="7691" y="7067"/>
                  <a:pt x="7831" y="7046"/>
                  <a:pt x="7962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18040" y="2295360"/>
            <a:ext cx="241200" cy="222480"/>
          </a:xfrm>
          <a:custGeom>
            <a:avLst/>
            <a:gdLst/>
            <a:ahLst/>
            <a:rect l="l" t="t" r="r" b="b"/>
            <a:pathLst>
              <a:path w="671" h="621">
                <a:moveTo>
                  <a:pt x="13940" y="6573"/>
                </a:moveTo>
                <a:cubicBezTo>
                  <a:pt x="13963" y="6715"/>
                  <a:pt x="13993" y="6855"/>
                  <a:pt x="14015" y="6995"/>
                </a:cubicBezTo>
                <a:cubicBezTo>
                  <a:pt x="13973" y="6805"/>
                  <a:pt x="13918" y="6651"/>
                  <a:pt x="14089" y="6499"/>
                </a:cubicBezTo>
                <a:cubicBezTo>
                  <a:pt x="14334" y="6280"/>
                  <a:pt x="14507" y="6366"/>
                  <a:pt x="14585" y="6648"/>
                </a:cubicBezTo>
                <a:cubicBezTo>
                  <a:pt x="14608" y="6804"/>
                  <a:pt x="14616" y="6845"/>
                  <a:pt x="14610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27320" y="3633840"/>
            <a:ext cx="866880" cy="482400"/>
          </a:xfrm>
          <a:custGeom>
            <a:avLst/>
            <a:gdLst/>
            <a:ahLst/>
            <a:rect l="l" t="t" r="r" b="b"/>
            <a:pathLst>
              <a:path w="2407" h="1340">
                <a:moveTo>
                  <a:pt x="11584" y="10096"/>
                </a:moveTo>
                <a:cubicBezTo>
                  <a:pt x="11591" y="10288"/>
                  <a:pt x="11618" y="10476"/>
                  <a:pt x="11633" y="10666"/>
                </a:cubicBezTo>
              </a:path>
              <a:path w="2407" h="1340">
                <a:moveTo>
                  <a:pt x="11187" y="10666"/>
                </a:moveTo>
                <a:cubicBezTo>
                  <a:pt x="11470" y="10659"/>
                  <a:pt x="11748" y="10632"/>
                  <a:pt x="12030" y="10616"/>
                </a:cubicBezTo>
              </a:path>
              <a:path w="2407" h="1340">
                <a:moveTo>
                  <a:pt x="11460" y="10914"/>
                </a:moveTo>
                <a:cubicBezTo>
                  <a:pt x="11643" y="10896"/>
                  <a:pt x="11764" y="10880"/>
                  <a:pt x="11931" y="10939"/>
                </a:cubicBezTo>
                <a:cubicBezTo>
                  <a:pt x="11876" y="11127"/>
                  <a:pt x="11722" y="11251"/>
                  <a:pt x="11584" y="11410"/>
                </a:cubicBezTo>
                <a:cubicBezTo>
                  <a:pt x="11576" y="11418"/>
                  <a:pt x="11567" y="11427"/>
                  <a:pt x="11559" y="11435"/>
                </a:cubicBezTo>
                <a:cubicBezTo>
                  <a:pt x="11725" y="11422"/>
                  <a:pt x="11871" y="11386"/>
                  <a:pt x="12030" y="11336"/>
                </a:cubicBezTo>
              </a:path>
              <a:path w="2407" h="1340">
                <a:moveTo>
                  <a:pt x="12427" y="10542"/>
                </a:moveTo>
                <a:cubicBezTo>
                  <a:pt x="12480" y="10691"/>
                  <a:pt x="12544" y="10795"/>
                  <a:pt x="12650" y="10914"/>
                </a:cubicBezTo>
              </a:path>
              <a:path w="2407" h="1340">
                <a:moveTo>
                  <a:pt x="12626" y="10567"/>
                </a:moveTo>
                <a:cubicBezTo>
                  <a:pt x="12567" y="10699"/>
                  <a:pt x="12505" y="10830"/>
                  <a:pt x="12452" y="10964"/>
                </a:cubicBezTo>
              </a:path>
              <a:path w="2407" h="1340">
                <a:moveTo>
                  <a:pt x="13022" y="10691"/>
                </a:moveTo>
                <a:cubicBezTo>
                  <a:pt x="13030" y="10724"/>
                  <a:pt x="13039" y="10757"/>
                  <a:pt x="13047" y="10790"/>
                </a:cubicBezTo>
                <a:cubicBezTo>
                  <a:pt x="13069" y="10651"/>
                  <a:pt x="13158" y="10472"/>
                  <a:pt x="13345" y="10492"/>
                </a:cubicBezTo>
                <a:cubicBezTo>
                  <a:pt x="13638" y="10523"/>
                  <a:pt x="13601" y="10808"/>
                  <a:pt x="13568" y="11013"/>
                </a:cubicBezTo>
              </a:path>
              <a:path w="2407" h="1340">
                <a:moveTo>
                  <a:pt x="12204" y="11112"/>
                </a:moveTo>
                <a:cubicBezTo>
                  <a:pt x="12315" y="11199"/>
                  <a:pt x="12371" y="11329"/>
                  <a:pt x="12526" y="11361"/>
                </a:cubicBezTo>
                <a:cubicBezTo>
                  <a:pt x="12729" y="11404"/>
                  <a:pt x="12801" y="11248"/>
                  <a:pt x="12898" y="11112"/>
                </a:cubicBezTo>
                <a:cubicBezTo>
                  <a:pt x="12979" y="10998"/>
                  <a:pt x="13040" y="10880"/>
                  <a:pt x="13047" y="10740"/>
                </a:cubicBezTo>
                <a:cubicBezTo>
                  <a:pt x="13052" y="10637"/>
                  <a:pt x="12929" y="10500"/>
                  <a:pt x="12849" y="10443"/>
                </a:cubicBezTo>
                <a:cubicBezTo>
                  <a:pt x="12749" y="10371"/>
                  <a:pt x="12623" y="10323"/>
                  <a:pt x="12502" y="10319"/>
                </a:cubicBezTo>
                <a:cubicBezTo>
                  <a:pt x="12392" y="10315"/>
                  <a:pt x="12378" y="10337"/>
                  <a:pt x="12328" y="10443"/>
                </a:cubicBezTo>
                <a:cubicBezTo>
                  <a:pt x="12245" y="10616"/>
                  <a:pt x="12165" y="10798"/>
                  <a:pt x="12303" y="10964"/>
                </a:cubicBezTo>
                <a:cubicBezTo>
                  <a:pt x="12383" y="11061"/>
                  <a:pt x="12513" y="11061"/>
                  <a:pt x="12626" y="11088"/>
                </a:cubicBezTo>
              </a:path>
              <a:path w="2407" h="1340">
                <a:moveTo>
                  <a:pt x="13146" y="10765"/>
                </a:moveTo>
                <a:cubicBezTo>
                  <a:pt x="13083" y="10797"/>
                  <a:pt x="13116" y="10882"/>
                  <a:pt x="13122" y="10988"/>
                </a:cubicBezTo>
                <a:cubicBezTo>
                  <a:pt x="13122" y="11005"/>
                  <a:pt x="13122" y="11021"/>
                  <a:pt x="13122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8960" y="4446720"/>
            <a:ext cx="982800" cy="849240"/>
          </a:xfrm>
          <a:custGeom>
            <a:avLst/>
            <a:gdLst/>
            <a:ahLst/>
            <a:rect l="l" t="t" r="r" b="b"/>
            <a:pathLst>
              <a:path w="2730" h="2357">
                <a:moveTo>
                  <a:pt x="12105" y="12402"/>
                </a:moveTo>
                <a:cubicBezTo>
                  <a:pt x="12142" y="12618"/>
                  <a:pt x="12193" y="12831"/>
                  <a:pt x="12229" y="13047"/>
                </a:cubicBezTo>
                <a:cubicBezTo>
                  <a:pt x="12229" y="13055"/>
                  <a:pt x="12229" y="13064"/>
                  <a:pt x="12229" y="13072"/>
                </a:cubicBezTo>
              </a:path>
              <a:path w="2730" h="2357">
                <a:moveTo>
                  <a:pt x="11807" y="13196"/>
                </a:moveTo>
                <a:cubicBezTo>
                  <a:pt x="12091" y="13162"/>
                  <a:pt x="12364" y="13122"/>
                  <a:pt x="12650" y="13122"/>
                </a:cubicBezTo>
              </a:path>
              <a:path w="2730" h="2357">
                <a:moveTo>
                  <a:pt x="12055" y="13543"/>
                </a:moveTo>
                <a:cubicBezTo>
                  <a:pt x="12223" y="13532"/>
                  <a:pt x="12346" y="13501"/>
                  <a:pt x="12477" y="13593"/>
                </a:cubicBezTo>
                <a:cubicBezTo>
                  <a:pt x="12373" y="13775"/>
                  <a:pt x="12263" y="13910"/>
                  <a:pt x="12080" y="14015"/>
                </a:cubicBezTo>
                <a:cubicBezTo>
                  <a:pt x="12247" y="14015"/>
                  <a:pt x="12389" y="13964"/>
                  <a:pt x="12551" y="13940"/>
                </a:cubicBezTo>
                <a:cubicBezTo>
                  <a:pt x="12584" y="13940"/>
                  <a:pt x="12617" y="13940"/>
                  <a:pt x="12650" y="13940"/>
                </a:cubicBezTo>
              </a:path>
              <a:path w="2730" h="2357">
                <a:moveTo>
                  <a:pt x="12923" y="12824"/>
                </a:moveTo>
                <a:cubicBezTo>
                  <a:pt x="12902" y="12997"/>
                  <a:pt x="12937" y="13167"/>
                  <a:pt x="12948" y="13345"/>
                </a:cubicBezTo>
                <a:cubicBezTo>
                  <a:pt x="12955" y="13215"/>
                  <a:pt x="12962" y="13069"/>
                  <a:pt x="13022" y="12948"/>
                </a:cubicBezTo>
                <a:cubicBezTo>
                  <a:pt x="13070" y="12852"/>
                  <a:pt x="13281" y="12838"/>
                  <a:pt x="13370" y="12849"/>
                </a:cubicBezTo>
                <a:cubicBezTo>
                  <a:pt x="13519" y="12868"/>
                  <a:pt x="13538" y="12970"/>
                  <a:pt x="13568" y="13097"/>
                </a:cubicBezTo>
                <a:cubicBezTo>
                  <a:pt x="13592" y="13200"/>
                  <a:pt x="13593" y="13290"/>
                  <a:pt x="13593" y="13395"/>
                </a:cubicBezTo>
              </a:path>
              <a:path w="2730" h="2357">
                <a:moveTo>
                  <a:pt x="11658" y="14709"/>
                </a:moveTo>
                <a:cubicBezTo>
                  <a:pt x="12124" y="14698"/>
                  <a:pt x="12600" y="14688"/>
                  <a:pt x="13047" y="14536"/>
                </a:cubicBezTo>
                <a:cubicBezTo>
                  <a:pt x="13405" y="14414"/>
                  <a:pt x="13802" y="14172"/>
                  <a:pt x="13990" y="13841"/>
                </a:cubicBezTo>
                <a:cubicBezTo>
                  <a:pt x="14069" y="13702"/>
                  <a:pt x="14153" y="13529"/>
                  <a:pt x="14089" y="13370"/>
                </a:cubicBezTo>
                <a:cubicBezTo>
                  <a:pt x="14032" y="13228"/>
                  <a:pt x="13857" y="13071"/>
                  <a:pt x="13742" y="12973"/>
                </a:cubicBezTo>
                <a:cubicBezTo>
                  <a:pt x="13604" y="12855"/>
                  <a:pt x="13466" y="12778"/>
                  <a:pt x="13320" y="12675"/>
                </a:cubicBezTo>
                <a:cubicBezTo>
                  <a:pt x="13125" y="12537"/>
                  <a:pt x="12963" y="12425"/>
                  <a:pt x="12725" y="12378"/>
                </a:cubicBezTo>
                <a:cubicBezTo>
                  <a:pt x="12522" y="12338"/>
                  <a:pt x="12286" y="12335"/>
                  <a:pt x="12080" y="12353"/>
                </a:cubicBezTo>
                <a:cubicBezTo>
                  <a:pt x="11847" y="12373"/>
                  <a:pt x="11648" y="12492"/>
                  <a:pt x="11509" y="12675"/>
                </a:cubicBezTo>
                <a:cubicBezTo>
                  <a:pt x="11390" y="12832"/>
                  <a:pt x="11362" y="13027"/>
                  <a:pt x="11385" y="13221"/>
                </a:cubicBezTo>
                <a:cubicBezTo>
                  <a:pt x="11420" y="13518"/>
                  <a:pt x="11495" y="13779"/>
                  <a:pt x="11733" y="13965"/>
                </a:cubicBezTo>
                <a:cubicBezTo>
                  <a:pt x="11940" y="14127"/>
                  <a:pt x="12285" y="14238"/>
                  <a:pt x="12551" y="14238"/>
                </a:cubicBezTo>
                <a:cubicBezTo>
                  <a:pt x="12592" y="14230"/>
                  <a:pt x="12634" y="14221"/>
                  <a:pt x="1267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creased by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71880" y="2170080"/>
            <a:ext cx="250920" cy="339840"/>
          </a:xfrm>
          <a:custGeom>
            <a:avLst/>
            <a:gdLst/>
            <a:ahLst/>
            <a:rect l="l" t="t" r="r" b="b"/>
            <a:pathLst>
              <a:path w="695" h="943">
                <a:moveTo>
                  <a:pt x="8830" y="6028"/>
                </a:moveTo>
                <a:cubicBezTo>
                  <a:pt x="8764" y="6263"/>
                  <a:pt x="8763" y="6527"/>
                  <a:pt x="8781" y="6772"/>
                </a:cubicBezTo>
                <a:cubicBezTo>
                  <a:pt x="8799" y="7012"/>
                  <a:pt x="8945" y="6997"/>
                  <a:pt x="9128" y="6896"/>
                </a:cubicBezTo>
                <a:cubicBezTo>
                  <a:pt x="9161" y="6871"/>
                  <a:pt x="9194" y="6846"/>
                  <a:pt x="9227" y="6821"/>
                </a:cubicBezTo>
              </a:path>
              <a:path w="695" h="943">
                <a:moveTo>
                  <a:pt x="8533" y="6524"/>
                </a:moveTo>
                <a:cubicBezTo>
                  <a:pt x="8664" y="6524"/>
                  <a:pt x="8803" y="6507"/>
                  <a:pt x="8930" y="6474"/>
                </a:cubicBezTo>
                <a:cubicBezTo>
                  <a:pt x="8946" y="6466"/>
                  <a:pt x="8963" y="6457"/>
                  <a:pt x="8979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19760" y="2295360"/>
            <a:ext cx="287280" cy="17640"/>
          </a:xfrm>
          <a:custGeom>
            <a:avLst/>
            <a:gdLst/>
            <a:ahLst/>
            <a:rect l="l" t="t" r="r" b="b"/>
            <a:pathLst>
              <a:path w="795" h="50">
                <a:moveTo>
                  <a:pt x="13667" y="6424"/>
                </a:moveTo>
                <a:cubicBezTo>
                  <a:pt x="13902" y="6358"/>
                  <a:pt x="14142" y="6375"/>
                  <a:pt x="14387" y="6375"/>
                </a:cubicBezTo>
                <a:cubicBezTo>
                  <a:pt x="14412" y="6375"/>
                  <a:pt x="14436" y="6375"/>
                  <a:pt x="14461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80160" y="2054160"/>
            <a:ext cx="222120" cy="32076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18604" y="5705"/>
                </a:moveTo>
                <a:cubicBezTo>
                  <a:pt x="18604" y="5896"/>
                  <a:pt x="18551" y="6088"/>
                  <a:pt x="18554" y="6276"/>
                </a:cubicBezTo>
                <a:cubicBezTo>
                  <a:pt x="18558" y="6550"/>
                  <a:pt x="18667" y="6622"/>
                  <a:pt x="18926" y="6573"/>
                </a:cubicBezTo>
                <a:cubicBezTo>
                  <a:pt x="19086" y="6543"/>
                  <a:pt x="19111" y="6501"/>
                  <a:pt x="19174" y="6375"/>
                </a:cubicBezTo>
                <a:cubicBezTo>
                  <a:pt x="19072" y="6272"/>
                  <a:pt x="18983" y="6282"/>
                  <a:pt x="18901" y="6424"/>
                </a:cubicBezTo>
                <a:cubicBezTo>
                  <a:pt x="18862" y="6522"/>
                  <a:pt x="18846" y="6536"/>
                  <a:pt x="18852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06880" y="3394080"/>
            <a:ext cx="1689120" cy="955800"/>
          </a:xfrm>
          <a:custGeom>
            <a:avLst/>
            <a:gdLst/>
            <a:ahLst/>
            <a:rect l="l" t="t" r="r" b="b"/>
            <a:pathLst>
              <a:path w="4689" h="2655">
                <a:moveTo>
                  <a:pt x="12378" y="10368"/>
                </a:moveTo>
                <a:cubicBezTo>
                  <a:pt x="12348" y="10614"/>
                  <a:pt x="12275" y="10915"/>
                  <a:pt x="12328" y="11162"/>
                </a:cubicBezTo>
                <a:cubicBezTo>
                  <a:pt x="12386" y="11430"/>
                  <a:pt x="12682" y="11253"/>
                  <a:pt x="12824" y="11187"/>
                </a:cubicBezTo>
                <a:cubicBezTo>
                  <a:pt x="12857" y="11170"/>
                  <a:pt x="12890" y="11154"/>
                  <a:pt x="12923" y="11137"/>
                </a:cubicBezTo>
              </a:path>
              <a:path w="4689" h="2655">
                <a:moveTo>
                  <a:pt x="12105" y="10815"/>
                </a:moveTo>
                <a:cubicBezTo>
                  <a:pt x="12273" y="10815"/>
                  <a:pt x="12435" y="10799"/>
                  <a:pt x="12601" y="10790"/>
                </a:cubicBezTo>
              </a:path>
              <a:path w="4689" h="2655">
                <a:moveTo>
                  <a:pt x="13469" y="10864"/>
                </a:moveTo>
                <a:cubicBezTo>
                  <a:pt x="13593" y="10864"/>
                  <a:pt x="13717" y="10864"/>
                  <a:pt x="13841" y="10864"/>
                </a:cubicBezTo>
              </a:path>
              <a:path w="4689" h="2655">
                <a:moveTo>
                  <a:pt x="14486" y="10269"/>
                </a:moveTo>
                <a:cubicBezTo>
                  <a:pt x="14472" y="10472"/>
                  <a:pt x="14404" y="10662"/>
                  <a:pt x="14387" y="10864"/>
                </a:cubicBezTo>
                <a:cubicBezTo>
                  <a:pt x="14371" y="11047"/>
                  <a:pt x="14449" y="11258"/>
                  <a:pt x="14684" y="11212"/>
                </a:cubicBezTo>
                <a:cubicBezTo>
                  <a:pt x="14833" y="11183"/>
                  <a:pt x="14895" y="11079"/>
                  <a:pt x="14957" y="10964"/>
                </a:cubicBezTo>
                <a:cubicBezTo>
                  <a:pt x="14788" y="10913"/>
                  <a:pt x="14748" y="10965"/>
                  <a:pt x="14635" y="11088"/>
                </a:cubicBezTo>
              </a:path>
              <a:path w="4689" h="2655">
                <a:moveTo>
                  <a:pt x="12650" y="12030"/>
                </a:moveTo>
                <a:cubicBezTo>
                  <a:pt x="13414" y="12123"/>
                  <a:pt x="14252" y="12116"/>
                  <a:pt x="15007" y="11956"/>
                </a:cubicBezTo>
                <a:cubicBezTo>
                  <a:pt x="15476" y="11857"/>
                  <a:pt x="15918" y="11691"/>
                  <a:pt x="16073" y="11212"/>
                </a:cubicBezTo>
                <a:cubicBezTo>
                  <a:pt x="16127" y="11046"/>
                  <a:pt x="16091" y="10754"/>
                  <a:pt x="16024" y="10592"/>
                </a:cubicBezTo>
                <a:cubicBezTo>
                  <a:pt x="15938" y="10385"/>
                  <a:pt x="15786" y="10240"/>
                  <a:pt x="15602" y="10120"/>
                </a:cubicBezTo>
                <a:cubicBezTo>
                  <a:pt x="15332" y="9944"/>
                  <a:pt x="15057" y="9840"/>
                  <a:pt x="14759" y="9723"/>
                </a:cubicBezTo>
                <a:cubicBezTo>
                  <a:pt x="14424" y="9591"/>
                  <a:pt x="14126" y="9514"/>
                  <a:pt x="13767" y="9475"/>
                </a:cubicBezTo>
                <a:cubicBezTo>
                  <a:pt x="13371" y="9432"/>
                  <a:pt x="13062" y="9438"/>
                  <a:pt x="12675" y="9550"/>
                </a:cubicBezTo>
                <a:cubicBezTo>
                  <a:pt x="12237" y="9677"/>
                  <a:pt x="11564" y="9976"/>
                  <a:pt x="11435" y="10468"/>
                </a:cubicBezTo>
                <a:cubicBezTo>
                  <a:pt x="11371" y="10711"/>
                  <a:pt x="11424" y="10873"/>
                  <a:pt x="11509" y="11088"/>
                </a:cubicBezTo>
                <a:cubicBezTo>
                  <a:pt x="11622" y="11376"/>
                  <a:pt x="11773" y="11448"/>
                  <a:pt x="12055" y="11559"/>
                </a:cubicBezTo>
                <a:cubicBezTo>
                  <a:pt x="12390" y="11690"/>
                  <a:pt x="12670" y="11808"/>
                  <a:pt x="13022" y="11881"/>
                </a:cubicBezTo>
                <a:cubicBezTo>
                  <a:pt x="13221" y="11922"/>
                  <a:pt x="13405" y="11984"/>
                  <a:pt x="13593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20 and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7280" y="1820880"/>
            <a:ext cx="2446560" cy="831960"/>
          </a:xfrm>
          <a:custGeom>
            <a:avLst/>
            <a:gdLst/>
            <a:ahLst/>
            <a:rect l="l" t="t" r="r" b="b"/>
            <a:pathLst>
              <a:path w="6798" h="2308">
                <a:moveTo>
                  <a:pt x="7293" y="6276"/>
                </a:moveTo>
                <a:cubicBezTo>
                  <a:pt x="7326" y="6506"/>
                  <a:pt x="7342" y="6712"/>
                  <a:pt x="7342" y="6945"/>
                </a:cubicBezTo>
              </a:path>
              <a:path w="6798" h="2308">
                <a:moveTo>
                  <a:pt x="7045" y="6772"/>
                </a:moveTo>
                <a:cubicBezTo>
                  <a:pt x="7219" y="6734"/>
                  <a:pt x="7363" y="6722"/>
                  <a:pt x="7541" y="6722"/>
                </a:cubicBezTo>
                <a:cubicBezTo>
                  <a:pt x="7566" y="6722"/>
                  <a:pt x="7590" y="6722"/>
                  <a:pt x="7615" y="6722"/>
                </a:cubicBezTo>
              </a:path>
              <a:path w="6798" h="2308">
                <a:moveTo>
                  <a:pt x="10294" y="6300"/>
                </a:moveTo>
                <a:cubicBezTo>
                  <a:pt x="10391" y="6217"/>
                  <a:pt x="10445" y="6178"/>
                  <a:pt x="10567" y="6152"/>
                </a:cubicBezTo>
                <a:cubicBezTo>
                  <a:pt x="10635" y="6428"/>
                  <a:pt x="10470" y="6581"/>
                  <a:pt x="10294" y="6796"/>
                </a:cubicBezTo>
                <a:cubicBezTo>
                  <a:pt x="10120" y="7009"/>
                  <a:pt x="10112" y="6928"/>
                  <a:pt x="10269" y="6871"/>
                </a:cubicBezTo>
                <a:cubicBezTo>
                  <a:pt x="10441" y="6809"/>
                  <a:pt x="10567" y="6943"/>
                  <a:pt x="10740" y="6921"/>
                </a:cubicBezTo>
                <a:cubicBezTo>
                  <a:pt x="10801" y="6901"/>
                  <a:pt x="10816" y="6903"/>
                  <a:pt x="10840" y="6871"/>
                </a:cubicBezTo>
              </a:path>
              <a:path w="6798" h="2308">
                <a:moveTo>
                  <a:pt x="11112" y="6350"/>
                </a:moveTo>
                <a:cubicBezTo>
                  <a:pt x="10969" y="6326"/>
                  <a:pt x="10898" y="6591"/>
                  <a:pt x="10889" y="6722"/>
                </a:cubicBezTo>
                <a:cubicBezTo>
                  <a:pt x="10870" y="7011"/>
                  <a:pt x="11201" y="6996"/>
                  <a:pt x="11361" y="6846"/>
                </a:cubicBezTo>
                <a:cubicBezTo>
                  <a:pt x="11607" y="6614"/>
                  <a:pt x="11370" y="6442"/>
                  <a:pt x="11187" y="6325"/>
                </a:cubicBezTo>
              </a:path>
              <a:path w="6798" h="2308">
                <a:moveTo>
                  <a:pt x="7045" y="7293"/>
                </a:moveTo>
                <a:cubicBezTo>
                  <a:pt x="7236" y="7323"/>
                  <a:pt x="7444" y="7397"/>
                  <a:pt x="7640" y="7367"/>
                </a:cubicBezTo>
                <a:cubicBezTo>
                  <a:pt x="8017" y="7309"/>
                  <a:pt x="8340" y="7108"/>
                  <a:pt x="8434" y="6722"/>
                </a:cubicBezTo>
                <a:cubicBezTo>
                  <a:pt x="8535" y="6307"/>
                  <a:pt x="8320" y="6006"/>
                  <a:pt x="7962" y="5829"/>
                </a:cubicBezTo>
                <a:cubicBezTo>
                  <a:pt x="7622" y="5661"/>
                  <a:pt x="7265" y="5586"/>
                  <a:pt x="6921" y="5779"/>
                </a:cubicBezTo>
                <a:cubicBezTo>
                  <a:pt x="6621" y="5947"/>
                  <a:pt x="6545" y="6466"/>
                  <a:pt x="6548" y="6772"/>
                </a:cubicBezTo>
                <a:cubicBezTo>
                  <a:pt x="6553" y="7286"/>
                  <a:pt x="6964" y="7196"/>
                  <a:pt x="7317" y="7144"/>
                </a:cubicBezTo>
              </a:path>
              <a:path w="6798" h="2308">
                <a:moveTo>
                  <a:pt x="8161" y="6276"/>
                </a:moveTo>
                <a:cubicBezTo>
                  <a:pt x="8207" y="6170"/>
                  <a:pt x="8241" y="6068"/>
                  <a:pt x="8310" y="5953"/>
                </a:cubicBezTo>
                <a:cubicBezTo>
                  <a:pt x="8450" y="5719"/>
                  <a:pt x="8682" y="5479"/>
                  <a:pt x="8930" y="5358"/>
                </a:cubicBezTo>
                <a:cubicBezTo>
                  <a:pt x="9320" y="5168"/>
                  <a:pt x="9790" y="5085"/>
                  <a:pt x="10220" y="5060"/>
                </a:cubicBezTo>
                <a:cubicBezTo>
                  <a:pt x="10914" y="5020"/>
                  <a:pt x="11708" y="5100"/>
                  <a:pt x="12303" y="5482"/>
                </a:cubicBezTo>
                <a:cubicBezTo>
                  <a:pt x="12565" y="5650"/>
                  <a:pt x="12809" y="5905"/>
                  <a:pt x="12998" y="6152"/>
                </a:cubicBezTo>
                <a:cubicBezTo>
                  <a:pt x="13117" y="6307"/>
                  <a:pt x="13241" y="6494"/>
                  <a:pt x="13320" y="6672"/>
                </a:cubicBezTo>
                <a:cubicBezTo>
                  <a:pt x="13320" y="6689"/>
                  <a:pt x="13320" y="6705"/>
                  <a:pt x="13320" y="6722"/>
                </a:cubicBezTo>
                <a:cubicBezTo>
                  <a:pt x="13353" y="6483"/>
                  <a:pt x="13332" y="6343"/>
                  <a:pt x="13320" y="6102"/>
                </a:cubicBezTo>
                <a:cubicBezTo>
                  <a:pt x="13320" y="6336"/>
                  <a:pt x="13330" y="6530"/>
                  <a:pt x="13246" y="6747"/>
                </a:cubicBezTo>
                <a:cubicBezTo>
                  <a:pt x="13171" y="6716"/>
                  <a:pt x="12973" y="6530"/>
                  <a:pt x="12923" y="6524"/>
                </a:cubicBezTo>
                <a:cubicBezTo>
                  <a:pt x="12898" y="6540"/>
                  <a:pt x="12874" y="6557"/>
                  <a:pt x="1284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1880" y="3375000"/>
            <a:ext cx="2259000" cy="1054080"/>
          </a:xfrm>
          <a:custGeom>
            <a:avLst/>
            <a:gdLst/>
            <a:ahLst/>
            <a:rect l="l" t="t" r="r" b="b"/>
            <a:pathLst>
              <a:path w="6276" h="2928">
                <a:moveTo>
                  <a:pt x="9624" y="10393"/>
                </a:moveTo>
                <a:cubicBezTo>
                  <a:pt x="9890" y="10355"/>
                  <a:pt x="10253" y="10386"/>
                  <a:pt x="10244" y="10765"/>
                </a:cubicBezTo>
                <a:cubicBezTo>
                  <a:pt x="10234" y="11172"/>
                  <a:pt x="9795" y="11308"/>
                  <a:pt x="9500" y="11286"/>
                </a:cubicBezTo>
                <a:cubicBezTo>
                  <a:pt x="9607" y="10976"/>
                  <a:pt x="9789" y="10869"/>
                  <a:pt x="10145" y="10988"/>
                </a:cubicBezTo>
                <a:cubicBezTo>
                  <a:pt x="10235" y="11056"/>
                  <a:pt x="10261" y="11071"/>
                  <a:pt x="10294" y="11137"/>
                </a:cubicBezTo>
              </a:path>
              <a:path w="6276" h="2928">
                <a:moveTo>
                  <a:pt x="10790" y="10418"/>
                </a:moveTo>
                <a:cubicBezTo>
                  <a:pt x="10584" y="10513"/>
                  <a:pt x="10448" y="10810"/>
                  <a:pt x="10542" y="11063"/>
                </a:cubicBezTo>
                <a:cubicBezTo>
                  <a:pt x="10583" y="11104"/>
                  <a:pt x="10625" y="11146"/>
                  <a:pt x="10666" y="11187"/>
                </a:cubicBezTo>
                <a:cubicBezTo>
                  <a:pt x="10894" y="11103"/>
                  <a:pt x="11247" y="10945"/>
                  <a:pt x="11038" y="10616"/>
                </a:cubicBezTo>
                <a:cubicBezTo>
                  <a:pt x="10897" y="10522"/>
                  <a:pt x="10856" y="10491"/>
                  <a:pt x="10740" y="10492"/>
                </a:cubicBezTo>
              </a:path>
              <a:path w="6276" h="2928">
                <a:moveTo>
                  <a:pt x="12080" y="10517"/>
                </a:moveTo>
                <a:cubicBezTo>
                  <a:pt x="12088" y="10713"/>
                  <a:pt x="12104" y="10899"/>
                  <a:pt x="12154" y="11088"/>
                </a:cubicBezTo>
              </a:path>
              <a:path w="6276" h="2928">
                <a:moveTo>
                  <a:pt x="11931" y="10815"/>
                </a:moveTo>
                <a:cubicBezTo>
                  <a:pt x="12111" y="10774"/>
                  <a:pt x="12267" y="10740"/>
                  <a:pt x="12452" y="10740"/>
                </a:cubicBezTo>
              </a:path>
              <a:path w="6276" h="2928">
                <a:moveTo>
                  <a:pt x="12824" y="10319"/>
                </a:moveTo>
                <a:cubicBezTo>
                  <a:pt x="13002" y="10521"/>
                  <a:pt x="13184" y="10720"/>
                  <a:pt x="13370" y="10914"/>
                </a:cubicBezTo>
                <a:cubicBezTo>
                  <a:pt x="13386" y="10931"/>
                  <a:pt x="13403" y="10947"/>
                  <a:pt x="13419" y="10964"/>
                </a:cubicBezTo>
              </a:path>
              <a:path w="6276" h="2928">
                <a:moveTo>
                  <a:pt x="13494" y="10145"/>
                </a:moveTo>
                <a:cubicBezTo>
                  <a:pt x="13315" y="10419"/>
                  <a:pt x="13172" y="10719"/>
                  <a:pt x="13022" y="11013"/>
                </a:cubicBezTo>
                <a:cubicBezTo>
                  <a:pt x="13014" y="11030"/>
                  <a:pt x="13006" y="11046"/>
                  <a:pt x="12998" y="11063"/>
                </a:cubicBezTo>
              </a:path>
              <a:path w="6276" h="2928">
                <a:moveTo>
                  <a:pt x="9947" y="12254"/>
                </a:moveTo>
                <a:cubicBezTo>
                  <a:pt x="10282" y="12277"/>
                  <a:pt x="10628" y="12307"/>
                  <a:pt x="10964" y="12303"/>
                </a:cubicBezTo>
                <a:cubicBezTo>
                  <a:pt x="11888" y="12292"/>
                  <a:pt x="12854" y="12150"/>
                  <a:pt x="13717" y="11807"/>
                </a:cubicBezTo>
                <a:cubicBezTo>
                  <a:pt x="14126" y="11644"/>
                  <a:pt x="14622" y="11381"/>
                  <a:pt x="14784" y="10939"/>
                </a:cubicBezTo>
                <a:cubicBezTo>
                  <a:pt x="14868" y="10709"/>
                  <a:pt x="14809" y="10375"/>
                  <a:pt x="14684" y="10170"/>
                </a:cubicBezTo>
                <a:cubicBezTo>
                  <a:pt x="14460" y="9803"/>
                  <a:pt x="14103" y="9668"/>
                  <a:pt x="13717" y="9550"/>
                </a:cubicBezTo>
                <a:cubicBezTo>
                  <a:pt x="13339" y="9435"/>
                  <a:pt x="12897" y="9397"/>
                  <a:pt x="12502" y="9376"/>
                </a:cubicBezTo>
                <a:cubicBezTo>
                  <a:pt x="11602" y="9327"/>
                  <a:pt x="10556" y="9299"/>
                  <a:pt x="9699" y="9599"/>
                </a:cubicBezTo>
                <a:cubicBezTo>
                  <a:pt x="9107" y="9806"/>
                  <a:pt x="8507" y="10322"/>
                  <a:pt x="8533" y="11013"/>
                </a:cubicBezTo>
                <a:cubicBezTo>
                  <a:pt x="8548" y="11407"/>
                  <a:pt x="8956" y="11763"/>
                  <a:pt x="9277" y="11931"/>
                </a:cubicBezTo>
                <a:cubicBezTo>
                  <a:pt x="9637" y="12120"/>
                  <a:pt x="10026" y="12118"/>
                  <a:pt x="10418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40320" y="2224080"/>
            <a:ext cx="223920" cy="249120"/>
          </a:xfrm>
          <a:custGeom>
            <a:avLst/>
            <a:gdLst/>
            <a:ahLst/>
            <a:rect l="l" t="t" r="r" b="b"/>
            <a:pathLst>
              <a:path w="621" h="696">
                <a:moveTo>
                  <a:pt x="17611" y="6276"/>
                </a:moveTo>
                <a:cubicBezTo>
                  <a:pt x="17801" y="6487"/>
                  <a:pt x="18000" y="6677"/>
                  <a:pt x="18207" y="6871"/>
                </a:cubicBezTo>
              </a:path>
              <a:path w="621" h="696">
                <a:moveTo>
                  <a:pt x="18231" y="6176"/>
                </a:moveTo>
                <a:cubicBezTo>
                  <a:pt x="18057" y="6393"/>
                  <a:pt x="17940" y="6637"/>
                  <a:pt x="17785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ce of 20 and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46640" y="1285920"/>
            <a:ext cx="3170160" cy="946080"/>
          </a:xfrm>
          <a:custGeom>
            <a:avLst/>
            <a:gdLst/>
            <a:ahLst/>
            <a:rect l="l" t="t" r="r" b="b"/>
            <a:pathLst>
              <a:path w="8806" h="2630">
                <a:moveTo>
                  <a:pt x="10145" y="5234"/>
                </a:moveTo>
                <a:cubicBezTo>
                  <a:pt x="10371" y="5277"/>
                  <a:pt x="10586" y="5246"/>
                  <a:pt x="10815" y="5234"/>
                </a:cubicBezTo>
                <a:cubicBezTo>
                  <a:pt x="10856" y="5234"/>
                  <a:pt x="10898" y="5234"/>
                  <a:pt x="10939" y="5234"/>
                </a:cubicBezTo>
              </a:path>
              <a:path w="8806" h="2630">
                <a:moveTo>
                  <a:pt x="15974" y="5060"/>
                </a:moveTo>
                <a:cubicBezTo>
                  <a:pt x="16226" y="4998"/>
                  <a:pt x="16449" y="5150"/>
                  <a:pt x="16346" y="5482"/>
                </a:cubicBezTo>
                <a:cubicBezTo>
                  <a:pt x="16253" y="5783"/>
                  <a:pt x="15943" y="5909"/>
                  <a:pt x="15726" y="5730"/>
                </a:cubicBezTo>
                <a:cubicBezTo>
                  <a:pt x="15959" y="5497"/>
                  <a:pt x="16000" y="5518"/>
                  <a:pt x="16247" y="5730"/>
                </a:cubicBezTo>
              </a:path>
              <a:path w="8806" h="2630">
                <a:moveTo>
                  <a:pt x="16818" y="5011"/>
                </a:moveTo>
                <a:cubicBezTo>
                  <a:pt x="16660" y="5285"/>
                  <a:pt x="16631" y="5284"/>
                  <a:pt x="16718" y="5581"/>
                </a:cubicBezTo>
                <a:cubicBezTo>
                  <a:pt x="16934" y="5599"/>
                  <a:pt x="17222" y="5502"/>
                  <a:pt x="17090" y="5184"/>
                </a:cubicBezTo>
                <a:cubicBezTo>
                  <a:pt x="17049" y="5134"/>
                  <a:pt x="17007" y="5085"/>
                  <a:pt x="16966" y="5035"/>
                </a:cubicBezTo>
              </a:path>
              <a:path w="8806" h="2630">
                <a:moveTo>
                  <a:pt x="10195" y="6003"/>
                </a:moveTo>
                <a:cubicBezTo>
                  <a:pt x="10541" y="6233"/>
                  <a:pt x="10878" y="6282"/>
                  <a:pt x="11261" y="6028"/>
                </a:cubicBezTo>
                <a:cubicBezTo>
                  <a:pt x="11704" y="5734"/>
                  <a:pt x="11947" y="5160"/>
                  <a:pt x="11733" y="4663"/>
                </a:cubicBezTo>
                <a:cubicBezTo>
                  <a:pt x="11527" y="4185"/>
                  <a:pt x="10947" y="4091"/>
                  <a:pt x="10492" y="4167"/>
                </a:cubicBezTo>
                <a:cubicBezTo>
                  <a:pt x="10003" y="4248"/>
                  <a:pt x="9692" y="4699"/>
                  <a:pt x="9599" y="5159"/>
                </a:cubicBezTo>
                <a:cubicBezTo>
                  <a:pt x="9492" y="5689"/>
                  <a:pt x="9647" y="5852"/>
                  <a:pt x="9971" y="6176"/>
                </a:cubicBezTo>
              </a:path>
              <a:path w="8806" h="2630">
                <a:moveTo>
                  <a:pt x="11683" y="4738"/>
                </a:moveTo>
                <a:cubicBezTo>
                  <a:pt x="11764" y="4641"/>
                  <a:pt x="11839" y="4531"/>
                  <a:pt x="11931" y="4440"/>
                </a:cubicBezTo>
                <a:cubicBezTo>
                  <a:pt x="12234" y="4143"/>
                  <a:pt x="12548" y="3939"/>
                  <a:pt x="12948" y="3795"/>
                </a:cubicBezTo>
                <a:cubicBezTo>
                  <a:pt x="13464" y="3610"/>
                  <a:pt x="13945" y="3570"/>
                  <a:pt x="14486" y="3597"/>
                </a:cubicBezTo>
                <a:cubicBezTo>
                  <a:pt x="14949" y="3620"/>
                  <a:pt x="15417" y="3659"/>
                  <a:pt x="15875" y="3721"/>
                </a:cubicBezTo>
                <a:cubicBezTo>
                  <a:pt x="16248" y="3772"/>
                  <a:pt x="16631" y="3833"/>
                  <a:pt x="16991" y="3944"/>
                </a:cubicBezTo>
                <a:cubicBezTo>
                  <a:pt x="17233" y="4018"/>
                  <a:pt x="17481" y="4161"/>
                  <a:pt x="17661" y="4341"/>
                </a:cubicBezTo>
                <a:cubicBezTo>
                  <a:pt x="17884" y="4564"/>
                  <a:pt x="18056" y="4827"/>
                  <a:pt x="18182" y="5110"/>
                </a:cubicBezTo>
                <a:cubicBezTo>
                  <a:pt x="18229" y="5216"/>
                  <a:pt x="18240" y="5238"/>
                  <a:pt x="18306" y="5333"/>
                </a:cubicBezTo>
                <a:cubicBezTo>
                  <a:pt x="18302" y="5136"/>
                  <a:pt x="18293" y="4960"/>
                  <a:pt x="18256" y="4762"/>
                </a:cubicBezTo>
                <a:cubicBezTo>
                  <a:pt x="18302" y="4919"/>
                  <a:pt x="18346" y="5074"/>
                  <a:pt x="18380" y="5234"/>
                </a:cubicBezTo>
                <a:cubicBezTo>
                  <a:pt x="18244" y="5234"/>
                  <a:pt x="18080" y="5225"/>
                  <a:pt x="17934" y="5259"/>
                </a:cubicBezTo>
                <a:cubicBezTo>
                  <a:pt x="17909" y="5275"/>
                  <a:pt x="17884" y="5292"/>
                  <a:pt x="17859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8000" y="2830680"/>
            <a:ext cx="162000" cy="169560"/>
          </a:xfrm>
          <a:custGeom>
            <a:avLst/>
            <a:gdLst/>
            <a:ahLst/>
            <a:rect l="l" t="t" r="r" b="b"/>
            <a:pathLst>
              <a:path w="448" h="472">
                <a:moveTo>
                  <a:pt x="12551" y="7863"/>
                </a:moveTo>
                <a:cubicBezTo>
                  <a:pt x="12689" y="7986"/>
                  <a:pt x="12790" y="8109"/>
                  <a:pt x="12898" y="8260"/>
                </a:cubicBezTo>
              </a:path>
              <a:path w="448" h="472">
                <a:moveTo>
                  <a:pt x="12998" y="7863"/>
                </a:moveTo>
                <a:cubicBezTo>
                  <a:pt x="12831" y="8102"/>
                  <a:pt x="12779" y="8175"/>
                  <a:pt x="12675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8080" y="4348080"/>
            <a:ext cx="627120" cy="349200"/>
          </a:xfrm>
          <a:custGeom>
            <a:avLst/>
            <a:gdLst/>
            <a:ahLst/>
            <a:rect l="l" t="t" r="r" b="b"/>
            <a:pathLst>
              <a:path w="1738" h="968">
                <a:moveTo>
                  <a:pt x="9178" y="12129"/>
                </a:moveTo>
                <a:cubicBezTo>
                  <a:pt x="9375" y="12090"/>
                  <a:pt x="9584" y="12080"/>
                  <a:pt x="9624" y="12378"/>
                </a:cubicBezTo>
                <a:cubicBezTo>
                  <a:pt x="9666" y="12693"/>
                  <a:pt x="9229" y="13229"/>
                  <a:pt x="8880" y="13022"/>
                </a:cubicBezTo>
                <a:cubicBezTo>
                  <a:pt x="8863" y="12973"/>
                  <a:pt x="8847" y="12923"/>
                  <a:pt x="8830" y="12874"/>
                </a:cubicBezTo>
                <a:cubicBezTo>
                  <a:pt x="9063" y="12663"/>
                  <a:pt x="9263" y="12562"/>
                  <a:pt x="9575" y="12725"/>
                </a:cubicBezTo>
                <a:cubicBezTo>
                  <a:pt x="9600" y="12750"/>
                  <a:pt x="9624" y="12774"/>
                  <a:pt x="9649" y="12799"/>
                </a:cubicBezTo>
              </a:path>
              <a:path w="1738" h="968">
                <a:moveTo>
                  <a:pt x="10145" y="12105"/>
                </a:moveTo>
                <a:cubicBezTo>
                  <a:pt x="9944" y="12319"/>
                  <a:pt x="9903" y="12491"/>
                  <a:pt x="9922" y="12774"/>
                </a:cubicBezTo>
                <a:cubicBezTo>
                  <a:pt x="10194" y="12845"/>
                  <a:pt x="10477" y="12829"/>
                  <a:pt x="10567" y="12477"/>
                </a:cubicBezTo>
                <a:cubicBezTo>
                  <a:pt x="10638" y="12200"/>
                  <a:pt x="10512" y="12175"/>
                  <a:pt x="10319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10040" y="4464000"/>
            <a:ext cx="196920" cy="1800"/>
          </a:xfrm>
          <a:custGeom>
            <a:avLst/>
            <a:gdLst/>
            <a:ahLst/>
            <a:rect l="l" t="t" r="r" b="b"/>
            <a:pathLst>
              <a:path w="547" h="1">
                <a:moveTo>
                  <a:pt x="11137" y="12402"/>
                </a:moveTo>
                <a:cubicBezTo>
                  <a:pt x="11319" y="12402"/>
                  <a:pt x="11501" y="12402"/>
                  <a:pt x="11683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46720" y="4295880"/>
            <a:ext cx="22356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12378" y="12030"/>
                </a:moveTo>
                <a:cubicBezTo>
                  <a:pt x="12545" y="12209"/>
                  <a:pt x="12714" y="12365"/>
                  <a:pt x="12898" y="12526"/>
                </a:cubicBezTo>
                <a:cubicBezTo>
                  <a:pt x="12915" y="12543"/>
                  <a:pt x="12931" y="12559"/>
                  <a:pt x="12948" y="12576"/>
                </a:cubicBezTo>
              </a:path>
              <a:path w="621" h="745">
                <a:moveTo>
                  <a:pt x="12973" y="11931"/>
                </a:moveTo>
                <a:cubicBezTo>
                  <a:pt x="12718" y="12087"/>
                  <a:pt x="12592" y="12381"/>
                  <a:pt x="12402" y="12626"/>
                </a:cubicBezTo>
                <a:cubicBezTo>
                  <a:pt x="12386" y="12642"/>
                  <a:pt x="12369" y="12659"/>
                  <a:pt x="12353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17880" y="3830760"/>
            <a:ext cx="2117520" cy="1224000"/>
          </a:xfrm>
          <a:custGeom>
            <a:avLst/>
            <a:gdLst/>
            <a:ahLst/>
            <a:rect l="l" t="t" r="r" b="b"/>
            <a:pathLst>
              <a:path w="5880" h="3399">
                <a:moveTo>
                  <a:pt x="9500" y="14039"/>
                </a:moveTo>
                <a:cubicBezTo>
                  <a:pt x="10170" y="13955"/>
                  <a:pt x="10839" y="13886"/>
                  <a:pt x="11509" y="13791"/>
                </a:cubicBezTo>
                <a:cubicBezTo>
                  <a:pt x="12353" y="13671"/>
                  <a:pt x="13301" y="13565"/>
                  <a:pt x="13990" y="12998"/>
                </a:cubicBezTo>
                <a:cubicBezTo>
                  <a:pt x="14437" y="12630"/>
                  <a:pt x="14278" y="12093"/>
                  <a:pt x="14015" y="11683"/>
                </a:cubicBezTo>
                <a:cubicBezTo>
                  <a:pt x="13656" y="11124"/>
                  <a:pt x="13175" y="10837"/>
                  <a:pt x="12526" y="10740"/>
                </a:cubicBezTo>
                <a:cubicBezTo>
                  <a:pt x="11515" y="10589"/>
                  <a:pt x="10407" y="10563"/>
                  <a:pt x="9426" y="10889"/>
                </a:cubicBezTo>
                <a:cubicBezTo>
                  <a:pt x="8626" y="11155"/>
                  <a:pt x="8327" y="11847"/>
                  <a:pt x="8384" y="12650"/>
                </a:cubicBezTo>
                <a:cubicBezTo>
                  <a:pt x="8440" y="13433"/>
                  <a:pt x="8897" y="13480"/>
                  <a:pt x="9550" y="136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20 and a numbe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16120" y="1401840"/>
            <a:ext cx="2938680" cy="955440"/>
          </a:xfrm>
          <a:custGeom>
            <a:avLst/>
            <a:gdLst/>
            <a:ahLst/>
            <a:rect l="l" t="t" r="r" b="b"/>
            <a:pathLst>
              <a:path w="8162" h="2655">
                <a:moveTo>
                  <a:pt x="7764" y="5159"/>
                </a:moveTo>
                <a:cubicBezTo>
                  <a:pt x="7913" y="5407"/>
                  <a:pt x="8060" y="5656"/>
                  <a:pt x="8210" y="5904"/>
                </a:cubicBezTo>
                <a:cubicBezTo>
                  <a:pt x="8227" y="5929"/>
                  <a:pt x="8243" y="5953"/>
                  <a:pt x="8260" y="5978"/>
                </a:cubicBezTo>
              </a:path>
              <a:path w="8162" h="2655">
                <a:moveTo>
                  <a:pt x="8111" y="5259"/>
                </a:moveTo>
                <a:cubicBezTo>
                  <a:pt x="8022" y="5549"/>
                  <a:pt x="7932" y="5839"/>
                  <a:pt x="7838" y="6127"/>
                </a:cubicBezTo>
              </a:path>
              <a:path w="8162" h="2655">
                <a:moveTo>
                  <a:pt x="12452" y="5209"/>
                </a:moveTo>
                <a:cubicBezTo>
                  <a:pt x="12612" y="5243"/>
                  <a:pt x="12808" y="5365"/>
                  <a:pt x="12750" y="5581"/>
                </a:cubicBezTo>
                <a:cubicBezTo>
                  <a:pt x="12668" y="5889"/>
                  <a:pt x="12452" y="6040"/>
                  <a:pt x="12179" y="6003"/>
                </a:cubicBezTo>
                <a:cubicBezTo>
                  <a:pt x="12206" y="5772"/>
                  <a:pt x="12412" y="5658"/>
                  <a:pt x="12675" y="5755"/>
                </a:cubicBezTo>
                <a:cubicBezTo>
                  <a:pt x="12716" y="5788"/>
                  <a:pt x="12758" y="5821"/>
                  <a:pt x="12799" y="5854"/>
                </a:cubicBezTo>
              </a:path>
              <a:path w="8162" h="2655">
                <a:moveTo>
                  <a:pt x="13196" y="5283"/>
                </a:moveTo>
                <a:cubicBezTo>
                  <a:pt x="13084" y="5576"/>
                  <a:pt x="13069" y="5616"/>
                  <a:pt x="13171" y="5904"/>
                </a:cubicBezTo>
                <a:cubicBezTo>
                  <a:pt x="13380" y="5888"/>
                  <a:pt x="13764" y="5766"/>
                  <a:pt x="13667" y="5432"/>
                </a:cubicBezTo>
                <a:cubicBezTo>
                  <a:pt x="13529" y="5266"/>
                  <a:pt x="13467" y="5210"/>
                  <a:pt x="13295" y="5209"/>
                </a:cubicBezTo>
              </a:path>
              <a:path w="8162" h="2655">
                <a:moveTo>
                  <a:pt x="7739" y="6449"/>
                </a:moveTo>
                <a:cubicBezTo>
                  <a:pt x="8096" y="6602"/>
                  <a:pt x="8471" y="6560"/>
                  <a:pt x="8806" y="6300"/>
                </a:cubicBezTo>
                <a:cubicBezTo>
                  <a:pt x="9146" y="6036"/>
                  <a:pt x="9458" y="5381"/>
                  <a:pt x="9079" y="5011"/>
                </a:cubicBezTo>
                <a:cubicBezTo>
                  <a:pt x="8736" y="4676"/>
                  <a:pt x="8017" y="4484"/>
                  <a:pt x="7590" y="4738"/>
                </a:cubicBezTo>
                <a:cubicBezTo>
                  <a:pt x="7094" y="5033"/>
                  <a:pt x="7210" y="5878"/>
                  <a:pt x="7565" y="6226"/>
                </a:cubicBezTo>
                <a:cubicBezTo>
                  <a:pt x="7893" y="6377"/>
                  <a:pt x="8007" y="6427"/>
                  <a:pt x="8260" y="6350"/>
                </a:cubicBezTo>
              </a:path>
              <a:path w="8162" h="2655">
                <a:moveTo>
                  <a:pt x="9079" y="5060"/>
                </a:moveTo>
                <a:cubicBezTo>
                  <a:pt x="9314" y="4786"/>
                  <a:pt x="9528" y="4618"/>
                  <a:pt x="9847" y="4440"/>
                </a:cubicBezTo>
                <a:cubicBezTo>
                  <a:pt x="10446" y="4107"/>
                  <a:pt x="11122" y="3926"/>
                  <a:pt x="11807" y="3894"/>
                </a:cubicBezTo>
                <a:cubicBezTo>
                  <a:pt x="12223" y="3875"/>
                  <a:pt x="12659" y="3883"/>
                  <a:pt x="13072" y="3944"/>
                </a:cubicBezTo>
                <a:cubicBezTo>
                  <a:pt x="13608" y="4024"/>
                  <a:pt x="14138" y="4225"/>
                  <a:pt x="14560" y="4564"/>
                </a:cubicBezTo>
                <a:cubicBezTo>
                  <a:pt x="14852" y="4799"/>
                  <a:pt x="15005" y="5067"/>
                  <a:pt x="15156" y="5407"/>
                </a:cubicBezTo>
                <a:cubicBezTo>
                  <a:pt x="15167" y="5433"/>
                  <a:pt x="15345" y="6091"/>
                  <a:pt x="15329" y="5730"/>
                </a:cubicBezTo>
                <a:cubicBezTo>
                  <a:pt x="15321" y="5546"/>
                  <a:pt x="15286" y="5368"/>
                  <a:pt x="15280" y="5184"/>
                </a:cubicBezTo>
                <a:cubicBezTo>
                  <a:pt x="15272" y="5159"/>
                  <a:pt x="15263" y="5135"/>
                  <a:pt x="15255" y="5110"/>
                </a:cubicBezTo>
                <a:cubicBezTo>
                  <a:pt x="15326" y="5350"/>
                  <a:pt x="15388" y="5586"/>
                  <a:pt x="15429" y="5829"/>
                </a:cubicBezTo>
                <a:cubicBezTo>
                  <a:pt x="15198" y="5805"/>
                  <a:pt x="14950" y="5773"/>
                  <a:pt x="14709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97800" y="1919160"/>
            <a:ext cx="214200" cy="233640"/>
          </a:xfrm>
          <a:custGeom>
            <a:avLst/>
            <a:gdLst/>
            <a:ahLst/>
            <a:rect l="l" t="t" r="r" b="b"/>
            <a:pathLst>
              <a:path w="596" h="646">
                <a:moveTo>
                  <a:pt x="18604" y="5383"/>
                </a:moveTo>
                <a:cubicBezTo>
                  <a:pt x="18811" y="5616"/>
                  <a:pt x="18884" y="5701"/>
                  <a:pt x="19000" y="5879"/>
                </a:cubicBezTo>
              </a:path>
              <a:path w="596" h="646">
                <a:moveTo>
                  <a:pt x="19199" y="5333"/>
                </a:moveTo>
                <a:cubicBezTo>
                  <a:pt x="19006" y="5646"/>
                  <a:pt x="18943" y="5743"/>
                  <a:pt x="18876" y="59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97160" y="4170240"/>
            <a:ext cx="1268640" cy="438120"/>
          </a:xfrm>
          <a:custGeom>
            <a:avLst/>
            <a:gdLst/>
            <a:ahLst/>
            <a:rect l="l" t="t" r="r" b="b"/>
            <a:pathLst>
              <a:path w="3523" h="1216">
                <a:moveTo>
                  <a:pt x="9178" y="11609"/>
                </a:moveTo>
                <a:cubicBezTo>
                  <a:pt x="9461" y="11609"/>
                  <a:pt x="9501" y="11659"/>
                  <a:pt x="9723" y="11832"/>
                </a:cubicBezTo>
                <a:cubicBezTo>
                  <a:pt x="9654" y="12153"/>
                  <a:pt x="9437" y="12719"/>
                  <a:pt x="8954" y="12626"/>
                </a:cubicBezTo>
                <a:cubicBezTo>
                  <a:pt x="8929" y="12585"/>
                  <a:pt x="8905" y="12543"/>
                  <a:pt x="8880" y="12502"/>
                </a:cubicBezTo>
                <a:cubicBezTo>
                  <a:pt x="9126" y="12215"/>
                  <a:pt x="9261" y="12115"/>
                  <a:pt x="9599" y="12378"/>
                </a:cubicBezTo>
                <a:cubicBezTo>
                  <a:pt x="9640" y="12419"/>
                  <a:pt x="9682" y="12461"/>
                  <a:pt x="9723" y="12502"/>
                </a:cubicBezTo>
              </a:path>
              <a:path w="3523" h="1216">
                <a:moveTo>
                  <a:pt x="10220" y="11757"/>
                </a:moveTo>
                <a:cubicBezTo>
                  <a:pt x="10039" y="11923"/>
                  <a:pt x="9948" y="12182"/>
                  <a:pt x="10071" y="12427"/>
                </a:cubicBezTo>
                <a:cubicBezTo>
                  <a:pt x="10112" y="12460"/>
                  <a:pt x="10154" y="12493"/>
                  <a:pt x="10195" y="12526"/>
                </a:cubicBezTo>
                <a:cubicBezTo>
                  <a:pt x="10395" y="12426"/>
                  <a:pt x="10838" y="12159"/>
                  <a:pt x="10542" y="11881"/>
                </a:cubicBezTo>
                <a:cubicBezTo>
                  <a:pt x="10476" y="11856"/>
                  <a:pt x="10410" y="11832"/>
                  <a:pt x="10344" y="11807"/>
                </a:cubicBezTo>
              </a:path>
              <a:path w="3523" h="1216">
                <a:moveTo>
                  <a:pt x="11088" y="12080"/>
                </a:moveTo>
                <a:cubicBezTo>
                  <a:pt x="11201" y="12239"/>
                  <a:pt x="11231" y="12283"/>
                  <a:pt x="11311" y="12378"/>
                </a:cubicBezTo>
              </a:path>
              <a:path w="3523" h="1216">
                <a:moveTo>
                  <a:pt x="11336" y="11956"/>
                </a:moveTo>
                <a:cubicBezTo>
                  <a:pt x="11256" y="12096"/>
                  <a:pt x="11176" y="12232"/>
                  <a:pt x="11112" y="12378"/>
                </a:cubicBezTo>
              </a:path>
              <a:path w="3523" h="1216">
                <a:moveTo>
                  <a:pt x="11857" y="11807"/>
                </a:moveTo>
                <a:cubicBezTo>
                  <a:pt x="11996" y="11998"/>
                  <a:pt x="12155" y="12144"/>
                  <a:pt x="12328" y="12303"/>
                </a:cubicBezTo>
                <a:cubicBezTo>
                  <a:pt x="12353" y="12328"/>
                  <a:pt x="12377" y="12353"/>
                  <a:pt x="12402" y="12378"/>
                </a:cubicBezTo>
              </a:path>
              <a:path w="3523" h="1216">
                <a:moveTo>
                  <a:pt x="12278" y="11658"/>
                </a:moveTo>
                <a:cubicBezTo>
                  <a:pt x="12162" y="11906"/>
                  <a:pt x="12069" y="12114"/>
                  <a:pt x="12005" y="12378"/>
                </a:cubicBezTo>
              </a:path>
              <a:path w="3523" h="1216">
                <a:moveTo>
                  <a:pt x="10790" y="12725"/>
                </a:moveTo>
                <a:cubicBezTo>
                  <a:pt x="11012" y="12864"/>
                  <a:pt x="11200" y="12758"/>
                  <a:pt x="11435" y="12675"/>
                </a:cubicBezTo>
                <a:cubicBezTo>
                  <a:pt x="11696" y="12583"/>
                  <a:pt x="11855" y="12432"/>
                  <a:pt x="11832" y="12129"/>
                </a:cubicBezTo>
                <a:cubicBezTo>
                  <a:pt x="11813" y="11879"/>
                  <a:pt x="11521" y="11692"/>
                  <a:pt x="11286" y="11683"/>
                </a:cubicBezTo>
                <a:cubicBezTo>
                  <a:pt x="10989" y="11671"/>
                  <a:pt x="10818" y="12118"/>
                  <a:pt x="10840" y="12353"/>
                </a:cubicBezTo>
                <a:cubicBezTo>
                  <a:pt x="10933" y="12587"/>
                  <a:pt x="10953" y="12663"/>
                  <a:pt x="11137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0920" y="4956120"/>
            <a:ext cx="716040" cy="330120"/>
          </a:xfrm>
          <a:custGeom>
            <a:avLst/>
            <a:gdLst/>
            <a:ahLst/>
            <a:rect l="l" t="t" r="r" b="b"/>
            <a:pathLst>
              <a:path w="1985" h="918">
                <a:moveTo>
                  <a:pt x="10021" y="13767"/>
                </a:moveTo>
                <a:cubicBezTo>
                  <a:pt x="10369" y="13911"/>
                  <a:pt x="10452" y="14191"/>
                  <a:pt x="10145" y="14511"/>
                </a:cubicBezTo>
                <a:cubicBezTo>
                  <a:pt x="9930" y="14640"/>
                  <a:pt x="9886" y="14690"/>
                  <a:pt x="9723" y="14660"/>
                </a:cubicBezTo>
                <a:cubicBezTo>
                  <a:pt x="9749" y="14367"/>
                  <a:pt x="9897" y="14215"/>
                  <a:pt x="10220" y="14362"/>
                </a:cubicBezTo>
                <a:cubicBezTo>
                  <a:pt x="10326" y="14447"/>
                  <a:pt x="10355" y="14460"/>
                  <a:pt x="10393" y="14536"/>
                </a:cubicBezTo>
              </a:path>
              <a:path w="1985" h="918">
                <a:moveTo>
                  <a:pt x="10666" y="13767"/>
                </a:moveTo>
                <a:cubicBezTo>
                  <a:pt x="10522" y="13862"/>
                  <a:pt x="10392" y="14213"/>
                  <a:pt x="10468" y="14412"/>
                </a:cubicBezTo>
                <a:cubicBezTo>
                  <a:pt x="10509" y="14445"/>
                  <a:pt x="10551" y="14478"/>
                  <a:pt x="10592" y="14511"/>
                </a:cubicBezTo>
                <a:cubicBezTo>
                  <a:pt x="10805" y="14442"/>
                  <a:pt x="11173" y="14275"/>
                  <a:pt x="10964" y="13965"/>
                </a:cubicBezTo>
                <a:cubicBezTo>
                  <a:pt x="10914" y="13932"/>
                  <a:pt x="10865" y="13899"/>
                  <a:pt x="10815" y="13866"/>
                </a:cubicBezTo>
              </a:path>
              <a:path w="1985" h="918">
                <a:moveTo>
                  <a:pt x="11336" y="14064"/>
                </a:moveTo>
                <a:cubicBezTo>
                  <a:pt x="11421" y="14287"/>
                  <a:pt x="11487" y="14370"/>
                  <a:pt x="11683" y="14511"/>
                </a:cubicBezTo>
              </a:path>
              <a:path w="1985" h="918">
                <a:moveTo>
                  <a:pt x="11683" y="13965"/>
                </a:moveTo>
                <a:cubicBezTo>
                  <a:pt x="11546" y="14172"/>
                  <a:pt x="11396" y="14399"/>
                  <a:pt x="11311" y="14635"/>
                </a:cubicBezTo>
                <a:cubicBezTo>
                  <a:pt x="11311" y="14651"/>
                  <a:pt x="11311" y="14668"/>
                  <a:pt x="11311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z Monday (function tables and writing express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Thursday (review will be given out next we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quotient 20 and a number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67080" y="4044960"/>
            <a:ext cx="723960" cy="366840"/>
          </a:xfrm>
          <a:custGeom>
            <a:avLst/>
            <a:gdLst/>
            <a:ahLst/>
            <a:rect l="l" t="t" r="r" b="b"/>
            <a:pathLst>
              <a:path w="2011" h="1018">
                <a:moveTo>
                  <a:pt x="9674" y="11361"/>
                </a:moveTo>
                <a:cubicBezTo>
                  <a:pt x="9913" y="11249"/>
                  <a:pt x="9983" y="11219"/>
                  <a:pt x="10195" y="11336"/>
                </a:cubicBezTo>
                <a:cubicBezTo>
                  <a:pt x="10036" y="11696"/>
                  <a:pt x="9776" y="11958"/>
                  <a:pt x="9451" y="12204"/>
                </a:cubicBezTo>
                <a:cubicBezTo>
                  <a:pt x="9418" y="12221"/>
                  <a:pt x="9384" y="12237"/>
                  <a:pt x="9351" y="12254"/>
                </a:cubicBezTo>
                <a:cubicBezTo>
                  <a:pt x="9648" y="12092"/>
                  <a:pt x="9840" y="12098"/>
                  <a:pt x="10170" y="12154"/>
                </a:cubicBezTo>
              </a:path>
              <a:path w="2011" h="1018">
                <a:moveTo>
                  <a:pt x="11013" y="11237"/>
                </a:moveTo>
                <a:cubicBezTo>
                  <a:pt x="10772" y="11289"/>
                  <a:pt x="10589" y="11530"/>
                  <a:pt x="10542" y="11782"/>
                </a:cubicBezTo>
                <a:cubicBezTo>
                  <a:pt x="10550" y="11856"/>
                  <a:pt x="10559" y="11931"/>
                  <a:pt x="10567" y="12005"/>
                </a:cubicBezTo>
                <a:cubicBezTo>
                  <a:pt x="10895" y="12202"/>
                  <a:pt x="11228" y="12196"/>
                  <a:pt x="11361" y="11708"/>
                </a:cubicBezTo>
                <a:cubicBezTo>
                  <a:pt x="11458" y="11350"/>
                  <a:pt x="11112" y="11332"/>
                  <a:pt x="10889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4800" y="3946680"/>
            <a:ext cx="723600" cy="411120"/>
          </a:xfrm>
          <a:custGeom>
            <a:avLst/>
            <a:gdLst/>
            <a:ahLst/>
            <a:rect l="l" t="t" r="r" b="b"/>
            <a:pathLst>
              <a:path w="2010" h="1142">
                <a:moveTo>
                  <a:pt x="12179" y="11584"/>
                </a:moveTo>
                <a:cubicBezTo>
                  <a:pt x="12437" y="11604"/>
                  <a:pt x="12689" y="11609"/>
                  <a:pt x="12948" y="11609"/>
                </a:cubicBezTo>
              </a:path>
              <a:path w="2010" h="1142">
                <a:moveTo>
                  <a:pt x="12402" y="10964"/>
                </a:moveTo>
                <a:lnTo>
                  <a:pt x="12402" y="10964"/>
                </a:lnTo>
              </a:path>
              <a:path w="2010" h="1142">
                <a:moveTo>
                  <a:pt x="12502" y="12005"/>
                </a:moveTo>
                <a:cubicBezTo>
                  <a:pt x="12494" y="12013"/>
                  <a:pt x="12485" y="12022"/>
                  <a:pt x="12477" y="12030"/>
                </a:cubicBezTo>
              </a:path>
              <a:path w="2010" h="1142">
                <a:moveTo>
                  <a:pt x="13692" y="11286"/>
                </a:moveTo>
                <a:cubicBezTo>
                  <a:pt x="13853" y="11507"/>
                  <a:pt x="14001" y="11731"/>
                  <a:pt x="14188" y="11931"/>
                </a:cubicBezTo>
              </a:path>
              <a:path w="2010" h="1142">
                <a:moveTo>
                  <a:pt x="14188" y="11286"/>
                </a:moveTo>
                <a:cubicBezTo>
                  <a:pt x="13995" y="11552"/>
                  <a:pt x="13770" y="11817"/>
                  <a:pt x="13618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08200" y="1393920"/>
            <a:ext cx="2990880" cy="946080"/>
          </a:xfrm>
          <a:custGeom>
            <a:avLst/>
            <a:gdLst/>
            <a:ahLst/>
            <a:rect l="l" t="t" r="r" b="b"/>
            <a:pathLst>
              <a:path w="8311" h="2630">
                <a:moveTo>
                  <a:pt x="7739" y="5507"/>
                </a:moveTo>
                <a:cubicBezTo>
                  <a:pt x="8010" y="5459"/>
                  <a:pt x="8303" y="5429"/>
                  <a:pt x="8582" y="5407"/>
                </a:cubicBezTo>
                <a:cubicBezTo>
                  <a:pt x="8615" y="5407"/>
                  <a:pt x="8649" y="5407"/>
                  <a:pt x="8682" y="5407"/>
                </a:cubicBezTo>
              </a:path>
              <a:path w="8311" h="2630">
                <a:moveTo>
                  <a:pt x="8285" y="4936"/>
                </a:moveTo>
                <a:lnTo>
                  <a:pt x="8285" y="4936"/>
                </a:lnTo>
              </a:path>
              <a:path w="8311" h="2630">
                <a:moveTo>
                  <a:pt x="8210" y="5928"/>
                </a:moveTo>
                <a:lnTo>
                  <a:pt x="8210" y="5928"/>
                </a:lnTo>
              </a:path>
              <a:path w="8311" h="2630">
                <a:moveTo>
                  <a:pt x="11485" y="5507"/>
                </a:moveTo>
                <a:cubicBezTo>
                  <a:pt x="11735" y="5362"/>
                  <a:pt x="11853" y="5634"/>
                  <a:pt x="11782" y="5904"/>
                </a:cubicBezTo>
                <a:cubicBezTo>
                  <a:pt x="11697" y="6227"/>
                  <a:pt x="11447" y="6276"/>
                  <a:pt x="11261" y="6077"/>
                </a:cubicBezTo>
                <a:cubicBezTo>
                  <a:pt x="11447" y="5945"/>
                  <a:pt x="11522" y="5997"/>
                  <a:pt x="11733" y="6077"/>
                </a:cubicBezTo>
                <a:cubicBezTo>
                  <a:pt x="11758" y="6085"/>
                  <a:pt x="11782" y="6094"/>
                  <a:pt x="11807" y="6102"/>
                </a:cubicBezTo>
              </a:path>
              <a:path w="8311" h="2630">
                <a:moveTo>
                  <a:pt x="12278" y="5358"/>
                </a:moveTo>
                <a:cubicBezTo>
                  <a:pt x="12137" y="5628"/>
                  <a:pt x="12094" y="5765"/>
                  <a:pt x="12179" y="6052"/>
                </a:cubicBezTo>
                <a:cubicBezTo>
                  <a:pt x="12352" y="6064"/>
                  <a:pt x="12886" y="5948"/>
                  <a:pt x="12650" y="5606"/>
                </a:cubicBezTo>
                <a:cubicBezTo>
                  <a:pt x="12457" y="5510"/>
                  <a:pt x="12397" y="5478"/>
                  <a:pt x="12254" y="5457"/>
                </a:cubicBezTo>
              </a:path>
              <a:path w="8311" h="2630">
                <a:moveTo>
                  <a:pt x="7565" y="6276"/>
                </a:moveTo>
                <a:cubicBezTo>
                  <a:pt x="7895" y="6427"/>
                  <a:pt x="8173" y="6471"/>
                  <a:pt x="8533" y="6325"/>
                </a:cubicBezTo>
                <a:cubicBezTo>
                  <a:pt x="9010" y="6131"/>
                  <a:pt x="9437" y="5686"/>
                  <a:pt x="9500" y="5159"/>
                </a:cubicBezTo>
                <a:cubicBezTo>
                  <a:pt x="9546" y="4773"/>
                  <a:pt x="9388" y="4396"/>
                  <a:pt x="9004" y="4266"/>
                </a:cubicBezTo>
                <a:cubicBezTo>
                  <a:pt x="8676" y="4155"/>
                  <a:pt x="8164" y="4224"/>
                  <a:pt x="7888" y="4440"/>
                </a:cubicBezTo>
                <a:cubicBezTo>
                  <a:pt x="7467" y="4769"/>
                  <a:pt x="7292" y="5425"/>
                  <a:pt x="7243" y="5928"/>
                </a:cubicBezTo>
                <a:cubicBezTo>
                  <a:pt x="7203" y="6340"/>
                  <a:pt x="7313" y="6474"/>
                  <a:pt x="7689" y="6474"/>
                </a:cubicBezTo>
              </a:path>
              <a:path w="8311" h="2630">
                <a:moveTo>
                  <a:pt x="9426" y="4911"/>
                </a:moveTo>
                <a:cubicBezTo>
                  <a:pt x="9682" y="4615"/>
                  <a:pt x="9915" y="4440"/>
                  <a:pt x="10269" y="4266"/>
                </a:cubicBezTo>
                <a:cubicBezTo>
                  <a:pt x="10819" y="3996"/>
                  <a:pt x="11418" y="3874"/>
                  <a:pt x="12030" y="3870"/>
                </a:cubicBezTo>
                <a:cubicBezTo>
                  <a:pt x="12578" y="3866"/>
                  <a:pt x="13170" y="3948"/>
                  <a:pt x="13692" y="4118"/>
                </a:cubicBezTo>
                <a:cubicBezTo>
                  <a:pt x="14047" y="4234"/>
                  <a:pt x="14376" y="4433"/>
                  <a:pt x="14684" y="4638"/>
                </a:cubicBezTo>
                <a:cubicBezTo>
                  <a:pt x="14872" y="4763"/>
                  <a:pt x="15042" y="4913"/>
                  <a:pt x="15156" y="5110"/>
                </a:cubicBezTo>
                <a:cubicBezTo>
                  <a:pt x="15234" y="5244"/>
                  <a:pt x="15308" y="5470"/>
                  <a:pt x="15404" y="5581"/>
                </a:cubicBezTo>
                <a:cubicBezTo>
                  <a:pt x="15523" y="5718"/>
                  <a:pt x="15445" y="5562"/>
                  <a:pt x="15503" y="5333"/>
                </a:cubicBezTo>
                <a:cubicBezTo>
                  <a:pt x="15545" y="5185"/>
                  <a:pt x="15562" y="5155"/>
                  <a:pt x="15553" y="5060"/>
                </a:cubicBezTo>
                <a:cubicBezTo>
                  <a:pt x="15541" y="5273"/>
                  <a:pt x="15515" y="5469"/>
                  <a:pt x="15478" y="5680"/>
                </a:cubicBezTo>
                <a:cubicBezTo>
                  <a:pt x="15459" y="5774"/>
                  <a:pt x="15472" y="5793"/>
                  <a:pt x="15429" y="5829"/>
                </a:cubicBezTo>
                <a:cubicBezTo>
                  <a:pt x="15260" y="5701"/>
                  <a:pt x="15095" y="5606"/>
                  <a:pt x="14908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9000" y="2009880"/>
            <a:ext cx="187200" cy="303120"/>
          </a:xfrm>
          <a:custGeom>
            <a:avLst/>
            <a:gdLst/>
            <a:ahLst/>
            <a:rect l="l" t="t" r="r" b="b"/>
            <a:pathLst>
              <a:path w="522" h="844">
                <a:moveTo>
                  <a:pt x="19298" y="5779"/>
                </a:moveTo>
                <a:cubicBezTo>
                  <a:pt x="19482" y="5909"/>
                  <a:pt x="19611" y="6092"/>
                  <a:pt x="19745" y="6276"/>
                </a:cubicBezTo>
                <a:cubicBezTo>
                  <a:pt x="19753" y="6292"/>
                  <a:pt x="19761" y="6309"/>
                  <a:pt x="19769" y="6325"/>
                </a:cubicBezTo>
              </a:path>
              <a:path w="522" h="844">
                <a:moveTo>
                  <a:pt x="19794" y="5581"/>
                </a:moveTo>
                <a:cubicBezTo>
                  <a:pt x="19744" y="5810"/>
                  <a:pt x="19589" y="6012"/>
                  <a:pt x="19447" y="6201"/>
                </a:cubicBezTo>
                <a:cubicBezTo>
                  <a:pt x="19345" y="6323"/>
                  <a:pt x="19323" y="6344"/>
                  <a:pt x="19273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2080" y="3795840"/>
            <a:ext cx="1965240" cy="911160"/>
          </a:xfrm>
          <a:custGeom>
            <a:avLst/>
            <a:gdLst/>
            <a:ahLst/>
            <a:rect l="l" t="t" r="r" b="b"/>
            <a:pathLst>
              <a:path w="5458" h="2531">
                <a:moveTo>
                  <a:pt x="9079" y="13072"/>
                </a:moveTo>
                <a:cubicBezTo>
                  <a:pt x="9567" y="13056"/>
                  <a:pt x="10053" y="13036"/>
                  <a:pt x="10542" y="13047"/>
                </a:cubicBezTo>
                <a:cubicBezTo>
                  <a:pt x="11493" y="13069"/>
                  <a:pt x="12543" y="13117"/>
                  <a:pt x="13469" y="12849"/>
                </a:cubicBezTo>
                <a:cubicBezTo>
                  <a:pt x="13838" y="12742"/>
                  <a:pt x="14117" y="12572"/>
                  <a:pt x="14288" y="12229"/>
                </a:cubicBezTo>
                <a:cubicBezTo>
                  <a:pt x="14357" y="12091"/>
                  <a:pt x="14427" y="11933"/>
                  <a:pt x="14436" y="11782"/>
                </a:cubicBezTo>
                <a:cubicBezTo>
                  <a:pt x="14447" y="11582"/>
                  <a:pt x="14254" y="11337"/>
                  <a:pt x="14139" y="11187"/>
                </a:cubicBezTo>
                <a:cubicBezTo>
                  <a:pt x="13992" y="10994"/>
                  <a:pt x="13812" y="10847"/>
                  <a:pt x="13593" y="10740"/>
                </a:cubicBezTo>
                <a:cubicBezTo>
                  <a:pt x="13402" y="10647"/>
                  <a:pt x="13181" y="10598"/>
                  <a:pt x="12973" y="10567"/>
                </a:cubicBezTo>
                <a:cubicBezTo>
                  <a:pt x="12582" y="10509"/>
                  <a:pt x="12174" y="10539"/>
                  <a:pt x="11782" y="10567"/>
                </a:cubicBezTo>
                <a:cubicBezTo>
                  <a:pt x="11301" y="10602"/>
                  <a:pt x="10790" y="10607"/>
                  <a:pt x="10319" y="10716"/>
                </a:cubicBezTo>
                <a:cubicBezTo>
                  <a:pt x="10042" y="10780"/>
                  <a:pt x="9741" y="10883"/>
                  <a:pt x="9500" y="11038"/>
                </a:cubicBezTo>
                <a:cubicBezTo>
                  <a:pt x="9268" y="11188"/>
                  <a:pt x="9122" y="11483"/>
                  <a:pt x="9029" y="11733"/>
                </a:cubicBezTo>
                <a:cubicBezTo>
                  <a:pt x="8953" y="11936"/>
                  <a:pt x="8951" y="12191"/>
                  <a:pt x="9079" y="12378"/>
                </a:cubicBezTo>
                <a:cubicBezTo>
                  <a:pt x="9201" y="12556"/>
                  <a:pt x="9458" y="12571"/>
                  <a:pt x="9649" y="12601"/>
                </a:cubicBezTo>
                <a:cubicBezTo>
                  <a:pt x="9764" y="12619"/>
                  <a:pt x="9920" y="12607"/>
                  <a:pt x="10021" y="12650"/>
                </a:cubicBezTo>
                <a:cubicBezTo>
                  <a:pt x="10114" y="12690"/>
                  <a:pt x="10162" y="12746"/>
                  <a:pt x="10269" y="12774"/>
                </a:cubicBezTo>
                <a:cubicBezTo>
                  <a:pt x="10324" y="12789"/>
                  <a:pt x="10389" y="12783"/>
                  <a:pt x="10443" y="12799"/>
                </a:cubicBezTo>
                <a:cubicBezTo>
                  <a:pt x="10493" y="12813"/>
                  <a:pt x="10543" y="12835"/>
                  <a:pt x="10592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x less 2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3000" y="2276640"/>
            <a:ext cx="241200" cy="430200"/>
          </a:xfrm>
          <a:custGeom>
            <a:avLst/>
            <a:gdLst/>
            <a:ahLst/>
            <a:rect l="l" t="t" r="r" b="b"/>
            <a:pathLst>
              <a:path w="671" h="1192">
                <a:moveTo>
                  <a:pt x="9674" y="6474"/>
                </a:moveTo>
                <a:cubicBezTo>
                  <a:pt x="9867" y="6701"/>
                  <a:pt x="10060" y="6932"/>
                  <a:pt x="10294" y="7119"/>
                </a:cubicBezTo>
                <a:cubicBezTo>
                  <a:pt x="10311" y="7127"/>
                  <a:pt x="10327" y="7136"/>
                  <a:pt x="10344" y="7144"/>
                </a:cubicBezTo>
              </a:path>
              <a:path w="671" h="1192">
                <a:moveTo>
                  <a:pt x="10170" y="6325"/>
                </a:moveTo>
                <a:cubicBezTo>
                  <a:pt x="10059" y="6671"/>
                  <a:pt x="10000" y="7022"/>
                  <a:pt x="9872" y="7367"/>
                </a:cubicBezTo>
                <a:cubicBezTo>
                  <a:pt x="9835" y="7461"/>
                  <a:pt x="9842" y="7479"/>
                  <a:pt x="9798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18080" y="2357280"/>
            <a:ext cx="233280" cy="54000"/>
          </a:xfrm>
          <a:custGeom>
            <a:avLst/>
            <a:gdLst/>
            <a:ahLst/>
            <a:rect l="l" t="t" r="r" b="b"/>
            <a:pathLst>
              <a:path w="646" h="150">
                <a:moveTo>
                  <a:pt x="15329" y="6697"/>
                </a:moveTo>
                <a:cubicBezTo>
                  <a:pt x="15549" y="6659"/>
                  <a:pt x="15749" y="6573"/>
                  <a:pt x="15974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05680" y="2125800"/>
            <a:ext cx="474480" cy="295200"/>
          </a:xfrm>
          <a:custGeom>
            <a:avLst/>
            <a:gdLst/>
            <a:ahLst/>
            <a:rect l="l" t="t" r="r" b="b"/>
            <a:pathLst>
              <a:path w="1316" h="819">
                <a:moveTo>
                  <a:pt x="17314" y="6003"/>
                </a:moveTo>
                <a:cubicBezTo>
                  <a:pt x="17445" y="5930"/>
                  <a:pt x="17508" y="5912"/>
                  <a:pt x="17661" y="5904"/>
                </a:cubicBezTo>
                <a:cubicBezTo>
                  <a:pt x="17797" y="6159"/>
                  <a:pt x="17590" y="6309"/>
                  <a:pt x="17413" y="6524"/>
                </a:cubicBezTo>
                <a:cubicBezTo>
                  <a:pt x="17315" y="6641"/>
                  <a:pt x="17303" y="6661"/>
                  <a:pt x="17239" y="6722"/>
                </a:cubicBezTo>
                <a:cubicBezTo>
                  <a:pt x="17397" y="6670"/>
                  <a:pt x="17558" y="6573"/>
                  <a:pt x="17735" y="6573"/>
                </a:cubicBezTo>
                <a:cubicBezTo>
                  <a:pt x="17827" y="6596"/>
                  <a:pt x="17852" y="6602"/>
                  <a:pt x="17909" y="6623"/>
                </a:cubicBezTo>
              </a:path>
              <a:path w="1316" h="819">
                <a:moveTo>
                  <a:pt x="18256" y="5928"/>
                </a:moveTo>
                <a:cubicBezTo>
                  <a:pt x="18121" y="6064"/>
                  <a:pt x="18004" y="6294"/>
                  <a:pt x="18107" y="6499"/>
                </a:cubicBezTo>
                <a:cubicBezTo>
                  <a:pt x="18140" y="6524"/>
                  <a:pt x="18174" y="6548"/>
                  <a:pt x="18207" y="6573"/>
                </a:cubicBezTo>
                <a:cubicBezTo>
                  <a:pt x="18441" y="6529"/>
                  <a:pt x="18611" y="6436"/>
                  <a:pt x="18529" y="6152"/>
                </a:cubicBezTo>
                <a:cubicBezTo>
                  <a:pt x="18489" y="6012"/>
                  <a:pt x="18396" y="5998"/>
                  <a:pt x="18281" y="59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1320" y="3776760"/>
            <a:ext cx="1204920" cy="501480"/>
          </a:xfrm>
          <a:custGeom>
            <a:avLst/>
            <a:gdLst/>
            <a:ahLst/>
            <a:rect l="l" t="t" r="r" b="b"/>
            <a:pathLst>
              <a:path w="3349" h="1390">
                <a:moveTo>
                  <a:pt x="11336" y="10790"/>
                </a:moveTo>
                <a:cubicBezTo>
                  <a:pt x="11526" y="11039"/>
                  <a:pt x="11688" y="11280"/>
                  <a:pt x="11832" y="11559"/>
                </a:cubicBezTo>
                <a:cubicBezTo>
                  <a:pt x="11873" y="11641"/>
                  <a:pt x="11897" y="11691"/>
                  <a:pt x="11857" y="11609"/>
                </a:cubicBezTo>
              </a:path>
              <a:path w="3349" h="1390">
                <a:moveTo>
                  <a:pt x="11807" y="10790"/>
                </a:moveTo>
                <a:cubicBezTo>
                  <a:pt x="11625" y="11057"/>
                  <a:pt x="11547" y="11394"/>
                  <a:pt x="11435" y="11708"/>
                </a:cubicBezTo>
                <a:cubicBezTo>
                  <a:pt x="11426" y="11732"/>
                  <a:pt x="11392" y="11918"/>
                  <a:pt x="11361" y="11857"/>
                </a:cubicBezTo>
              </a:path>
              <a:path w="3349" h="1390">
                <a:moveTo>
                  <a:pt x="12328" y="11013"/>
                </a:moveTo>
                <a:cubicBezTo>
                  <a:pt x="12447" y="11013"/>
                  <a:pt x="12558" y="10995"/>
                  <a:pt x="12675" y="10988"/>
                </a:cubicBezTo>
                <a:cubicBezTo>
                  <a:pt x="12692" y="10988"/>
                  <a:pt x="12708" y="10988"/>
                  <a:pt x="12725" y="10988"/>
                </a:cubicBezTo>
              </a:path>
              <a:path w="3349" h="1390">
                <a:moveTo>
                  <a:pt x="13146" y="10616"/>
                </a:moveTo>
                <a:cubicBezTo>
                  <a:pt x="13174" y="10505"/>
                  <a:pt x="13316" y="10427"/>
                  <a:pt x="13419" y="10542"/>
                </a:cubicBezTo>
                <a:cubicBezTo>
                  <a:pt x="13601" y="10744"/>
                  <a:pt x="13306" y="11161"/>
                  <a:pt x="13221" y="11336"/>
                </a:cubicBezTo>
                <a:cubicBezTo>
                  <a:pt x="13196" y="11386"/>
                  <a:pt x="13171" y="11435"/>
                  <a:pt x="13146" y="11485"/>
                </a:cubicBezTo>
                <a:cubicBezTo>
                  <a:pt x="13352" y="11392"/>
                  <a:pt x="13558" y="11294"/>
                  <a:pt x="13791" y="11311"/>
                </a:cubicBezTo>
                <a:cubicBezTo>
                  <a:pt x="13816" y="11319"/>
                  <a:pt x="13841" y="11328"/>
                  <a:pt x="13866" y="11336"/>
                </a:cubicBezTo>
              </a:path>
              <a:path w="3349" h="1390">
                <a:moveTo>
                  <a:pt x="14312" y="10517"/>
                </a:moveTo>
                <a:cubicBezTo>
                  <a:pt x="14146" y="10517"/>
                  <a:pt x="13988" y="10807"/>
                  <a:pt x="13990" y="10988"/>
                </a:cubicBezTo>
                <a:cubicBezTo>
                  <a:pt x="14058" y="11194"/>
                  <a:pt x="14067" y="11258"/>
                  <a:pt x="14213" y="11311"/>
                </a:cubicBezTo>
                <a:cubicBezTo>
                  <a:pt x="14507" y="11219"/>
                  <a:pt x="14889" y="11002"/>
                  <a:pt x="14560" y="10641"/>
                </a:cubicBezTo>
                <a:cubicBezTo>
                  <a:pt x="14376" y="10549"/>
                  <a:pt x="14325" y="10514"/>
                  <a:pt x="14188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1360" y="3357720"/>
            <a:ext cx="2500560" cy="1196640"/>
          </a:xfrm>
          <a:custGeom>
            <a:avLst/>
            <a:gdLst/>
            <a:ahLst/>
            <a:rect l="l" t="t" r="r" b="b"/>
            <a:pathLst>
              <a:path w="6947" h="3324">
                <a:moveTo>
                  <a:pt x="11261" y="12650"/>
                </a:moveTo>
                <a:cubicBezTo>
                  <a:pt x="11846" y="12577"/>
                  <a:pt x="12420" y="12484"/>
                  <a:pt x="12998" y="12353"/>
                </a:cubicBezTo>
                <a:cubicBezTo>
                  <a:pt x="14024" y="12120"/>
                  <a:pt x="15208" y="11959"/>
                  <a:pt x="16024" y="11237"/>
                </a:cubicBezTo>
                <a:cubicBezTo>
                  <a:pt x="16609" y="10719"/>
                  <a:pt x="16480" y="10224"/>
                  <a:pt x="15875" y="9847"/>
                </a:cubicBezTo>
                <a:cubicBezTo>
                  <a:pt x="14975" y="9287"/>
                  <a:pt x="13864" y="9261"/>
                  <a:pt x="12849" y="9426"/>
                </a:cubicBezTo>
                <a:cubicBezTo>
                  <a:pt x="11717" y="9610"/>
                  <a:pt x="9694" y="10325"/>
                  <a:pt x="9475" y="11683"/>
                </a:cubicBezTo>
                <a:cubicBezTo>
                  <a:pt x="9350" y="12455"/>
                  <a:pt x="10416" y="12410"/>
                  <a:pt x="10840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t multiplied by 6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63840" y="1982880"/>
            <a:ext cx="314280" cy="4903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7293" y="5507"/>
                </a:moveTo>
                <a:cubicBezTo>
                  <a:pt x="7277" y="5847"/>
                  <a:pt x="7237" y="6185"/>
                  <a:pt x="7218" y="6524"/>
                </a:cubicBezTo>
                <a:cubicBezTo>
                  <a:pt x="7218" y="6726"/>
                  <a:pt x="7197" y="6768"/>
                  <a:pt x="7268" y="6871"/>
                </a:cubicBezTo>
                <a:cubicBezTo>
                  <a:pt x="7453" y="6827"/>
                  <a:pt x="7594" y="6801"/>
                  <a:pt x="7714" y="6648"/>
                </a:cubicBezTo>
              </a:path>
              <a:path w="869" h="1365">
                <a:moveTo>
                  <a:pt x="6846" y="6400"/>
                </a:moveTo>
                <a:cubicBezTo>
                  <a:pt x="7119" y="6376"/>
                  <a:pt x="7371" y="6315"/>
                  <a:pt x="7640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2040" y="2143080"/>
            <a:ext cx="179280" cy="349200"/>
          </a:xfrm>
          <a:custGeom>
            <a:avLst/>
            <a:gdLst/>
            <a:ahLst/>
            <a:rect l="l" t="t" r="r" b="b"/>
            <a:pathLst>
              <a:path w="497" h="969">
                <a:moveTo>
                  <a:pt x="14089" y="6251"/>
                </a:moveTo>
                <a:cubicBezTo>
                  <a:pt x="14237" y="6440"/>
                  <a:pt x="14380" y="6625"/>
                  <a:pt x="14511" y="6821"/>
                </a:cubicBezTo>
              </a:path>
              <a:path w="497" h="969">
                <a:moveTo>
                  <a:pt x="14585" y="5953"/>
                </a:moveTo>
                <a:cubicBezTo>
                  <a:pt x="14480" y="6281"/>
                  <a:pt x="14366" y="6598"/>
                  <a:pt x="14188" y="6896"/>
                </a:cubicBezTo>
                <a:cubicBezTo>
                  <a:pt x="14180" y="6904"/>
                  <a:pt x="14171" y="6913"/>
                  <a:pt x="14163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54320" y="4000680"/>
            <a:ext cx="384480" cy="527040"/>
          </a:xfrm>
          <a:custGeom>
            <a:avLst/>
            <a:gdLst/>
            <a:ahLst/>
            <a:rect l="l" t="t" r="r" b="b"/>
            <a:pathLst>
              <a:path w="1068" h="1465">
                <a:moveTo>
                  <a:pt x="11534" y="11112"/>
                </a:moveTo>
                <a:cubicBezTo>
                  <a:pt x="11573" y="11445"/>
                  <a:pt x="11585" y="11743"/>
                  <a:pt x="11559" y="12080"/>
                </a:cubicBezTo>
                <a:cubicBezTo>
                  <a:pt x="11542" y="12303"/>
                  <a:pt x="11500" y="12663"/>
                  <a:pt x="11857" y="12576"/>
                </a:cubicBezTo>
                <a:cubicBezTo>
                  <a:pt x="12049" y="12529"/>
                  <a:pt x="12186" y="12403"/>
                  <a:pt x="12328" y="12278"/>
                </a:cubicBezTo>
              </a:path>
              <a:path w="1068" h="1465">
                <a:moveTo>
                  <a:pt x="11261" y="12030"/>
                </a:moveTo>
                <a:cubicBezTo>
                  <a:pt x="11536" y="11977"/>
                  <a:pt x="11800" y="11941"/>
                  <a:pt x="12080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4010040"/>
            <a:ext cx="598680" cy="419040"/>
          </a:xfrm>
          <a:custGeom>
            <a:avLst/>
            <a:gdLst/>
            <a:ahLst/>
            <a:rect l="l" t="t" r="r" b="b"/>
            <a:pathLst>
              <a:path w="1663" h="1167">
                <a:moveTo>
                  <a:pt x="12898" y="11658"/>
                </a:moveTo>
                <a:cubicBezTo>
                  <a:pt x="13040" y="11847"/>
                  <a:pt x="13177" y="11989"/>
                  <a:pt x="13370" y="12129"/>
                </a:cubicBezTo>
              </a:path>
              <a:path w="1663" h="1167">
                <a:moveTo>
                  <a:pt x="13295" y="11683"/>
                </a:moveTo>
                <a:cubicBezTo>
                  <a:pt x="13182" y="11893"/>
                  <a:pt x="13063" y="12095"/>
                  <a:pt x="12948" y="12303"/>
                </a:cubicBezTo>
              </a:path>
              <a:path w="1663" h="1167">
                <a:moveTo>
                  <a:pt x="13940" y="11137"/>
                </a:moveTo>
                <a:cubicBezTo>
                  <a:pt x="13977" y="11301"/>
                  <a:pt x="13907" y="11532"/>
                  <a:pt x="13866" y="11708"/>
                </a:cubicBezTo>
                <a:cubicBezTo>
                  <a:pt x="13838" y="11824"/>
                  <a:pt x="13723" y="12073"/>
                  <a:pt x="13841" y="12179"/>
                </a:cubicBezTo>
                <a:cubicBezTo>
                  <a:pt x="13969" y="12295"/>
                  <a:pt x="14223" y="12216"/>
                  <a:pt x="14362" y="12154"/>
                </a:cubicBezTo>
                <a:cubicBezTo>
                  <a:pt x="14479" y="12101"/>
                  <a:pt x="14585" y="12023"/>
                  <a:pt x="14560" y="11881"/>
                </a:cubicBezTo>
                <a:cubicBezTo>
                  <a:pt x="14543" y="11782"/>
                  <a:pt x="14436" y="11774"/>
                  <a:pt x="14362" y="11807"/>
                </a:cubicBezTo>
                <a:cubicBezTo>
                  <a:pt x="14262" y="11852"/>
                  <a:pt x="14196" y="11929"/>
                  <a:pt x="14188" y="12030"/>
                </a:cubicBezTo>
                <a:cubicBezTo>
                  <a:pt x="14183" y="12101"/>
                  <a:pt x="14205" y="12161"/>
                  <a:pt x="14213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7040" y="4680000"/>
            <a:ext cx="1293840" cy="687240"/>
          </a:xfrm>
          <a:custGeom>
            <a:avLst/>
            <a:gdLst/>
            <a:ahLst/>
            <a:rect l="l" t="t" r="r" b="b"/>
            <a:pathLst>
              <a:path w="3597" h="1911">
                <a:moveTo>
                  <a:pt x="12477" y="13395"/>
                </a:moveTo>
                <a:cubicBezTo>
                  <a:pt x="12427" y="13468"/>
                  <a:pt x="12407" y="13557"/>
                  <a:pt x="12378" y="13643"/>
                </a:cubicBezTo>
                <a:cubicBezTo>
                  <a:pt x="12334" y="13775"/>
                  <a:pt x="12307" y="13900"/>
                  <a:pt x="12303" y="14039"/>
                </a:cubicBezTo>
                <a:cubicBezTo>
                  <a:pt x="12300" y="14157"/>
                  <a:pt x="12335" y="14277"/>
                  <a:pt x="12452" y="14337"/>
                </a:cubicBezTo>
                <a:cubicBezTo>
                  <a:pt x="12591" y="14409"/>
                  <a:pt x="12795" y="14322"/>
                  <a:pt x="12923" y="14263"/>
                </a:cubicBezTo>
                <a:cubicBezTo>
                  <a:pt x="13024" y="14216"/>
                  <a:pt x="13215" y="14123"/>
                  <a:pt x="13221" y="13990"/>
                </a:cubicBezTo>
                <a:cubicBezTo>
                  <a:pt x="13226" y="13884"/>
                  <a:pt x="13097" y="13846"/>
                  <a:pt x="13022" y="13841"/>
                </a:cubicBezTo>
                <a:cubicBezTo>
                  <a:pt x="12879" y="13832"/>
                  <a:pt x="12799" y="13943"/>
                  <a:pt x="12799" y="14089"/>
                </a:cubicBezTo>
                <a:cubicBezTo>
                  <a:pt x="12799" y="14124"/>
                  <a:pt x="12839" y="14202"/>
                  <a:pt x="12849" y="14238"/>
                </a:cubicBezTo>
              </a:path>
              <a:path w="3597" h="1911">
                <a:moveTo>
                  <a:pt x="13494" y="13419"/>
                </a:moveTo>
                <a:cubicBezTo>
                  <a:pt x="13451" y="13295"/>
                  <a:pt x="13449" y="13660"/>
                  <a:pt x="13444" y="13692"/>
                </a:cubicBezTo>
                <a:cubicBezTo>
                  <a:pt x="13425" y="13826"/>
                  <a:pt x="13419" y="13951"/>
                  <a:pt x="13419" y="14089"/>
                </a:cubicBezTo>
                <a:cubicBezTo>
                  <a:pt x="13419" y="14182"/>
                  <a:pt x="13515" y="14220"/>
                  <a:pt x="13593" y="14188"/>
                </a:cubicBezTo>
                <a:cubicBezTo>
                  <a:pt x="13728" y="14132"/>
                  <a:pt x="13777" y="14047"/>
                  <a:pt x="13717" y="13940"/>
                </a:cubicBezTo>
              </a:path>
              <a:path w="3597" h="1911">
                <a:moveTo>
                  <a:pt x="13171" y="13717"/>
                </a:moveTo>
                <a:cubicBezTo>
                  <a:pt x="13348" y="13670"/>
                  <a:pt x="13509" y="13667"/>
                  <a:pt x="13692" y="13667"/>
                </a:cubicBezTo>
                <a:cubicBezTo>
                  <a:pt x="13709" y="13667"/>
                  <a:pt x="13725" y="13667"/>
                  <a:pt x="13742" y="13667"/>
                </a:cubicBezTo>
              </a:path>
              <a:path w="3597" h="1911">
                <a:moveTo>
                  <a:pt x="12626" y="14883"/>
                </a:moveTo>
                <a:cubicBezTo>
                  <a:pt x="12825" y="14875"/>
                  <a:pt x="13021" y="14860"/>
                  <a:pt x="13221" y="14858"/>
                </a:cubicBezTo>
                <a:cubicBezTo>
                  <a:pt x="13487" y="14855"/>
                  <a:pt x="13754" y="14874"/>
                  <a:pt x="14015" y="14808"/>
                </a:cubicBezTo>
                <a:cubicBezTo>
                  <a:pt x="14219" y="14756"/>
                  <a:pt x="14386" y="14652"/>
                  <a:pt x="14536" y="14511"/>
                </a:cubicBezTo>
                <a:cubicBezTo>
                  <a:pt x="14651" y="14403"/>
                  <a:pt x="14734" y="14235"/>
                  <a:pt x="14784" y="14089"/>
                </a:cubicBezTo>
                <a:cubicBezTo>
                  <a:pt x="14830" y="13957"/>
                  <a:pt x="14814" y="13852"/>
                  <a:pt x="14734" y="13742"/>
                </a:cubicBezTo>
                <a:cubicBezTo>
                  <a:pt x="14662" y="13643"/>
                  <a:pt x="14559" y="13569"/>
                  <a:pt x="14486" y="13469"/>
                </a:cubicBezTo>
                <a:cubicBezTo>
                  <a:pt x="14406" y="13359"/>
                  <a:pt x="14289" y="13209"/>
                  <a:pt x="14163" y="13146"/>
                </a:cubicBezTo>
                <a:cubicBezTo>
                  <a:pt x="14008" y="13069"/>
                  <a:pt x="13790" y="13014"/>
                  <a:pt x="13618" y="12998"/>
                </a:cubicBezTo>
                <a:cubicBezTo>
                  <a:pt x="13273" y="12967"/>
                  <a:pt x="12894" y="12995"/>
                  <a:pt x="12551" y="13022"/>
                </a:cubicBezTo>
                <a:cubicBezTo>
                  <a:pt x="12261" y="13045"/>
                  <a:pt x="12000" y="13138"/>
                  <a:pt x="11733" y="13246"/>
                </a:cubicBezTo>
                <a:cubicBezTo>
                  <a:pt x="11552" y="13319"/>
                  <a:pt x="11405" y="13418"/>
                  <a:pt x="11311" y="13593"/>
                </a:cubicBezTo>
                <a:cubicBezTo>
                  <a:pt x="11227" y="13750"/>
                  <a:pt x="11197" y="13968"/>
                  <a:pt x="11237" y="14139"/>
                </a:cubicBezTo>
                <a:cubicBezTo>
                  <a:pt x="11286" y="14351"/>
                  <a:pt x="11427" y="14545"/>
                  <a:pt x="11584" y="14684"/>
                </a:cubicBezTo>
                <a:cubicBezTo>
                  <a:pt x="11797" y="14873"/>
                  <a:pt x="12012" y="14851"/>
                  <a:pt x="12278" y="14883"/>
                </a:cubicBezTo>
                <a:cubicBezTo>
                  <a:pt x="12464" y="14906"/>
                  <a:pt x="12660" y="14929"/>
                  <a:pt x="12849" y="14908"/>
                </a:cubicBezTo>
                <a:cubicBezTo>
                  <a:pt x="12938" y="14898"/>
                  <a:pt x="13033" y="14872"/>
                  <a:pt x="13122" y="14858"/>
                </a:cubicBezTo>
              </a:path>
              <a:path w="3597" h="1911">
                <a:moveTo>
                  <a:pt x="12601" y="14560"/>
                </a:moveTo>
                <a:cubicBezTo>
                  <a:pt x="12780" y="14473"/>
                  <a:pt x="13074" y="14419"/>
                  <a:pt x="13271" y="14387"/>
                </a:cubicBezTo>
                <a:cubicBezTo>
                  <a:pt x="13419" y="14363"/>
                  <a:pt x="13590" y="14350"/>
                  <a:pt x="13742" y="14337"/>
                </a:cubicBezTo>
                <a:cubicBezTo>
                  <a:pt x="13461" y="14377"/>
                  <a:pt x="13197" y="14465"/>
                  <a:pt x="12923" y="14536"/>
                </a:cubicBezTo>
                <a:cubicBezTo>
                  <a:pt x="12774" y="14575"/>
                  <a:pt x="12628" y="14609"/>
                  <a:pt x="12774" y="14560"/>
                </a:cubicBezTo>
                <a:cubicBezTo>
                  <a:pt x="13082" y="14508"/>
                  <a:pt x="13388" y="14456"/>
                  <a:pt x="13692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9960" y="3973680"/>
            <a:ext cx="743040" cy="438120"/>
          </a:xfrm>
          <a:custGeom>
            <a:avLst/>
            <a:gdLst/>
            <a:ahLst/>
            <a:rect l="l" t="t" r="r" b="b"/>
            <a:pathLst>
              <a:path w="2060" h="1217">
                <a:moveTo>
                  <a:pt x="17686" y="11336"/>
                </a:moveTo>
                <a:cubicBezTo>
                  <a:pt x="17670" y="11520"/>
                  <a:pt x="17630" y="11701"/>
                  <a:pt x="17611" y="11881"/>
                </a:cubicBezTo>
                <a:cubicBezTo>
                  <a:pt x="17599" y="11994"/>
                  <a:pt x="17544" y="12209"/>
                  <a:pt x="17711" y="12204"/>
                </a:cubicBezTo>
                <a:cubicBezTo>
                  <a:pt x="17872" y="12200"/>
                  <a:pt x="18013" y="12132"/>
                  <a:pt x="18132" y="12030"/>
                </a:cubicBezTo>
              </a:path>
              <a:path w="2060" h="1217">
                <a:moveTo>
                  <a:pt x="17363" y="11807"/>
                </a:moveTo>
                <a:cubicBezTo>
                  <a:pt x="17551" y="11755"/>
                  <a:pt x="17713" y="11708"/>
                  <a:pt x="17909" y="11708"/>
                </a:cubicBezTo>
              </a:path>
              <a:path w="2060" h="1217">
                <a:moveTo>
                  <a:pt x="18455" y="11162"/>
                </a:moveTo>
                <a:cubicBezTo>
                  <a:pt x="18346" y="11311"/>
                  <a:pt x="18266" y="11626"/>
                  <a:pt x="18281" y="11832"/>
                </a:cubicBezTo>
                <a:cubicBezTo>
                  <a:pt x="18294" y="12016"/>
                  <a:pt x="18377" y="12085"/>
                  <a:pt x="18504" y="12179"/>
                </a:cubicBezTo>
              </a:path>
              <a:path w="2060" h="1217">
                <a:moveTo>
                  <a:pt x="18728" y="11361"/>
                </a:moveTo>
                <a:cubicBezTo>
                  <a:pt x="18718" y="11506"/>
                  <a:pt x="18650" y="11664"/>
                  <a:pt x="18653" y="11807"/>
                </a:cubicBezTo>
                <a:cubicBezTo>
                  <a:pt x="18656" y="11921"/>
                  <a:pt x="18728" y="12074"/>
                  <a:pt x="18876" y="12005"/>
                </a:cubicBezTo>
                <a:cubicBezTo>
                  <a:pt x="18965" y="11964"/>
                  <a:pt x="18967" y="11886"/>
                  <a:pt x="18976" y="11807"/>
                </a:cubicBezTo>
                <a:cubicBezTo>
                  <a:pt x="18846" y="11793"/>
                  <a:pt x="18823" y="11855"/>
                  <a:pt x="18802" y="11981"/>
                </a:cubicBezTo>
              </a:path>
              <a:path w="2060" h="1217">
                <a:moveTo>
                  <a:pt x="19075" y="11038"/>
                </a:moveTo>
                <a:cubicBezTo>
                  <a:pt x="19238" y="11214"/>
                  <a:pt x="19382" y="11411"/>
                  <a:pt x="19422" y="11658"/>
                </a:cubicBezTo>
                <a:cubicBezTo>
                  <a:pt x="19452" y="11846"/>
                  <a:pt x="19421" y="12052"/>
                  <a:pt x="19273" y="12179"/>
                </a:cubicBezTo>
                <a:cubicBezTo>
                  <a:pt x="19236" y="12211"/>
                  <a:pt x="19168" y="12232"/>
                  <a:pt x="19124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number n times tw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4760" y="3652920"/>
            <a:ext cx="1170000" cy="1125360"/>
          </a:xfrm>
          <a:custGeom>
            <a:avLst/>
            <a:gdLst/>
            <a:ahLst/>
            <a:rect l="l" t="t" r="r" b="b"/>
            <a:pathLst>
              <a:path w="3250" h="3127">
                <a:moveTo>
                  <a:pt x="10790" y="10567"/>
                </a:moveTo>
                <a:cubicBezTo>
                  <a:pt x="10824" y="10737"/>
                  <a:pt x="10864" y="10890"/>
                  <a:pt x="10864" y="11063"/>
                </a:cubicBezTo>
                <a:cubicBezTo>
                  <a:pt x="10812" y="10880"/>
                  <a:pt x="10751" y="10691"/>
                  <a:pt x="10939" y="10567"/>
                </a:cubicBezTo>
                <a:cubicBezTo>
                  <a:pt x="11099" y="10461"/>
                  <a:pt x="11326" y="10464"/>
                  <a:pt x="11435" y="10641"/>
                </a:cubicBezTo>
                <a:cubicBezTo>
                  <a:pt x="11517" y="10774"/>
                  <a:pt x="11499" y="10898"/>
                  <a:pt x="11485" y="11038"/>
                </a:cubicBezTo>
              </a:path>
              <a:path w="3250" h="3127">
                <a:moveTo>
                  <a:pt x="12055" y="10393"/>
                </a:moveTo>
                <a:cubicBezTo>
                  <a:pt x="12092" y="10596"/>
                  <a:pt x="12214" y="10716"/>
                  <a:pt x="12353" y="10864"/>
                </a:cubicBezTo>
                <a:cubicBezTo>
                  <a:pt x="12378" y="10889"/>
                  <a:pt x="12402" y="10914"/>
                  <a:pt x="12427" y="10939"/>
                </a:cubicBezTo>
              </a:path>
              <a:path w="3250" h="3127">
                <a:moveTo>
                  <a:pt x="12427" y="10368"/>
                </a:moveTo>
                <a:cubicBezTo>
                  <a:pt x="12305" y="10534"/>
                  <a:pt x="12166" y="10692"/>
                  <a:pt x="12055" y="10864"/>
                </a:cubicBezTo>
              </a:path>
              <a:path w="3250" h="3127">
                <a:moveTo>
                  <a:pt x="12923" y="10244"/>
                </a:moveTo>
                <a:cubicBezTo>
                  <a:pt x="13017" y="10223"/>
                  <a:pt x="13089" y="10175"/>
                  <a:pt x="13196" y="10195"/>
                </a:cubicBezTo>
                <a:cubicBezTo>
                  <a:pt x="13253" y="10206"/>
                  <a:pt x="13366" y="10265"/>
                  <a:pt x="13345" y="10344"/>
                </a:cubicBezTo>
                <a:cubicBezTo>
                  <a:pt x="13324" y="10421"/>
                  <a:pt x="13181" y="10522"/>
                  <a:pt x="13122" y="10567"/>
                </a:cubicBezTo>
                <a:cubicBezTo>
                  <a:pt x="13009" y="10652"/>
                  <a:pt x="12901" y="10696"/>
                  <a:pt x="12849" y="10840"/>
                </a:cubicBezTo>
                <a:cubicBezTo>
                  <a:pt x="12849" y="10856"/>
                  <a:pt x="12849" y="10873"/>
                  <a:pt x="12849" y="10889"/>
                </a:cubicBezTo>
                <a:cubicBezTo>
                  <a:pt x="12891" y="10835"/>
                  <a:pt x="13015" y="10641"/>
                  <a:pt x="13122" y="10716"/>
                </a:cubicBezTo>
                <a:cubicBezTo>
                  <a:pt x="13225" y="10788"/>
                  <a:pt x="13175" y="10885"/>
                  <a:pt x="13345" y="10864"/>
                </a:cubicBezTo>
                <a:cubicBezTo>
                  <a:pt x="13422" y="10845"/>
                  <a:pt x="13440" y="10853"/>
                  <a:pt x="13469" y="10815"/>
                </a:cubicBezTo>
              </a:path>
              <a:path w="3250" h="3127">
                <a:moveTo>
                  <a:pt x="11906" y="12080"/>
                </a:moveTo>
                <a:cubicBezTo>
                  <a:pt x="11923" y="12002"/>
                  <a:pt x="11950" y="11917"/>
                  <a:pt x="12030" y="11881"/>
                </a:cubicBezTo>
                <a:cubicBezTo>
                  <a:pt x="12095" y="11852"/>
                  <a:pt x="12244" y="11826"/>
                  <a:pt x="12303" y="11881"/>
                </a:cubicBezTo>
                <a:cubicBezTo>
                  <a:pt x="12359" y="11933"/>
                  <a:pt x="12372" y="11992"/>
                  <a:pt x="12353" y="12055"/>
                </a:cubicBezTo>
                <a:cubicBezTo>
                  <a:pt x="12308" y="12202"/>
                  <a:pt x="12100" y="12289"/>
                  <a:pt x="11981" y="12378"/>
                </a:cubicBezTo>
                <a:cubicBezTo>
                  <a:pt x="11889" y="12447"/>
                  <a:pt x="11767" y="12534"/>
                  <a:pt x="11733" y="12650"/>
                </a:cubicBezTo>
                <a:cubicBezTo>
                  <a:pt x="11733" y="12667"/>
                  <a:pt x="11733" y="12683"/>
                  <a:pt x="11733" y="12700"/>
                </a:cubicBezTo>
                <a:cubicBezTo>
                  <a:pt x="11820" y="12596"/>
                  <a:pt x="11877" y="12527"/>
                  <a:pt x="12005" y="12477"/>
                </a:cubicBezTo>
                <a:cubicBezTo>
                  <a:pt x="12162" y="12415"/>
                  <a:pt x="12158" y="12533"/>
                  <a:pt x="12303" y="12576"/>
                </a:cubicBezTo>
                <a:cubicBezTo>
                  <a:pt x="12418" y="12611"/>
                  <a:pt x="12523" y="12560"/>
                  <a:pt x="12626" y="12526"/>
                </a:cubicBezTo>
              </a:path>
              <a:path w="3250" h="3127">
                <a:moveTo>
                  <a:pt x="11981" y="10220"/>
                </a:moveTo>
                <a:cubicBezTo>
                  <a:pt x="11830" y="10300"/>
                  <a:pt x="11734" y="10392"/>
                  <a:pt x="11683" y="10567"/>
                </a:cubicBezTo>
                <a:cubicBezTo>
                  <a:pt x="11630" y="10748"/>
                  <a:pt x="11661" y="11000"/>
                  <a:pt x="11832" y="11112"/>
                </a:cubicBezTo>
                <a:cubicBezTo>
                  <a:pt x="12040" y="11248"/>
                  <a:pt x="12322" y="11163"/>
                  <a:pt x="12526" y="11063"/>
                </a:cubicBezTo>
                <a:cubicBezTo>
                  <a:pt x="12712" y="10971"/>
                  <a:pt x="12808" y="10816"/>
                  <a:pt x="12824" y="10616"/>
                </a:cubicBezTo>
                <a:cubicBezTo>
                  <a:pt x="12837" y="10449"/>
                  <a:pt x="12706" y="10242"/>
                  <a:pt x="12551" y="10170"/>
                </a:cubicBezTo>
                <a:cubicBezTo>
                  <a:pt x="12419" y="10109"/>
                  <a:pt x="12189" y="10132"/>
                  <a:pt x="12055" y="10170"/>
                </a:cubicBezTo>
                <a:cubicBezTo>
                  <a:pt x="12038" y="10178"/>
                  <a:pt x="12022" y="10187"/>
                  <a:pt x="12005" y="10195"/>
                </a:cubicBezTo>
              </a:path>
              <a:path w="3250" h="3127">
                <a:moveTo>
                  <a:pt x="12626" y="12129"/>
                </a:moveTo>
                <a:cubicBezTo>
                  <a:pt x="12640" y="12263"/>
                  <a:pt x="12652" y="12394"/>
                  <a:pt x="12675" y="12526"/>
                </a:cubicBezTo>
                <a:cubicBezTo>
                  <a:pt x="12662" y="12412"/>
                  <a:pt x="12644" y="12346"/>
                  <a:pt x="12675" y="12229"/>
                </a:cubicBezTo>
                <a:cubicBezTo>
                  <a:pt x="12701" y="12133"/>
                  <a:pt x="12790" y="12052"/>
                  <a:pt x="12898" y="12055"/>
                </a:cubicBezTo>
                <a:cubicBezTo>
                  <a:pt x="13044" y="12060"/>
                  <a:pt x="13112" y="12185"/>
                  <a:pt x="13146" y="12303"/>
                </a:cubicBezTo>
                <a:cubicBezTo>
                  <a:pt x="13168" y="12378"/>
                  <a:pt x="13187" y="12450"/>
                  <a:pt x="13196" y="12526"/>
                </a:cubicBezTo>
              </a:path>
              <a:path w="3250" h="3127">
                <a:moveTo>
                  <a:pt x="11807" y="13122"/>
                </a:moveTo>
                <a:cubicBezTo>
                  <a:pt x="11997" y="13199"/>
                  <a:pt x="12140" y="13258"/>
                  <a:pt x="12353" y="13271"/>
                </a:cubicBezTo>
                <a:cubicBezTo>
                  <a:pt x="12760" y="13296"/>
                  <a:pt x="13175" y="13292"/>
                  <a:pt x="13543" y="13097"/>
                </a:cubicBezTo>
                <a:cubicBezTo>
                  <a:pt x="13696" y="13016"/>
                  <a:pt x="13907" y="12831"/>
                  <a:pt x="13990" y="12675"/>
                </a:cubicBezTo>
                <a:cubicBezTo>
                  <a:pt x="14066" y="12532"/>
                  <a:pt x="14023" y="12375"/>
                  <a:pt x="13990" y="12229"/>
                </a:cubicBezTo>
                <a:cubicBezTo>
                  <a:pt x="13964" y="12112"/>
                  <a:pt x="13927" y="12017"/>
                  <a:pt x="13841" y="11931"/>
                </a:cubicBezTo>
                <a:cubicBezTo>
                  <a:pt x="13739" y="11829"/>
                  <a:pt x="13591" y="11755"/>
                  <a:pt x="13469" y="11683"/>
                </a:cubicBezTo>
                <a:cubicBezTo>
                  <a:pt x="13298" y="11583"/>
                  <a:pt x="13146" y="11520"/>
                  <a:pt x="12948" y="11485"/>
                </a:cubicBezTo>
                <a:cubicBezTo>
                  <a:pt x="12593" y="11423"/>
                  <a:pt x="12258" y="11369"/>
                  <a:pt x="11906" y="11485"/>
                </a:cubicBezTo>
                <a:cubicBezTo>
                  <a:pt x="11692" y="11555"/>
                  <a:pt x="11468" y="11695"/>
                  <a:pt x="11311" y="11857"/>
                </a:cubicBezTo>
                <a:cubicBezTo>
                  <a:pt x="11203" y="11968"/>
                  <a:pt x="11192" y="12133"/>
                  <a:pt x="11162" y="12278"/>
                </a:cubicBezTo>
                <a:cubicBezTo>
                  <a:pt x="11121" y="12477"/>
                  <a:pt x="11211" y="12607"/>
                  <a:pt x="11311" y="12774"/>
                </a:cubicBezTo>
                <a:cubicBezTo>
                  <a:pt x="11381" y="12889"/>
                  <a:pt x="11475" y="12949"/>
                  <a:pt x="11584" y="13022"/>
                </a:cubicBezTo>
                <a:cubicBezTo>
                  <a:pt x="11759" y="13139"/>
                  <a:pt x="11878" y="13120"/>
                  <a:pt x="12080" y="13146"/>
                </a:cubicBezTo>
                <a:cubicBezTo>
                  <a:pt x="12157" y="13166"/>
                  <a:pt x="12175" y="13158"/>
                  <a:pt x="12204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3125880"/>
            <a:ext cx="169920" cy="9360"/>
          </a:xfrm>
          <a:custGeom>
            <a:avLst/>
            <a:gdLst/>
            <a:ahLst/>
            <a:rect l="l" t="t" r="r" b="b"/>
            <a:pathLst>
              <a:path w="472" h="25">
                <a:moveTo>
                  <a:pt x="12303" y="8706"/>
                </a:moveTo>
                <a:cubicBezTo>
                  <a:pt x="12443" y="8685"/>
                  <a:pt x="12866" y="8682"/>
                  <a:pt x="12725" y="8682"/>
                </a:cubicBezTo>
                <a:cubicBezTo>
                  <a:pt x="12675" y="8682"/>
                  <a:pt x="12626" y="8682"/>
                  <a:pt x="12576" y="8682"/>
                </a:cubicBezTo>
                <a:cubicBezTo>
                  <a:pt x="12450" y="8728"/>
                  <a:pt x="12886" y="8610"/>
                  <a:pt x="12774" y="8682"/>
                </a:cubicBezTo>
                <a:cubicBezTo>
                  <a:pt x="12632" y="8774"/>
                  <a:pt x="12496" y="8706"/>
                  <a:pt x="12774" y="8706"/>
                </a:cubicBezTo>
                <a:cubicBezTo>
                  <a:pt x="12758" y="8706"/>
                  <a:pt x="12741" y="8706"/>
                  <a:pt x="12725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7240" y="2330280"/>
            <a:ext cx="204840" cy="223920"/>
          </a:xfrm>
          <a:custGeom>
            <a:avLst/>
            <a:gdLst/>
            <a:ahLst/>
            <a:rect l="l" t="t" r="r" b="b"/>
            <a:pathLst>
              <a:path w="571" h="621">
                <a:moveTo>
                  <a:pt x="14957" y="6499"/>
                </a:moveTo>
                <a:cubicBezTo>
                  <a:pt x="15065" y="6704"/>
                  <a:pt x="15174" y="6903"/>
                  <a:pt x="15304" y="7094"/>
                </a:cubicBezTo>
              </a:path>
              <a:path w="571" h="621">
                <a:moveTo>
                  <a:pt x="15478" y="6474"/>
                </a:moveTo>
                <a:cubicBezTo>
                  <a:pt x="15288" y="6609"/>
                  <a:pt x="15164" y="6794"/>
                  <a:pt x="15007" y="6970"/>
                </a:cubicBezTo>
                <a:cubicBezTo>
                  <a:pt x="14944" y="7033"/>
                  <a:pt x="14927" y="7042"/>
                  <a:pt x="14908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5080" y="2276640"/>
            <a:ext cx="179640" cy="18864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8930" y="6325"/>
                </a:moveTo>
                <a:cubicBezTo>
                  <a:pt x="8901" y="6489"/>
                  <a:pt x="8905" y="6653"/>
                  <a:pt x="8905" y="6821"/>
                </a:cubicBezTo>
                <a:cubicBezTo>
                  <a:pt x="8905" y="6849"/>
                  <a:pt x="8928" y="6606"/>
                  <a:pt x="8930" y="6548"/>
                </a:cubicBezTo>
                <a:cubicBezTo>
                  <a:pt x="8933" y="6441"/>
                  <a:pt x="8965" y="6325"/>
                  <a:pt x="9103" y="6325"/>
                </a:cubicBezTo>
                <a:cubicBezTo>
                  <a:pt x="9242" y="6325"/>
                  <a:pt x="9366" y="6503"/>
                  <a:pt x="9401" y="6623"/>
                </a:cubicBezTo>
                <a:cubicBezTo>
                  <a:pt x="9414" y="6667"/>
                  <a:pt x="9401" y="6748"/>
                  <a:pt x="9401" y="67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27880" y="2044800"/>
            <a:ext cx="285840" cy="339480"/>
          </a:xfrm>
          <a:custGeom>
            <a:avLst/>
            <a:gdLst/>
            <a:ahLst/>
            <a:rect l="l" t="t" r="r" b="b"/>
            <a:pathLst>
              <a:path w="795" h="944">
                <a:moveTo>
                  <a:pt x="18281" y="5879"/>
                </a:moveTo>
                <a:cubicBezTo>
                  <a:pt x="18358" y="5747"/>
                  <a:pt x="18436" y="5667"/>
                  <a:pt x="18604" y="5680"/>
                </a:cubicBezTo>
                <a:cubicBezTo>
                  <a:pt x="18705" y="5688"/>
                  <a:pt x="18850" y="5780"/>
                  <a:pt x="18827" y="5904"/>
                </a:cubicBezTo>
                <a:cubicBezTo>
                  <a:pt x="18794" y="6078"/>
                  <a:pt x="18553" y="6206"/>
                  <a:pt x="18430" y="6300"/>
                </a:cubicBezTo>
                <a:cubicBezTo>
                  <a:pt x="18299" y="6400"/>
                  <a:pt x="18224" y="6495"/>
                  <a:pt x="18132" y="6623"/>
                </a:cubicBezTo>
                <a:cubicBezTo>
                  <a:pt x="18199" y="6519"/>
                  <a:pt x="18284" y="6400"/>
                  <a:pt x="18430" y="6400"/>
                </a:cubicBezTo>
                <a:cubicBezTo>
                  <a:pt x="18522" y="6400"/>
                  <a:pt x="18541" y="6496"/>
                  <a:pt x="18604" y="6548"/>
                </a:cubicBezTo>
                <a:cubicBezTo>
                  <a:pt x="18696" y="6624"/>
                  <a:pt x="18873" y="6596"/>
                  <a:pt x="18926" y="6474"/>
                </a:cubicBezTo>
                <a:cubicBezTo>
                  <a:pt x="18926" y="6457"/>
                  <a:pt x="18926" y="6441"/>
                  <a:pt x="1892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m of a number t and 28 is 40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59000" y="1133640"/>
            <a:ext cx="3929040" cy="1358640"/>
          </a:xfrm>
          <a:custGeom>
            <a:avLst/>
            <a:gdLst/>
            <a:ahLst/>
            <a:rect l="l" t="t" r="r" b="b"/>
            <a:pathLst>
              <a:path w="10915" h="3772">
                <a:moveTo>
                  <a:pt x="12576" y="5110"/>
                </a:moveTo>
                <a:cubicBezTo>
                  <a:pt x="12624" y="5408"/>
                  <a:pt x="12568" y="5703"/>
                  <a:pt x="12576" y="6003"/>
                </a:cubicBezTo>
                <a:cubicBezTo>
                  <a:pt x="12587" y="6419"/>
                  <a:pt x="12928" y="6175"/>
                  <a:pt x="13122" y="6028"/>
                </a:cubicBezTo>
                <a:cubicBezTo>
                  <a:pt x="13147" y="6003"/>
                  <a:pt x="13171" y="5978"/>
                  <a:pt x="13196" y="5953"/>
                </a:cubicBezTo>
              </a:path>
              <a:path w="10915" h="3772">
                <a:moveTo>
                  <a:pt x="12378" y="5680"/>
                </a:moveTo>
                <a:cubicBezTo>
                  <a:pt x="12609" y="5613"/>
                  <a:pt x="12831" y="5551"/>
                  <a:pt x="13072" y="5531"/>
                </a:cubicBezTo>
              </a:path>
              <a:path w="10915" h="3772">
                <a:moveTo>
                  <a:pt x="7218" y="5705"/>
                </a:moveTo>
                <a:cubicBezTo>
                  <a:pt x="7241" y="5867"/>
                  <a:pt x="7274" y="6075"/>
                  <a:pt x="7268" y="6251"/>
                </a:cubicBezTo>
                <a:cubicBezTo>
                  <a:pt x="7260" y="6292"/>
                  <a:pt x="7251" y="6334"/>
                  <a:pt x="7243" y="6375"/>
                </a:cubicBezTo>
              </a:path>
              <a:path w="10915" h="3772">
                <a:moveTo>
                  <a:pt x="6821" y="6127"/>
                </a:moveTo>
                <a:cubicBezTo>
                  <a:pt x="7070" y="6075"/>
                  <a:pt x="7307" y="6077"/>
                  <a:pt x="7565" y="6077"/>
                </a:cubicBezTo>
              </a:path>
              <a:path w="10915" h="3772">
                <a:moveTo>
                  <a:pt x="6871" y="6722"/>
                </a:moveTo>
                <a:cubicBezTo>
                  <a:pt x="7169" y="6782"/>
                  <a:pt x="7452" y="6791"/>
                  <a:pt x="7739" y="6648"/>
                </a:cubicBezTo>
                <a:cubicBezTo>
                  <a:pt x="8022" y="6507"/>
                  <a:pt x="8208" y="6089"/>
                  <a:pt x="8136" y="5779"/>
                </a:cubicBezTo>
                <a:cubicBezTo>
                  <a:pt x="8052" y="5415"/>
                  <a:pt x="7745" y="5142"/>
                  <a:pt x="7392" y="5060"/>
                </a:cubicBezTo>
                <a:cubicBezTo>
                  <a:pt x="7019" y="4973"/>
                  <a:pt x="6645" y="5113"/>
                  <a:pt x="6449" y="5457"/>
                </a:cubicBezTo>
                <a:cubicBezTo>
                  <a:pt x="6184" y="5923"/>
                  <a:pt x="6112" y="6681"/>
                  <a:pt x="6722" y="6896"/>
                </a:cubicBezTo>
                <a:cubicBezTo>
                  <a:pt x="6830" y="6904"/>
                  <a:pt x="6937" y="6913"/>
                  <a:pt x="7045" y="6921"/>
                </a:cubicBezTo>
              </a:path>
              <a:path w="10915" h="3772">
                <a:moveTo>
                  <a:pt x="8012" y="5581"/>
                </a:moveTo>
                <a:cubicBezTo>
                  <a:pt x="8163" y="5325"/>
                  <a:pt x="8337" y="5196"/>
                  <a:pt x="8607" y="4986"/>
                </a:cubicBezTo>
                <a:cubicBezTo>
                  <a:pt x="9563" y="4244"/>
                  <a:pt x="10637" y="3768"/>
                  <a:pt x="11807" y="3473"/>
                </a:cubicBezTo>
                <a:cubicBezTo>
                  <a:pt x="12369" y="3331"/>
                  <a:pt x="12962" y="3190"/>
                  <a:pt x="13543" y="3150"/>
                </a:cubicBezTo>
                <a:cubicBezTo>
                  <a:pt x="13905" y="3125"/>
                  <a:pt x="14280" y="3184"/>
                  <a:pt x="14635" y="3249"/>
                </a:cubicBezTo>
                <a:cubicBezTo>
                  <a:pt x="15086" y="3331"/>
                  <a:pt x="15522" y="3511"/>
                  <a:pt x="15900" y="3770"/>
                </a:cubicBezTo>
                <a:cubicBezTo>
                  <a:pt x="16296" y="4042"/>
                  <a:pt x="16685" y="4415"/>
                  <a:pt x="16917" y="4837"/>
                </a:cubicBezTo>
                <a:cubicBezTo>
                  <a:pt x="16971" y="4935"/>
                  <a:pt x="17019" y="5038"/>
                  <a:pt x="17066" y="5135"/>
                </a:cubicBezTo>
              </a:path>
              <a:path w="10915" h="3772">
                <a:moveTo>
                  <a:pt x="17115" y="4465"/>
                </a:moveTo>
                <a:cubicBezTo>
                  <a:pt x="17155" y="4704"/>
                  <a:pt x="17214" y="4965"/>
                  <a:pt x="17190" y="5209"/>
                </a:cubicBezTo>
                <a:cubicBezTo>
                  <a:pt x="17166" y="5257"/>
                  <a:pt x="17158" y="5271"/>
                  <a:pt x="17165" y="5308"/>
                </a:cubicBezTo>
                <a:cubicBezTo>
                  <a:pt x="16983" y="5288"/>
                  <a:pt x="16801" y="5251"/>
                  <a:pt x="16619" y="5234"/>
                </a:cubicBezTo>
                <a:cubicBezTo>
                  <a:pt x="16594" y="5234"/>
                  <a:pt x="16570" y="5234"/>
                  <a:pt x="16545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7960" y="4037040"/>
            <a:ext cx="304920" cy="392040"/>
          </a:xfrm>
          <a:custGeom>
            <a:avLst/>
            <a:gdLst/>
            <a:ahLst/>
            <a:rect l="l" t="t" r="r" b="b"/>
            <a:pathLst>
              <a:path w="844" h="1092">
                <a:moveTo>
                  <a:pt x="8136" y="11212"/>
                </a:moveTo>
                <a:cubicBezTo>
                  <a:pt x="8151" y="11500"/>
                  <a:pt x="8005" y="11942"/>
                  <a:pt x="8111" y="12204"/>
                </a:cubicBezTo>
                <a:cubicBezTo>
                  <a:pt x="8222" y="12479"/>
                  <a:pt x="8542" y="12141"/>
                  <a:pt x="8657" y="12055"/>
                </a:cubicBezTo>
              </a:path>
              <a:path w="844" h="1092">
                <a:moveTo>
                  <a:pt x="7913" y="11881"/>
                </a:moveTo>
                <a:cubicBezTo>
                  <a:pt x="8210" y="11767"/>
                  <a:pt x="8439" y="11694"/>
                  <a:pt x="8756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027320"/>
            <a:ext cx="893880" cy="312840"/>
          </a:xfrm>
          <a:custGeom>
            <a:avLst/>
            <a:gdLst/>
            <a:ahLst/>
            <a:rect l="l" t="t" r="r" b="b"/>
            <a:pathLst>
              <a:path w="2481" h="869">
                <a:moveTo>
                  <a:pt x="9575" y="11286"/>
                </a:moveTo>
                <a:cubicBezTo>
                  <a:pt x="9629" y="11516"/>
                  <a:pt x="9661" y="11757"/>
                  <a:pt x="9723" y="11981"/>
                </a:cubicBezTo>
              </a:path>
              <a:path w="2481" h="869">
                <a:moveTo>
                  <a:pt x="9525" y="11708"/>
                </a:moveTo>
                <a:cubicBezTo>
                  <a:pt x="9763" y="11628"/>
                  <a:pt x="9853" y="11599"/>
                  <a:pt x="10021" y="11559"/>
                </a:cubicBezTo>
              </a:path>
              <a:path w="2481" h="869">
                <a:moveTo>
                  <a:pt x="10542" y="11187"/>
                </a:moveTo>
                <a:cubicBezTo>
                  <a:pt x="10804" y="11239"/>
                  <a:pt x="11074" y="11402"/>
                  <a:pt x="10939" y="11733"/>
                </a:cubicBezTo>
                <a:cubicBezTo>
                  <a:pt x="10830" y="12000"/>
                  <a:pt x="10631" y="12017"/>
                  <a:pt x="10393" y="12055"/>
                </a:cubicBezTo>
                <a:cubicBezTo>
                  <a:pt x="10569" y="11855"/>
                  <a:pt x="10738" y="11786"/>
                  <a:pt x="10988" y="11956"/>
                </a:cubicBezTo>
                <a:cubicBezTo>
                  <a:pt x="11021" y="11989"/>
                  <a:pt x="11055" y="12022"/>
                  <a:pt x="11088" y="12055"/>
                </a:cubicBezTo>
              </a:path>
              <a:path w="2481" h="869">
                <a:moveTo>
                  <a:pt x="12005" y="11212"/>
                </a:moveTo>
                <a:cubicBezTo>
                  <a:pt x="11795" y="11287"/>
                  <a:pt x="11724" y="11319"/>
                  <a:pt x="11584" y="11485"/>
                </a:cubicBezTo>
                <a:cubicBezTo>
                  <a:pt x="11663" y="11673"/>
                  <a:pt x="11942" y="11780"/>
                  <a:pt x="11981" y="11981"/>
                </a:cubicBezTo>
                <a:cubicBezTo>
                  <a:pt x="11964" y="11997"/>
                  <a:pt x="11948" y="12014"/>
                  <a:pt x="11931" y="12030"/>
                </a:cubicBezTo>
                <a:cubicBezTo>
                  <a:pt x="11579" y="11937"/>
                  <a:pt x="11751" y="11761"/>
                  <a:pt x="11906" y="11509"/>
                </a:cubicBezTo>
                <a:cubicBezTo>
                  <a:pt x="11976" y="11395"/>
                  <a:pt x="12028" y="11368"/>
                  <a:pt x="11931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973680"/>
            <a:ext cx="849240" cy="312480"/>
          </a:xfrm>
          <a:custGeom>
            <a:avLst/>
            <a:gdLst/>
            <a:ahLst/>
            <a:rect l="l" t="t" r="r" b="b"/>
            <a:pathLst>
              <a:path w="2357" h="869">
                <a:moveTo>
                  <a:pt x="12700" y="11410"/>
                </a:moveTo>
                <a:cubicBezTo>
                  <a:pt x="12857" y="11410"/>
                  <a:pt x="12915" y="11410"/>
                  <a:pt x="13022" y="11410"/>
                </a:cubicBezTo>
              </a:path>
              <a:path w="2357" h="869">
                <a:moveTo>
                  <a:pt x="12700" y="11733"/>
                </a:moveTo>
                <a:cubicBezTo>
                  <a:pt x="12842" y="11704"/>
                  <a:pt x="12901" y="11691"/>
                  <a:pt x="12998" y="11658"/>
                </a:cubicBezTo>
              </a:path>
              <a:path w="2357" h="869">
                <a:moveTo>
                  <a:pt x="13593" y="11162"/>
                </a:moveTo>
                <a:cubicBezTo>
                  <a:pt x="13584" y="11263"/>
                  <a:pt x="13485" y="11473"/>
                  <a:pt x="13593" y="11534"/>
                </a:cubicBezTo>
                <a:cubicBezTo>
                  <a:pt x="13741" y="11564"/>
                  <a:pt x="13806" y="11569"/>
                  <a:pt x="13915" y="11534"/>
                </a:cubicBezTo>
              </a:path>
              <a:path w="2357" h="869">
                <a:moveTo>
                  <a:pt x="14089" y="11038"/>
                </a:moveTo>
                <a:cubicBezTo>
                  <a:pt x="14089" y="11329"/>
                  <a:pt x="14100" y="11619"/>
                  <a:pt x="14064" y="11906"/>
                </a:cubicBezTo>
              </a:path>
              <a:path w="2357" h="869">
                <a:moveTo>
                  <a:pt x="14808" y="11088"/>
                </a:moveTo>
                <a:cubicBezTo>
                  <a:pt x="14565" y="11282"/>
                  <a:pt x="14515" y="11462"/>
                  <a:pt x="14536" y="11757"/>
                </a:cubicBezTo>
                <a:cubicBezTo>
                  <a:pt x="14681" y="11784"/>
                  <a:pt x="15348" y="11640"/>
                  <a:pt x="15056" y="11311"/>
                </a:cubicBezTo>
                <a:cubicBezTo>
                  <a:pt x="14965" y="11278"/>
                  <a:pt x="14875" y="11245"/>
                  <a:pt x="14784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duct of a number n and six is 1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1760" y="1946160"/>
            <a:ext cx="152280" cy="312840"/>
          </a:xfrm>
          <a:custGeom>
            <a:avLst/>
            <a:gdLst/>
            <a:ahLst/>
            <a:rect l="l" t="t" r="r" b="b"/>
            <a:pathLst>
              <a:path w="423" h="870">
                <a:moveTo>
                  <a:pt x="7615" y="5606"/>
                </a:moveTo>
                <a:cubicBezTo>
                  <a:pt x="7713" y="5784"/>
                  <a:pt x="7842" y="5938"/>
                  <a:pt x="7962" y="6102"/>
                </a:cubicBezTo>
                <a:cubicBezTo>
                  <a:pt x="7987" y="6135"/>
                  <a:pt x="8012" y="6168"/>
                  <a:pt x="8037" y="6201"/>
                </a:cubicBezTo>
              </a:path>
              <a:path w="423" h="870">
                <a:moveTo>
                  <a:pt x="7962" y="5407"/>
                </a:moveTo>
                <a:cubicBezTo>
                  <a:pt x="7858" y="5658"/>
                  <a:pt x="7757" y="5920"/>
                  <a:pt x="7665" y="6176"/>
                </a:cubicBezTo>
                <a:cubicBezTo>
                  <a:pt x="7657" y="6209"/>
                  <a:pt x="7648" y="6243"/>
                  <a:pt x="7640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91080" y="1990800"/>
            <a:ext cx="312840" cy="268200"/>
          </a:xfrm>
          <a:custGeom>
            <a:avLst/>
            <a:gdLst/>
            <a:ahLst/>
            <a:rect l="l" t="t" r="r" b="b"/>
            <a:pathLst>
              <a:path w="869" h="746">
                <a:moveTo>
                  <a:pt x="15255" y="5804"/>
                </a:moveTo>
                <a:cubicBezTo>
                  <a:pt x="15300" y="5961"/>
                  <a:pt x="15343" y="6117"/>
                  <a:pt x="15379" y="6276"/>
                </a:cubicBezTo>
                <a:cubicBezTo>
                  <a:pt x="15379" y="6113"/>
                  <a:pt x="15346" y="5818"/>
                  <a:pt x="15453" y="5680"/>
                </a:cubicBezTo>
                <a:cubicBezTo>
                  <a:pt x="15647" y="5430"/>
                  <a:pt x="15923" y="5518"/>
                  <a:pt x="16024" y="5779"/>
                </a:cubicBezTo>
                <a:cubicBezTo>
                  <a:pt x="16078" y="5919"/>
                  <a:pt x="16079" y="6084"/>
                  <a:pt x="16123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7120" y="2776680"/>
            <a:ext cx="214200" cy="215640"/>
          </a:xfrm>
          <a:custGeom>
            <a:avLst/>
            <a:gdLst/>
            <a:ahLst/>
            <a:rect l="l" t="t" r="r" b="b"/>
            <a:pathLst>
              <a:path w="597" h="597">
                <a:moveTo>
                  <a:pt x="10765" y="7714"/>
                </a:moveTo>
                <a:cubicBezTo>
                  <a:pt x="10765" y="7865"/>
                  <a:pt x="10722" y="8015"/>
                  <a:pt x="10765" y="8161"/>
                </a:cubicBezTo>
                <a:cubicBezTo>
                  <a:pt x="10840" y="8417"/>
                  <a:pt x="11183" y="8174"/>
                  <a:pt x="11286" y="8062"/>
                </a:cubicBezTo>
                <a:cubicBezTo>
                  <a:pt x="11328" y="7979"/>
                  <a:pt x="11353" y="7962"/>
                  <a:pt x="11311" y="7913"/>
                </a:cubicBezTo>
                <a:cubicBezTo>
                  <a:pt x="11107" y="7944"/>
                  <a:pt x="11085" y="8060"/>
                  <a:pt x="11038" y="8260"/>
                </a:cubicBezTo>
                <a:cubicBezTo>
                  <a:pt x="11038" y="8277"/>
                  <a:pt x="11038" y="8293"/>
                  <a:pt x="11038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2820960"/>
            <a:ext cx="160200" cy="100080"/>
          </a:xfrm>
          <a:custGeom>
            <a:avLst/>
            <a:gdLst/>
            <a:ahLst/>
            <a:rect l="l" t="t" r="r" b="b"/>
            <a:pathLst>
              <a:path w="447" h="274">
                <a:moveTo>
                  <a:pt x="12502" y="7888"/>
                </a:moveTo>
                <a:cubicBezTo>
                  <a:pt x="12651" y="7874"/>
                  <a:pt x="12799" y="7859"/>
                  <a:pt x="12948" y="7838"/>
                </a:cubicBezTo>
              </a:path>
              <a:path w="447" h="274">
                <a:moveTo>
                  <a:pt x="12576" y="8111"/>
                </a:moveTo>
                <a:cubicBezTo>
                  <a:pt x="12706" y="8105"/>
                  <a:pt x="12821" y="8090"/>
                  <a:pt x="12948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59080" y="3884760"/>
            <a:ext cx="625680" cy="563400"/>
          </a:xfrm>
          <a:custGeom>
            <a:avLst/>
            <a:gdLst/>
            <a:ahLst/>
            <a:rect l="l" t="t" r="r" b="b"/>
            <a:pathLst>
              <a:path w="1737" h="1564">
                <a:moveTo>
                  <a:pt x="9178" y="10790"/>
                </a:moveTo>
                <a:cubicBezTo>
                  <a:pt x="9178" y="11087"/>
                  <a:pt x="9115" y="11364"/>
                  <a:pt x="9079" y="11658"/>
                </a:cubicBezTo>
                <a:cubicBezTo>
                  <a:pt x="9052" y="11875"/>
                  <a:pt x="8983" y="12369"/>
                  <a:pt x="9351" y="12353"/>
                </a:cubicBezTo>
                <a:cubicBezTo>
                  <a:pt x="9646" y="12340"/>
                  <a:pt x="9896" y="12045"/>
                  <a:pt x="9922" y="11807"/>
                </a:cubicBezTo>
                <a:cubicBezTo>
                  <a:pt x="9679" y="11807"/>
                  <a:pt x="9499" y="11924"/>
                  <a:pt x="9451" y="12204"/>
                </a:cubicBezTo>
                <a:cubicBezTo>
                  <a:pt x="9459" y="12245"/>
                  <a:pt x="9467" y="12287"/>
                  <a:pt x="9475" y="12328"/>
                </a:cubicBezTo>
              </a:path>
              <a:path w="1737" h="1564">
                <a:moveTo>
                  <a:pt x="10170" y="11782"/>
                </a:moveTo>
                <a:cubicBezTo>
                  <a:pt x="10202" y="11920"/>
                  <a:pt x="10220" y="11992"/>
                  <a:pt x="10220" y="12129"/>
                </a:cubicBezTo>
                <a:cubicBezTo>
                  <a:pt x="10196" y="11930"/>
                  <a:pt x="10225" y="11749"/>
                  <a:pt x="10418" y="11633"/>
                </a:cubicBezTo>
                <a:cubicBezTo>
                  <a:pt x="10696" y="11466"/>
                  <a:pt x="10765" y="11807"/>
                  <a:pt x="10790" y="12005"/>
                </a:cubicBezTo>
                <a:cubicBezTo>
                  <a:pt x="10790" y="12038"/>
                  <a:pt x="10790" y="12072"/>
                  <a:pt x="10790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98960" y="4000680"/>
            <a:ext cx="169920" cy="125280"/>
          </a:xfrm>
          <a:custGeom>
            <a:avLst/>
            <a:gdLst/>
            <a:ahLst/>
            <a:rect l="l" t="t" r="r" b="b"/>
            <a:pathLst>
              <a:path w="473" h="349">
                <a:moveTo>
                  <a:pt x="11385" y="11162"/>
                </a:moveTo>
                <a:cubicBezTo>
                  <a:pt x="11547" y="11155"/>
                  <a:pt x="11696" y="11136"/>
                  <a:pt x="11857" y="11112"/>
                </a:cubicBezTo>
              </a:path>
              <a:path w="473" h="349">
                <a:moveTo>
                  <a:pt x="11509" y="11460"/>
                </a:moveTo>
                <a:cubicBezTo>
                  <a:pt x="11675" y="11436"/>
                  <a:pt x="11725" y="11429"/>
                  <a:pt x="1183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62640" y="3902040"/>
            <a:ext cx="36360" cy="393840"/>
          </a:xfrm>
          <a:custGeom>
            <a:avLst/>
            <a:gdLst/>
            <a:ahLst/>
            <a:rect l="l" t="t" r="r" b="b"/>
            <a:pathLst>
              <a:path w="100" h="1092">
                <a:moveTo>
                  <a:pt x="12675" y="10840"/>
                </a:moveTo>
                <a:cubicBezTo>
                  <a:pt x="12706" y="11087"/>
                  <a:pt x="12726" y="11335"/>
                  <a:pt x="12750" y="11584"/>
                </a:cubicBezTo>
                <a:cubicBezTo>
                  <a:pt x="12770" y="11774"/>
                  <a:pt x="12778" y="11815"/>
                  <a:pt x="12774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22920" y="3919680"/>
            <a:ext cx="27000" cy="385560"/>
          </a:xfrm>
          <a:custGeom>
            <a:avLst/>
            <a:gdLst/>
            <a:ahLst/>
            <a:rect l="l" t="t" r="r" b="b"/>
            <a:pathLst>
              <a:path w="75" h="1068">
                <a:moveTo>
                  <a:pt x="13395" y="10889"/>
                </a:moveTo>
                <a:cubicBezTo>
                  <a:pt x="13425" y="11197"/>
                  <a:pt x="13464" y="11495"/>
                  <a:pt x="13469" y="11807"/>
                </a:cubicBezTo>
                <a:cubicBezTo>
                  <a:pt x="13469" y="11890"/>
                  <a:pt x="13469" y="11906"/>
                  <a:pt x="13469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7760" y="3625920"/>
            <a:ext cx="2554200" cy="1054080"/>
          </a:xfrm>
          <a:custGeom>
            <a:avLst/>
            <a:gdLst/>
            <a:ahLst/>
            <a:rect l="l" t="t" r="r" b="b"/>
            <a:pathLst>
              <a:path w="7095" h="2928">
                <a:moveTo>
                  <a:pt x="9327" y="12923"/>
                </a:moveTo>
                <a:cubicBezTo>
                  <a:pt x="10028" y="12982"/>
                  <a:pt x="10729" y="12995"/>
                  <a:pt x="11435" y="12998"/>
                </a:cubicBezTo>
                <a:cubicBezTo>
                  <a:pt x="12260" y="13001"/>
                  <a:pt x="13184" y="12984"/>
                  <a:pt x="13940" y="12601"/>
                </a:cubicBezTo>
                <a:cubicBezTo>
                  <a:pt x="14303" y="12417"/>
                  <a:pt x="14618" y="12058"/>
                  <a:pt x="14560" y="11633"/>
                </a:cubicBezTo>
                <a:cubicBezTo>
                  <a:pt x="14505" y="11229"/>
                  <a:pt x="14207" y="10980"/>
                  <a:pt x="13891" y="10765"/>
                </a:cubicBezTo>
                <a:cubicBezTo>
                  <a:pt x="13343" y="10393"/>
                  <a:pt x="12832" y="10247"/>
                  <a:pt x="12179" y="10170"/>
                </a:cubicBezTo>
                <a:cubicBezTo>
                  <a:pt x="11539" y="10094"/>
                  <a:pt x="10888" y="10058"/>
                  <a:pt x="10244" y="10071"/>
                </a:cubicBezTo>
                <a:cubicBezTo>
                  <a:pt x="9569" y="10085"/>
                  <a:pt x="8924" y="10175"/>
                  <a:pt x="8285" y="10393"/>
                </a:cubicBezTo>
                <a:cubicBezTo>
                  <a:pt x="7913" y="10520"/>
                  <a:pt x="7638" y="10695"/>
                  <a:pt x="7516" y="11088"/>
                </a:cubicBezTo>
                <a:cubicBezTo>
                  <a:pt x="7400" y="11461"/>
                  <a:pt x="7425" y="11908"/>
                  <a:pt x="7764" y="12154"/>
                </a:cubicBezTo>
                <a:cubicBezTo>
                  <a:pt x="8205" y="12473"/>
                  <a:pt x="8909" y="12578"/>
                  <a:pt x="9426" y="12700"/>
                </a:cubicBezTo>
                <a:cubicBezTo>
                  <a:pt x="9746" y="12775"/>
                  <a:pt x="10068" y="12817"/>
                  <a:pt x="10393" y="12849"/>
                </a:cubicBezTo>
                <a:cubicBezTo>
                  <a:pt x="10401" y="12849"/>
                  <a:pt x="10410" y="12849"/>
                  <a:pt x="10418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quotient of a number n and four is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1160640"/>
            <a:ext cx="4313520" cy="1260360"/>
          </a:xfrm>
          <a:custGeom>
            <a:avLst/>
            <a:gdLst/>
            <a:ahLst/>
            <a:rect l="l" t="t" r="r" b="b"/>
            <a:pathLst>
              <a:path w="11981" h="3498">
                <a:moveTo>
                  <a:pt x="8781" y="5829"/>
                </a:moveTo>
                <a:cubicBezTo>
                  <a:pt x="8996" y="5809"/>
                  <a:pt x="9207" y="5801"/>
                  <a:pt x="9426" y="5779"/>
                </a:cubicBezTo>
                <a:cubicBezTo>
                  <a:pt x="9451" y="5779"/>
                  <a:pt x="9475" y="5779"/>
                  <a:pt x="9500" y="5779"/>
                </a:cubicBezTo>
              </a:path>
              <a:path w="11981" h="3498">
                <a:moveTo>
                  <a:pt x="8930" y="5333"/>
                </a:moveTo>
                <a:lnTo>
                  <a:pt x="8930" y="5333"/>
                </a:lnTo>
              </a:path>
              <a:path w="11981" h="3498">
                <a:moveTo>
                  <a:pt x="9079" y="6102"/>
                </a:moveTo>
                <a:lnTo>
                  <a:pt x="9079" y="6102"/>
                </a:lnTo>
              </a:path>
              <a:path w="11981" h="3498">
                <a:moveTo>
                  <a:pt x="8781" y="4787"/>
                </a:moveTo>
                <a:cubicBezTo>
                  <a:pt x="8631" y="4879"/>
                  <a:pt x="8497" y="4972"/>
                  <a:pt x="8384" y="5135"/>
                </a:cubicBezTo>
                <a:cubicBezTo>
                  <a:pt x="8192" y="5413"/>
                  <a:pt x="8103" y="5880"/>
                  <a:pt x="8235" y="6201"/>
                </a:cubicBezTo>
                <a:cubicBezTo>
                  <a:pt x="8373" y="6537"/>
                  <a:pt x="8705" y="6746"/>
                  <a:pt x="9054" y="6722"/>
                </a:cubicBezTo>
                <a:cubicBezTo>
                  <a:pt x="9419" y="6697"/>
                  <a:pt x="9812" y="6444"/>
                  <a:pt x="10021" y="6152"/>
                </a:cubicBezTo>
                <a:cubicBezTo>
                  <a:pt x="10256" y="5823"/>
                  <a:pt x="10253" y="5422"/>
                  <a:pt x="9971" y="5135"/>
                </a:cubicBezTo>
                <a:cubicBezTo>
                  <a:pt x="9718" y="4878"/>
                  <a:pt x="9222" y="4791"/>
                  <a:pt x="8880" y="4862"/>
                </a:cubicBezTo>
                <a:cubicBezTo>
                  <a:pt x="8651" y="4909"/>
                  <a:pt x="8462" y="5120"/>
                  <a:pt x="8285" y="5259"/>
                </a:cubicBezTo>
              </a:path>
              <a:path w="11981" h="3498">
                <a:moveTo>
                  <a:pt x="9971" y="5383"/>
                </a:moveTo>
                <a:cubicBezTo>
                  <a:pt x="10024" y="5306"/>
                  <a:pt x="10017" y="5235"/>
                  <a:pt x="10096" y="5159"/>
                </a:cubicBezTo>
                <a:cubicBezTo>
                  <a:pt x="10191" y="5068"/>
                  <a:pt x="10311" y="4985"/>
                  <a:pt x="10418" y="4911"/>
                </a:cubicBezTo>
                <a:cubicBezTo>
                  <a:pt x="10481" y="4867"/>
                  <a:pt x="10552" y="4831"/>
                  <a:pt x="10616" y="4787"/>
                </a:cubicBezTo>
                <a:cubicBezTo>
                  <a:pt x="10786" y="4671"/>
                  <a:pt x="10956" y="4535"/>
                  <a:pt x="11137" y="4440"/>
                </a:cubicBezTo>
                <a:cubicBezTo>
                  <a:pt x="11297" y="4356"/>
                  <a:pt x="11484" y="4287"/>
                  <a:pt x="11658" y="4242"/>
                </a:cubicBezTo>
                <a:cubicBezTo>
                  <a:pt x="11946" y="4167"/>
                  <a:pt x="12240" y="4130"/>
                  <a:pt x="12526" y="4043"/>
                </a:cubicBezTo>
                <a:cubicBezTo>
                  <a:pt x="12816" y="3955"/>
                  <a:pt x="13104" y="3852"/>
                  <a:pt x="13395" y="3770"/>
                </a:cubicBezTo>
                <a:cubicBezTo>
                  <a:pt x="13586" y="3716"/>
                  <a:pt x="13774" y="3670"/>
                  <a:pt x="13965" y="3621"/>
                </a:cubicBezTo>
                <a:cubicBezTo>
                  <a:pt x="14180" y="3566"/>
                  <a:pt x="14394" y="3505"/>
                  <a:pt x="14610" y="3448"/>
                </a:cubicBezTo>
                <a:cubicBezTo>
                  <a:pt x="14800" y="3398"/>
                  <a:pt x="14989" y="3346"/>
                  <a:pt x="15180" y="3299"/>
                </a:cubicBezTo>
                <a:cubicBezTo>
                  <a:pt x="15324" y="3264"/>
                  <a:pt x="15479" y="3233"/>
                  <a:pt x="15627" y="3225"/>
                </a:cubicBezTo>
                <a:cubicBezTo>
                  <a:pt x="15967" y="3207"/>
                  <a:pt x="16310" y="3224"/>
                  <a:pt x="16644" y="3274"/>
                </a:cubicBezTo>
                <a:cubicBezTo>
                  <a:pt x="16928" y="3316"/>
                  <a:pt x="17212" y="3367"/>
                  <a:pt x="17487" y="3448"/>
                </a:cubicBezTo>
                <a:cubicBezTo>
                  <a:pt x="17748" y="3525"/>
                  <a:pt x="17967" y="3648"/>
                  <a:pt x="18207" y="3770"/>
                </a:cubicBezTo>
                <a:cubicBezTo>
                  <a:pt x="18490" y="3913"/>
                  <a:pt x="18731" y="4066"/>
                  <a:pt x="18976" y="4266"/>
                </a:cubicBezTo>
                <a:cubicBezTo>
                  <a:pt x="19099" y="4367"/>
                  <a:pt x="19187" y="4475"/>
                  <a:pt x="19298" y="4589"/>
                </a:cubicBezTo>
                <a:cubicBezTo>
                  <a:pt x="19461" y="4757"/>
                  <a:pt x="19636" y="4918"/>
                  <a:pt x="19769" y="5110"/>
                </a:cubicBezTo>
                <a:cubicBezTo>
                  <a:pt x="19921" y="5328"/>
                  <a:pt x="20019" y="5569"/>
                  <a:pt x="20117" y="5804"/>
                </a:cubicBezTo>
                <a:cubicBezTo>
                  <a:pt x="20136" y="5850"/>
                  <a:pt x="20148" y="5882"/>
                  <a:pt x="20166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1880" y="1963800"/>
            <a:ext cx="241200" cy="287280"/>
          </a:xfrm>
          <a:custGeom>
            <a:avLst/>
            <a:gdLst/>
            <a:ahLst/>
            <a:rect l="l" t="t" r="r" b="b"/>
            <a:pathLst>
              <a:path w="671" h="795">
                <a:moveTo>
                  <a:pt x="18281" y="5556"/>
                </a:moveTo>
                <a:cubicBezTo>
                  <a:pt x="18281" y="5732"/>
                  <a:pt x="18320" y="5903"/>
                  <a:pt x="18331" y="6077"/>
                </a:cubicBezTo>
                <a:cubicBezTo>
                  <a:pt x="18334" y="6120"/>
                  <a:pt x="18376" y="6363"/>
                  <a:pt x="18331" y="6176"/>
                </a:cubicBezTo>
                <a:cubicBezTo>
                  <a:pt x="18304" y="5983"/>
                  <a:pt x="18283" y="5770"/>
                  <a:pt x="18355" y="5581"/>
                </a:cubicBezTo>
                <a:cubicBezTo>
                  <a:pt x="18406" y="5448"/>
                  <a:pt x="18586" y="5413"/>
                  <a:pt x="18703" y="5482"/>
                </a:cubicBezTo>
                <a:cubicBezTo>
                  <a:pt x="18865" y="5577"/>
                  <a:pt x="18924" y="5809"/>
                  <a:pt x="18951" y="5978"/>
                </a:cubicBezTo>
                <a:cubicBezTo>
                  <a:pt x="18957" y="6017"/>
                  <a:pt x="18951" y="6062"/>
                  <a:pt x="18951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54920" y="1982880"/>
            <a:ext cx="268200" cy="17928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19596" y="5755"/>
                </a:moveTo>
                <a:cubicBezTo>
                  <a:pt x="19737" y="5797"/>
                  <a:pt x="19880" y="5903"/>
                  <a:pt x="20017" y="5978"/>
                </a:cubicBezTo>
                <a:cubicBezTo>
                  <a:pt x="20157" y="6055"/>
                  <a:pt x="20161" y="5930"/>
                  <a:pt x="20216" y="5804"/>
                </a:cubicBezTo>
                <a:cubicBezTo>
                  <a:pt x="20260" y="5703"/>
                  <a:pt x="20317" y="5607"/>
                  <a:pt x="20340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84800" y="2786040"/>
            <a:ext cx="169560" cy="258840"/>
          </a:xfrm>
          <a:custGeom>
            <a:avLst/>
            <a:gdLst/>
            <a:ahLst/>
            <a:rect l="l" t="t" r="r" b="b"/>
            <a:pathLst>
              <a:path w="472" h="720">
                <a:moveTo>
                  <a:pt x="12204" y="7913"/>
                </a:moveTo>
                <a:cubicBezTo>
                  <a:pt x="12194" y="8022"/>
                  <a:pt x="12179" y="8125"/>
                  <a:pt x="12179" y="8235"/>
                </a:cubicBezTo>
                <a:cubicBezTo>
                  <a:pt x="12336" y="8204"/>
                  <a:pt x="12495" y="8157"/>
                  <a:pt x="12650" y="8111"/>
                </a:cubicBezTo>
              </a:path>
              <a:path w="472" h="720">
                <a:moveTo>
                  <a:pt x="12502" y="7739"/>
                </a:moveTo>
                <a:cubicBezTo>
                  <a:pt x="12556" y="7934"/>
                  <a:pt x="12581" y="8154"/>
                  <a:pt x="12601" y="8359"/>
                </a:cubicBezTo>
                <a:cubicBezTo>
                  <a:pt x="12601" y="8417"/>
                  <a:pt x="12601" y="8425"/>
                  <a:pt x="12601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2880" y="4089240"/>
            <a:ext cx="722160" cy="322560"/>
          </a:xfrm>
          <a:custGeom>
            <a:avLst/>
            <a:gdLst/>
            <a:ahLst/>
            <a:rect l="l" t="t" r="r" b="b"/>
            <a:pathLst>
              <a:path w="2010" h="894">
                <a:moveTo>
                  <a:pt x="8756" y="11683"/>
                </a:moveTo>
                <a:cubicBezTo>
                  <a:pt x="8770" y="11850"/>
                  <a:pt x="8794" y="12012"/>
                  <a:pt x="8806" y="12179"/>
                </a:cubicBezTo>
                <a:cubicBezTo>
                  <a:pt x="8864" y="12360"/>
                  <a:pt x="8744" y="11920"/>
                  <a:pt x="8756" y="11832"/>
                </a:cubicBezTo>
                <a:cubicBezTo>
                  <a:pt x="8775" y="11697"/>
                  <a:pt x="8904" y="11446"/>
                  <a:pt x="9079" y="11509"/>
                </a:cubicBezTo>
                <a:cubicBezTo>
                  <a:pt x="9332" y="11599"/>
                  <a:pt x="9387" y="11880"/>
                  <a:pt x="9401" y="12105"/>
                </a:cubicBezTo>
                <a:cubicBezTo>
                  <a:pt x="9401" y="12138"/>
                  <a:pt x="9401" y="12171"/>
                  <a:pt x="9401" y="12204"/>
                </a:cubicBezTo>
              </a:path>
              <a:path w="2010" h="894">
                <a:moveTo>
                  <a:pt x="9947" y="11881"/>
                </a:moveTo>
                <a:cubicBezTo>
                  <a:pt x="10152" y="11792"/>
                  <a:pt x="10387" y="11785"/>
                  <a:pt x="10616" y="11807"/>
                </a:cubicBezTo>
                <a:cubicBezTo>
                  <a:pt x="10699" y="11828"/>
                  <a:pt x="10714" y="11836"/>
                  <a:pt x="10765" y="11832"/>
                </a:cubicBezTo>
              </a:path>
              <a:path w="2010" h="894">
                <a:moveTo>
                  <a:pt x="10195" y="11361"/>
                </a:moveTo>
                <a:lnTo>
                  <a:pt x="10195" y="11361"/>
                </a:lnTo>
              </a:path>
              <a:path w="2010" h="894">
                <a:moveTo>
                  <a:pt x="10418" y="12229"/>
                </a:moveTo>
                <a:cubicBezTo>
                  <a:pt x="10388" y="12199"/>
                  <a:pt x="10377" y="12197"/>
                  <a:pt x="10368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2960" y="4010040"/>
            <a:ext cx="187200" cy="357120"/>
          </a:xfrm>
          <a:custGeom>
            <a:avLst/>
            <a:gdLst/>
            <a:ahLst/>
            <a:rect l="l" t="t" r="r" b="b"/>
            <a:pathLst>
              <a:path w="522" h="993">
                <a:moveTo>
                  <a:pt x="11534" y="11485"/>
                </a:moveTo>
                <a:cubicBezTo>
                  <a:pt x="11573" y="11621"/>
                  <a:pt x="11584" y="11714"/>
                  <a:pt x="11584" y="11857"/>
                </a:cubicBezTo>
                <a:cubicBezTo>
                  <a:pt x="11732" y="11804"/>
                  <a:pt x="11880" y="11755"/>
                  <a:pt x="12030" y="11708"/>
                </a:cubicBezTo>
              </a:path>
              <a:path w="522" h="993">
                <a:moveTo>
                  <a:pt x="11956" y="11137"/>
                </a:moveTo>
                <a:cubicBezTo>
                  <a:pt x="11978" y="11396"/>
                  <a:pt x="12038" y="11647"/>
                  <a:pt x="12055" y="11906"/>
                </a:cubicBezTo>
                <a:cubicBezTo>
                  <a:pt x="12055" y="12038"/>
                  <a:pt x="12055" y="12055"/>
                  <a:pt x="12055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62640" y="3990960"/>
            <a:ext cx="661680" cy="420840"/>
          </a:xfrm>
          <a:custGeom>
            <a:avLst/>
            <a:gdLst/>
            <a:ahLst/>
            <a:rect l="l" t="t" r="r" b="b"/>
            <a:pathLst>
              <a:path w="1837" h="1167">
                <a:moveTo>
                  <a:pt x="12675" y="11559"/>
                </a:moveTo>
                <a:cubicBezTo>
                  <a:pt x="12835" y="11559"/>
                  <a:pt x="12991" y="11565"/>
                  <a:pt x="13146" y="11534"/>
                </a:cubicBezTo>
              </a:path>
              <a:path w="1837" h="1167">
                <a:moveTo>
                  <a:pt x="12774" y="11782"/>
                </a:moveTo>
                <a:cubicBezTo>
                  <a:pt x="12923" y="11827"/>
                  <a:pt x="13043" y="11778"/>
                  <a:pt x="13196" y="11757"/>
                </a:cubicBezTo>
              </a:path>
              <a:path w="1837" h="1167">
                <a:moveTo>
                  <a:pt x="13643" y="11336"/>
                </a:moveTo>
                <a:cubicBezTo>
                  <a:pt x="13741" y="11211"/>
                  <a:pt x="13940" y="11081"/>
                  <a:pt x="14114" y="11088"/>
                </a:cubicBezTo>
                <a:cubicBezTo>
                  <a:pt x="14147" y="11104"/>
                  <a:pt x="14180" y="11121"/>
                  <a:pt x="14213" y="11137"/>
                </a:cubicBezTo>
                <a:cubicBezTo>
                  <a:pt x="14290" y="11398"/>
                  <a:pt x="14132" y="11562"/>
                  <a:pt x="13940" y="11757"/>
                </a:cubicBezTo>
                <a:cubicBezTo>
                  <a:pt x="13772" y="11928"/>
                  <a:pt x="13674" y="12018"/>
                  <a:pt x="13568" y="12229"/>
                </a:cubicBezTo>
                <a:cubicBezTo>
                  <a:pt x="13536" y="12261"/>
                  <a:pt x="13765" y="12060"/>
                  <a:pt x="13841" y="12030"/>
                </a:cubicBezTo>
                <a:cubicBezTo>
                  <a:pt x="14065" y="11940"/>
                  <a:pt x="14058" y="12015"/>
                  <a:pt x="14213" y="12055"/>
                </a:cubicBezTo>
                <a:cubicBezTo>
                  <a:pt x="14311" y="12081"/>
                  <a:pt x="14414" y="12067"/>
                  <a:pt x="14511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6240" y="2803680"/>
            <a:ext cx="125640" cy="90360"/>
          </a:xfrm>
          <a:custGeom>
            <a:avLst/>
            <a:gdLst/>
            <a:ahLst/>
            <a:rect l="l" t="t" r="r" b="b"/>
            <a:pathLst>
              <a:path w="349" h="249">
                <a:moveTo>
                  <a:pt x="14684" y="7863"/>
                </a:moveTo>
                <a:cubicBezTo>
                  <a:pt x="14798" y="7829"/>
                  <a:pt x="14892" y="7813"/>
                  <a:pt x="15007" y="7789"/>
                </a:cubicBezTo>
              </a:path>
              <a:path w="349" h="249">
                <a:moveTo>
                  <a:pt x="14784" y="8037"/>
                </a:moveTo>
                <a:cubicBezTo>
                  <a:pt x="14876" y="8037"/>
                  <a:pt x="14947" y="8038"/>
                  <a:pt x="15032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1:13:00Z</dcterms:created>
  <dc:creator>Brian McGrath</dc:creator>
  <dc:description/>
  <dc:language>en-US</dc:language>
  <cp:lastModifiedBy>deanne elizabeth mcgrath</cp:lastModifiedBy>
  <dcterms:modified xsi:type="dcterms:W3CDTF">2010-09-17T17:57:33Z</dcterms:modified>
  <cp:revision>4</cp:revision>
  <dc:subject/>
  <dc:title>The quotient 20 and a number x.</dc:title>
</cp:coreProperties>
</file>